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D888-E035-4795-8EAE-A9C0C46798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© Бараусова Елена Александ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ы менеджм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© Бараусова Елена Александ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управления - это совокупность (система) управленческих приемов, способствующих обеспечению высокой эффективности деятельности орган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 управления - это совокупность (система) управленческих приемов, способствующих обеспечению высокой эффективности деятельности организац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-распоряди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дминистратив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онно-распорядите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административные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-психолог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изирующ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рядите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ение о подразде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норма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е норма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рядительные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стные инстр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указ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е инстр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р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билизирующ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действ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орядитель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действ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р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действ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ые 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ламент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кт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а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ение о подразделен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овые нормати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хнические нормати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орядительные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ати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жностные инстру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ические указ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чие инстру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ка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оря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ано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аз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ановление ответствен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ч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ллективная 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териа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ральная 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сс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агра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ощ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ременно-преми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о-сд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ьно-прогресс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орд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ьно-преми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ое обслуж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жил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пода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ьг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работ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миссио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награжд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полнитель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ощр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е 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времен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де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ст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временно-премиа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свенно-сде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дельно-прогрессив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корд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дельно-премиа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уч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ое обслужи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утев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лата жиль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нные подар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ие в прибы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ие в собствен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полните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ьг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ое стиму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опы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ревн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ый кодек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ческие струк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м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тные з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при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в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положите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о-психологического 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психолог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гру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малых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манизация процесса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от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сихолог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-психологические мет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ральное стимул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мен опыт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ревн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ральный кодек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ческие струк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м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четные з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убличное призн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годар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хв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положительн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рально-психологического клима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ы психологическ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груз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малых груп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уманизация процесса тру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ключе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нотон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шире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ворче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 - это свод определенных правил, нормативных актов, которые регулируют поведение работника в процессе управления производством и людьми в конкретных экономических и социальных услов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управления - это свод определенных правил, нормативных актов, которые регулируют поведение работника в процессе управления производством и людьми в конкретных экономических и социальных условия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ный подход к управ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это процесс, серия непрерывных взаимосвязанных действий, каждое из которых – тоже процес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действия называют управленческими функ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ный подход к управлен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ие – это процесс, серия непрерывных взаимосвязанных действий, каждое из которых – тоже процесс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 действия называют управленческими функция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УНКЦ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ующие процес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ФУНКЦИИ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тив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язующие процесс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ммуникац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ятие ре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– это некоторая целостность, состоящая из взаимозависимых частей, каждая из которых вносит свой вклад в характеристики цел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а – это некоторая целостность, состоящая из взаимозависимых частей, каждая из которых вносит свой вклад в характеристики целог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раусова Елена Александровна, к.э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цент кафедры экономики 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дитория: 15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фон: (4232) 40 41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-mail:    elena.barausova@vvsu.ru,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barausova_elena@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ний семестр: 16 недель. Лекций – 48 часов,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семинаров – 32 ча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овая работа, экза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араусова Елена Александровна, к.э.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цент кафедры экономики и менеджм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удитория: 153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лефон: (4232) 40 41 3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E-mail:    elena.barausova@vvsu.ru,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barausova_elena@mail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енний семестр: 16 недель. Лекций – 48 часов,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семинаров – 32 часа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рсовая работа, экзам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подход к управ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висит о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ция /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овлетвор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ный подход к управлен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ботка 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ход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зависит от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ффектив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ия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орм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териал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овые ресурс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Х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Х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дукция / услуг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бы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довлетвор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ни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тная связ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- это конкретный набор внутренних и внешних факторов, которые сильно влияют на организацию в данное конкретн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туация - это конкретный набор внутренних и внешних факторов, которые сильно влияют на организацию в данное конкретное врем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ситуационного под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должен быть знаком со средствами профессиональ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должен уметь предвидеть вероятные последствия применения данной метод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должен уметь правильно интерпретировать ситу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должен уметь увязывать конкретные приемы с конкретными ситуа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ология ситуационного подх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ь должен быть знаком со средствами профессионального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ь должен уметь предвидеть вероятные последствия применения данной метод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ь должен уметь правильно интерпретировать ситуац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ь должен уметь увязывать конкретные приемы с конкретными ситуация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– это группа людей, деятельность которых сознательно координируется для достижения общих ц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я – это группа людей, деятельность которых сознательно координируется для достижения общих цел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ЛАССИФИКАЦИЯ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е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КЛАССИФИКАЦИЯ ОРГАНИЗ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Форм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Неформ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формам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ницип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формам собственност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ст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уницип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тношению к прибы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ммер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отношению к прибыли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ммер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коммер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азмер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п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размерам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уп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ХАРАКТЕРИСТИКИ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 (люди, капитал, материалы, технология, информ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от внешн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тру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изонтальное – разделение работы на составные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тикальное – деятельность по координированию работы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ИЕ ХАРАКТЕРИСТИКИ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сурсы (люди, капитал, материалы, технология, информация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от внешней сре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деление труд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изонтальное – разделение работы на составные ча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ртикальное – деятельность по координированию работы других люд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бходимость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– это образец действий, ожидаемых от индивида при выполнении деятельности, имеющей отношение к другим люд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ЛЬ – это образец действий, ожидаемых от индивида при выполнении деятельности, имеющей отношение к другим людя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ханский О.С., Наумов А.И. Менеджмент: Учебник. М.: Гардарика, 20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ханский О.С., Наумов А.И. Практикум по курсу «Менеджмент». М.: Гардарика, 199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фт Р.Л. Менеджмент. СПб.: Питер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ая литерату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ханский О.С., Наумов А.И. Менеджмент: Учебник. М.: Гардарика, 200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ханский О.С., Наумов А.И. Практикум по курсу «Менеджмент». М.: Гардарика, 1998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афт Р.Л. Менеджмент. СПб.: Питер, 200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ЛИЧНОСТНЫЕ Р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– церемониалы, встреча гостей, подписание юридических док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 – руководство и мотивация подчиненных, обучение, коммуникации с работн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УЮЩЕЕ ЗВЕНО – переписка, участие в совещаниях на стороне, поддержание информационных связей внутри и за пределами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ЛИЧНОСТНЫЕ Р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– церемониалы, встреча гостей, подписание юридических докумен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ДЕР – руководство и мотивация подчиненных, обучение, коммуникации с работник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ЯЗУЮЩЕЕ ЗВЕНО – переписка, участие в совещаниях на стороне, поддержание информационных связей внутри и за пределами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Р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НИК ИНФОРМАЦИИ (НАБЛЮДАТЕЛЬ) – обработка всей почты, ознакомительные поездки, личные конт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ИТЕЛЬ ИНФОРМАЦИИ (ПРОВОДНИК) – рассылка почты по организациям, вербальные контакты для передачи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 (ОРАТОР) – участие в заседаниях, обращение через средства массовой информации, речи, отчеты, зап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ОРМАЦИОННЫЕ РО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ЕМНИК ИНФОРМАЦИИ (НАБЛЮДАТЕЛЬ) – обработка всей почты, ознакомительные поездки, личные контак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РОСТРАНИТЕЛЬ ИНФОРМАЦИИ (ПРОВОДНИК) – рассылка почты по организациям, вербальные контакты для передачи информ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СТАВИТЕЛЬ (ОРАТОР) – участие в заседаниях, обращение через средства массовой информации, речи, отчеты, запис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И, СВЯЗАННЫЕ С ПРИНЯТИЕМ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 – инициация новых проектов, поиск новых идей, завоевание сторон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АНЯЮЩИЙ НАРУШЕНИЯ (ПОЖАРНЫЙ) – урегулирование споров, разрешение конфликтов, адаптация к кризисам во внешней сре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ИТЕЛЬ РЕСУРСОВ – составление бюджетов, составление графиков работы, расстановка приорит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Й ПЕРЕГОВОРЫ (ПОСРЕДНИК) – ведение переговоров, представление интересов своей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ЛИ, СВЯЗАННЫЕ С ПРИНЯТИЕМ РЕ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 – инициация новых проектов, поиск новых идей, завоевание сторонни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АНЯЮЩИЙ НАРУШЕНИЯ (ПОЖАРНЫЙ) – урегулирование споров, разрешение конфликтов, адаптация к кризисам во внешней сред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РЕДЕЛИТЕЛЬ РЕСУРСОВ – составление бюджетов, составление графиков работы, расстановка приорите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ДУЩИЙ ПЕРЕГОВОРЫ (ПОСРЕДНИК) – ведение переговоров, представление интересов своей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ционал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уциональ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хни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ту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уководя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ерсона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цепту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вы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лове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вы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хническ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вы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сш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изш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руководящ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н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персонал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ая литерат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дди Д., Пэйтон Р. Основы менеджмента. СПб.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кон М., Альберт М., Хедоури Ф. Основы менеджмента. М.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лмер Р. Энциклопедия современного управления. В 5-ти т. М., 19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неджмента: Учебное пособие / Под ред. Д.В. Валового. М.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полнительная литератур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дди Д., Пэйтон Р. Основы менеджмента. СПб., 199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скон М., Альберт М., Хедоури Ф. Основы менеджмента. М., 199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лмер Р. Энциклопедия современного управления. В 5-ти т. М., 199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менеджмента: Учебное пособие / Под ред. Д.В. Валового. М., 199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 В МЕНЕДЖМЕН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 1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ВЕДЕНИЕ В МЕНЕДЖМЕНТ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как объект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роли руковод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управления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 ле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характеристика  менеджм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я как объект 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и роли руководител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управления в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эффективное и производительное достижение целей организации посредством планирования, организации, руководства и контроля над организационными ресурс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–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 эффективное и производительное достижение целей организации посредством планирования, организации, руководства и контроля над организационными ресурс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о поставленной цели и планирование деятельности по ее достижен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времени и действий, необходимых для решения задач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ация (побуждение) к действ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отдельных, но взаимосвязанных 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контроля над тем, что сделано, с целью проверки соответствия  результатов намеченным пла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ементы управле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шение о поставленной цели и планирование деятельности по ее достижению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ределение времени и действий, необходимых для решения задач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тивация (побуждение) к действиям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ординация отдельных, но взаимосвязанных действий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уществление контроля над тем, что сделано, с целью проверки соответствия  результатов намеченным плана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изучения науки управления являются отношения между людьми, возникающие по поводу согласования в пространстве и времени производственных ресурсов для достижения поставленной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метом изучения науки управления являются отношения между людьми, возникающие по поводу согласования в пространстве и времени производственных ресурсов для достижения поставленной ц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F135-0E78-40D3-B1B4-37CA88DB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BA9E-1E97-47FD-931E-5B4D5322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9BD4-2D85-4F00-89F5-BF6EEB9E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9879-B74C-4E50-B772-419AD366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180C-6270-4715-9875-0B2419B3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71E4-5C01-4158-9BDD-8E9CB6EC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4C2F-BFDC-4985-A5AD-387A8508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33A1-AF32-4A1E-8811-FA370283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E0AE-32AE-47EE-A1E5-B66586A9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A96E-356C-414E-B738-DA928D13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36D1-584F-4A00-B456-52DEECF6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428-E0E7-4348-A8AE-A515BEDA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0BBD-248D-47BD-ADBF-4226C0FBDF7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89308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Основы менеджмент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00200" y="54864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©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Бараусова Елена Александ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PE01616_"/>
          <p:cNvPicPr/>
          <p:nvPr/>
        </p:nvPicPr>
        <p:blipFill>
          <a:blip r:embed="rId1"/>
          <a:stretch/>
        </p:blipFill>
        <p:spPr>
          <a:xfrm>
            <a:off x="2743200" y="1905120"/>
            <a:ext cx="3697200" cy="3468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Рис.3.2."/>
          <p:cNvPicPr/>
          <p:nvPr/>
        </p:nvPicPr>
        <p:blipFill>
          <a:blip r:embed="rId1"/>
          <a:stretch/>
        </p:blipFill>
        <p:spPr>
          <a:xfrm>
            <a:off x="324000" y="404640"/>
            <a:ext cx="8351640" cy="60944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 Black"/>
              </a:rPr>
              <a:t>Метод управления</a:t>
            </a: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- это совокупность (система) управленческих приемов, способствующих обеспечению высокой эффективности деятельности организации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619280" y="981000"/>
            <a:ext cx="5689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МЕТОДЫ У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2340000" y="1916280"/>
            <a:ext cx="71280" cy="403380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2340000" y="2924280"/>
            <a:ext cx="1224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564000" y="2349360"/>
            <a:ext cx="5256000" cy="1152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e701"/>
                </a:solidFill>
                <a:latin typeface="Arial Black"/>
              </a:rPr>
              <a:t>Организационно-распорядитель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(административны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3564000" y="3933720"/>
            <a:ext cx="5256000" cy="1152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Эконом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3635280" y="5445000"/>
            <a:ext cx="5184720" cy="1152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Социально-психолог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0"/>
          <p:cNvSpPr/>
          <p:nvPr/>
        </p:nvSpPr>
        <p:spPr>
          <a:xfrm>
            <a:off x="2411280" y="4508640"/>
            <a:ext cx="115272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>
            <a:off x="2411280" y="5950080"/>
            <a:ext cx="1224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7"/>
          <p:cNvSpPr/>
          <p:nvPr/>
        </p:nvSpPr>
        <p:spPr>
          <a:xfrm>
            <a:off x="826920" y="907920"/>
            <a:ext cx="2160720" cy="649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Стабилизиру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возде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8"/>
          <p:cNvSpPr/>
          <p:nvPr/>
        </p:nvSpPr>
        <p:spPr>
          <a:xfrm>
            <a:off x="826920" y="3213000"/>
            <a:ext cx="2305080" cy="865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Распорядитель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возде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29"/>
          <p:cNvSpPr/>
          <p:nvPr/>
        </p:nvSpPr>
        <p:spPr>
          <a:xfrm>
            <a:off x="900000" y="5300640"/>
            <a:ext cx="2159280" cy="792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Дисциплинар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возде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61"/>
          <p:cNvSpPr/>
          <p:nvPr/>
        </p:nvSpPr>
        <p:spPr>
          <a:xfrm rot="16200000">
            <a:off x="-1711080" y="3159360"/>
            <a:ext cx="4175280" cy="250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дминистративные 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63"/>
          <p:cNvSpPr/>
          <p:nvPr/>
        </p:nvSpPr>
        <p:spPr>
          <a:xfrm>
            <a:off x="3432960" y="26820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 Black"/>
              </a:rPr>
              <a:t>регламент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64"/>
          <p:cNvSpPr/>
          <p:nvPr/>
        </p:nvSpPr>
        <p:spPr>
          <a:xfrm>
            <a:off x="3448440" y="98100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 Black"/>
              </a:rPr>
              <a:t>норм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65"/>
          <p:cNvSpPr/>
          <p:nvPr/>
        </p:nvSpPr>
        <p:spPr>
          <a:xfrm>
            <a:off x="3290760" y="1833480"/>
            <a:ext cx="25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инструкт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6"/>
          <p:cNvSpPr/>
          <p:nvPr/>
        </p:nvSpPr>
        <p:spPr>
          <a:xfrm>
            <a:off x="6551640" y="0"/>
            <a:ext cx="2592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Уст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Положение о подраздел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67"/>
          <p:cNvSpPr/>
          <p:nvPr/>
        </p:nvSpPr>
        <p:spPr>
          <a:xfrm>
            <a:off x="5589720" y="1052640"/>
            <a:ext cx="3554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Трудовые норм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Технические норм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Распорядительные   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норм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68"/>
          <p:cNvSpPr/>
          <p:nvPr/>
        </p:nvSpPr>
        <p:spPr>
          <a:xfrm>
            <a:off x="6084720" y="2492280"/>
            <a:ext cx="3059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Должностные инстру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Методические указ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Рабочие инстру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70"/>
          <p:cNvSpPr/>
          <p:nvPr/>
        </p:nvSpPr>
        <p:spPr>
          <a:xfrm>
            <a:off x="3132000" y="47628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71"/>
          <p:cNvSpPr/>
          <p:nvPr/>
        </p:nvSpPr>
        <p:spPr>
          <a:xfrm>
            <a:off x="3132000" y="20606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72"/>
          <p:cNvSpPr/>
          <p:nvPr/>
        </p:nvSpPr>
        <p:spPr>
          <a:xfrm>
            <a:off x="3132000" y="112536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73"/>
          <p:cNvSpPr/>
          <p:nvPr/>
        </p:nvSpPr>
        <p:spPr>
          <a:xfrm>
            <a:off x="3132000" y="47628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74"/>
          <p:cNvSpPr/>
          <p:nvPr/>
        </p:nvSpPr>
        <p:spPr>
          <a:xfrm>
            <a:off x="2987640" y="112536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75"/>
          <p:cNvSpPr/>
          <p:nvPr/>
        </p:nvSpPr>
        <p:spPr>
          <a:xfrm>
            <a:off x="3132000" y="371628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76"/>
          <p:cNvSpPr/>
          <p:nvPr/>
        </p:nvSpPr>
        <p:spPr>
          <a:xfrm>
            <a:off x="3924360" y="32130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к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поряж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ано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аз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7"/>
          <p:cNvSpPr/>
          <p:nvPr/>
        </p:nvSpPr>
        <p:spPr>
          <a:xfrm>
            <a:off x="5364000" y="1197000"/>
            <a:ext cx="503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78"/>
          <p:cNvSpPr/>
          <p:nvPr/>
        </p:nvSpPr>
        <p:spPr>
          <a:xfrm>
            <a:off x="5435640" y="2205000"/>
            <a:ext cx="57636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79"/>
          <p:cNvSpPr/>
          <p:nvPr/>
        </p:nvSpPr>
        <p:spPr>
          <a:xfrm flipV="1">
            <a:off x="6156360" y="333000"/>
            <a:ext cx="35892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80"/>
          <p:cNvSpPr/>
          <p:nvPr/>
        </p:nvSpPr>
        <p:spPr>
          <a:xfrm>
            <a:off x="3059280" y="573408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81"/>
          <p:cNvSpPr/>
          <p:nvPr/>
        </p:nvSpPr>
        <p:spPr>
          <a:xfrm>
            <a:off x="3851280" y="537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Установление ответстве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82"/>
          <p:cNvSpPr/>
          <p:nvPr/>
        </p:nvSpPr>
        <p:spPr>
          <a:xfrm>
            <a:off x="6443640" y="4005360"/>
            <a:ext cx="226872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Лич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Коллективная 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Матери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Моральная 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83"/>
          <p:cNvSpPr/>
          <p:nvPr/>
        </p:nvSpPr>
        <p:spPr>
          <a:xfrm>
            <a:off x="5796000" y="573408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84"/>
          <p:cNvSpPr/>
          <p:nvPr/>
        </p:nvSpPr>
        <p:spPr>
          <a:xfrm flipV="1">
            <a:off x="5508720" y="4365360"/>
            <a:ext cx="79200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85"/>
          <p:cNvSpPr/>
          <p:nvPr/>
        </p:nvSpPr>
        <p:spPr>
          <a:xfrm>
            <a:off x="5724360" y="5950080"/>
            <a:ext cx="648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6"/>
          <p:cNvSpPr/>
          <p:nvPr/>
        </p:nvSpPr>
        <p:spPr>
          <a:xfrm flipV="1">
            <a:off x="5651640" y="5084640"/>
            <a:ext cx="6490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87"/>
          <p:cNvSpPr/>
          <p:nvPr/>
        </p:nvSpPr>
        <p:spPr>
          <a:xfrm flipV="1">
            <a:off x="539640" y="1341000"/>
            <a:ext cx="21600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88"/>
          <p:cNvSpPr/>
          <p:nvPr/>
        </p:nvSpPr>
        <p:spPr>
          <a:xfrm>
            <a:off x="539640" y="371628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9"/>
          <p:cNvSpPr/>
          <p:nvPr/>
        </p:nvSpPr>
        <p:spPr>
          <a:xfrm>
            <a:off x="539640" y="4869000"/>
            <a:ext cx="28728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826920" y="907920"/>
            <a:ext cx="2160720" cy="649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Заработ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пл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826920" y="2492280"/>
            <a:ext cx="2305080" cy="865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Комиссион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вознагра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900000" y="5300640"/>
            <a:ext cx="2159280" cy="792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Дополнитель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поощ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 rot="16200000">
            <a:off x="-1711080" y="3159360"/>
            <a:ext cx="4175280" cy="250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кономические 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737520" y="333360"/>
            <a:ext cx="17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 Black"/>
              </a:rPr>
              <a:t>Поврем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635280" y="1773360"/>
            <a:ext cx="14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00"/>
                </a:solidFill>
                <a:latin typeface="Arial"/>
              </a:rPr>
              <a:t>Сд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227640" y="0"/>
            <a:ext cx="21970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Прост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Повременно-преми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589720" y="1052640"/>
            <a:ext cx="35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5364000" y="1125360"/>
            <a:ext cx="305928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Прям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Косвенно-сд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Сдельно-прогресс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Аккорд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Сдельно-преми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3276720" y="549360"/>
            <a:ext cx="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7"/>
          <p:cNvSpPr/>
          <p:nvPr/>
        </p:nvSpPr>
        <p:spPr>
          <a:xfrm flipV="1">
            <a:off x="3203640" y="3860280"/>
            <a:ext cx="93672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4211640" y="3213000"/>
            <a:ext cx="201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Пит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Обу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Медицинское обслужи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Путев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Оплата жил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4932360" y="2060640"/>
            <a:ext cx="50328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 flipV="1">
            <a:off x="5508720" y="404280"/>
            <a:ext cx="72072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3059280" y="5734080"/>
            <a:ext cx="30254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6300720" y="5025960"/>
            <a:ext cx="22687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Ценные подар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Участие в прибы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Участие в собстве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9"/>
          <p:cNvSpPr/>
          <p:nvPr/>
        </p:nvSpPr>
        <p:spPr>
          <a:xfrm flipV="1">
            <a:off x="539640" y="1341000"/>
            <a:ext cx="21600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539640" y="292428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1"/>
          <p:cNvSpPr/>
          <p:nvPr/>
        </p:nvSpPr>
        <p:spPr>
          <a:xfrm>
            <a:off x="539640" y="4869000"/>
            <a:ext cx="28728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32"/>
          <p:cNvSpPr/>
          <p:nvPr/>
        </p:nvSpPr>
        <p:spPr>
          <a:xfrm>
            <a:off x="900000" y="3933720"/>
            <a:ext cx="2305080" cy="865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Дополните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льг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34"/>
          <p:cNvSpPr/>
          <p:nvPr/>
        </p:nvSpPr>
        <p:spPr>
          <a:xfrm>
            <a:off x="3276720" y="549360"/>
            <a:ext cx="358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35"/>
          <p:cNvSpPr/>
          <p:nvPr/>
        </p:nvSpPr>
        <p:spPr>
          <a:xfrm>
            <a:off x="3276720" y="1989000"/>
            <a:ext cx="358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36"/>
          <p:cNvSpPr/>
          <p:nvPr/>
        </p:nvSpPr>
        <p:spPr>
          <a:xfrm>
            <a:off x="2987640" y="119700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826920" y="1341360"/>
            <a:ext cx="2160720" cy="649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Соци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900000" y="4365720"/>
            <a:ext cx="2159280" cy="79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Психолог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701"/>
                </a:solidFill>
                <a:latin typeface="Arial"/>
              </a:rPr>
              <a:t>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 rot="16200000">
            <a:off x="-2664360" y="3320280"/>
            <a:ext cx="6120000" cy="288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циально-психологические 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539520" y="260280"/>
            <a:ext cx="190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 Black"/>
              </a:rPr>
              <a:t>Социа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 Black"/>
              </a:rPr>
              <a:t>регул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3592800" y="981000"/>
            <a:ext cx="18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 Black"/>
              </a:rPr>
              <a:t>Социа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 Black"/>
              </a:rPr>
              <a:t>норм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419640" y="1989000"/>
            <a:ext cx="25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Моральное стимул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551640" y="0"/>
            <a:ext cx="2592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Обмен опы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Соревн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Воспит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6058080" y="1413000"/>
            <a:ext cx="30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Моральный кодек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ff"/>
                </a:solidFill>
                <a:latin typeface="Arial"/>
              </a:rPr>
              <a:t>Этические структ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6300720" y="2205000"/>
            <a:ext cx="3059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Грам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Почетные з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Публичное призн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Благодар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"/>
              </a:rPr>
              <a:t>Похв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>
            <a:off x="3203640" y="62064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3203640" y="227664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3203640" y="141300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>
            <a:off x="3203640" y="620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16"/>
          <p:cNvSpPr/>
          <p:nvPr/>
        </p:nvSpPr>
        <p:spPr>
          <a:xfrm>
            <a:off x="2987640" y="170028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17"/>
          <p:cNvSpPr/>
          <p:nvPr/>
        </p:nvSpPr>
        <p:spPr>
          <a:xfrm>
            <a:off x="3492360" y="3645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5580000" y="1484280"/>
            <a:ext cx="503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0"/>
          <p:cNvSpPr/>
          <p:nvPr/>
        </p:nvSpPr>
        <p:spPr>
          <a:xfrm>
            <a:off x="5435640" y="2205000"/>
            <a:ext cx="57636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21"/>
          <p:cNvSpPr/>
          <p:nvPr/>
        </p:nvSpPr>
        <p:spPr>
          <a:xfrm flipV="1">
            <a:off x="5508720" y="476280"/>
            <a:ext cx="936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22"/>
          <p:cNvSpPr/>
          <p:nvPr/>
        </p:nvSpPr>
        <p:spPr>
          <a:xfrm>
            <a:off x="3492360" y="609300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4"/>
          <p:cNvSpPr/>
          <p:nvPr/>
        </p:nvSpPr>
        <p:spPr>
          <a:xfrm>
            <a:off x="6588000" y="5013360"/>
            <a:ext cx="22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29"/>
          <p:cNvSpPr/>
          <p:nvPr/>
        </p:nvSpPr>
        <p:spPr>
          <a:xfrm flipV="1">
            <a:off x="539640" y="1699920"/>
            <a:ext cx="21600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31"/>
          <p:cNvSpPr/>
          <p:nvPr/>
        </p:nvSpPr>
        <p:spPr>
          <a:xfrm>
            <a:off x="539640" y="3789360"/>
            <a:ext cx="287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32"/>
          <p:cNvSpPr/>
          <p:nvPr/>
        </p:nvSpPr>
        <p:spPr>
          <a:xfrm>
            <a:off x="3059280" y="4797360"/>
            <a:ext cx="43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3"/>
          <p:cNvSpPr/>
          <p:nvPr/>
        </p:nvSpPr>
        <p:spPr>
          <a:xfrm>
            <a:off x="3492360" y="364500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4"/>
          <p:cNvSpPr/>
          <p:nvPr/>
        </p:nvSpPr>
        <p:spPr>
          <a:xfrm>
            <a:off x="3924360" y="285264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Создание положитель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морально-психологического клим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5"/>
          <p:cNvSpPr/>
          <p:nvPr/>
        </p:nvSpPr>
        <p:spPr>
          <a:xfrm>
            <a:off x="3492360" y="4581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36"/>
          <p:cNvSpPr/>
          <p:nvPr/>
        </p:nvSpPr>
        <p:spPr>
          <a:xfrm>
            <a:off x="4054320" y="4313160"/>
            <a:ext cx="32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Системы психологиче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разгру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37"/>
          <p:cNvSpPr/>
          <p:nvPr/>
        </p:nvSpPr>
        <p:spPr>
          <a:xfrm>
            <a:off x="3492360" y="537372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8"/>
          <p:cNvSpPr/>
          <p:nvPr/>
        </p:nvSpPr>
        <p:spPr>
          <a:xfrm>
            <a:off x="4067280" y="5229360"/>
            <a:ext cx="3440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cc"/>
                </a:solidFill>
                <a:latin typeface="Arial"/>
              </a:rPr>
              <a:t>Формирование малых груп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Гуманизация процесса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39"/>
          <p:cNvSpPr/>
          <p:nvPr/>
        </p:nvSpPr>
        <p:spPr>
          <a:xfrm>
            <a:off x="6732720" y="6308640"/>
            <a:ext cx="431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0"/>
          <p:cNvSpPr/>
          <p:nvPr/>
        </p:nvSpPr>
        <p:spPr>
          <a:xfrm>
            <a:off x="7164360" y="5545080"/>
            <a:ext cx="19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Исключ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моното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Расшир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твор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41"/>
          <p:cNvSpPr/>
          <p:nvPr/>
        </p:nvSpPr>
        <p:spPr>
          <a:xfrm flipV="1">
            <a:off x="6804000" y="5805360"/>
            <a:ext cx="289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3640" y="907560"/>
            <a:ext cx="843588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Принципы управления</a:t>
            </a: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- это свод определенных правил, нормативных актов, которые регулируют поведение работника в процессе управления производством и людьми в конкретных экономических и социальных условиях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e701"/>
                </a:solidFill>
                <a:uFillTx/>
                <a:latin typeface="Arial Black"/>
              </a:rPr>
              <a:t>Процессный подход к управлению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cc"/>
                </a:solidFill>
                <a:latin typeface="Arial Black"/>
              </a:rPr>
              <a:t>Управление – это процесс, серия непрерывных взаимосвязанных действий, каждое из которых – тоже процесс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Arial Black"/>
              </a:rPr>
              <a:t>Эти действия называют управленческими функция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e701"/>
                </a:solidFill>
                <a:latin typeface="Arial Black"/>
              </a:rPr>
              <a:t>ОСНОВНЫЕ ФУНКЦИИ УПРАВЛЕНИЯ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187280" y="2060640"/>
            <a:ext cx="281016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план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003640" y="2060640"/>
            <a:ext cx="266400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орган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5003640" y="3933720"/>
            <a:ext cx="266400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мотив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1187280" y="3933720"/>
            <a:ext cx="280836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конт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3995640" y="2708280"/>
            <a:ext cx="1008000" cy="0"/>
          </a:xfrm>
          <a:prstGeom prst="line">
            <a:avLst/>
          </a:prstGeom>
          <a:ln w="28440">
            <a:solidFill>
              <a:srgbClr val="ffe701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7667640" y="2708280"/>
            <a:ext cx="57636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8244000" y="2708280"/>
            <a:ext cx="0" cy="194472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 flipH="1">
            <a:off x="7667280" y="4653000"/>
            <a:ext cx="576360" cy="0"/>
          </a:xfrm>
          <a:prstGeom prst="line">
            <a:avLst/>
          </a:prstGeom>
          <a:ln w="28440">
            <a:solidFill>
              <a:srgbClr val="ffe701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2"/>
          <p:cNvSpPr/>
          <p:nvPr/>
        </p:nvSpPr>
        <p:spPr>
          <a:xfrm flipH="1">
            <a:off x="3995640" y="4653000"/>
            <a:ext cx="1008000" cy="0"/>
          </a:xfrm>
          <a:prstGeom prst="line">
            <a:avLst/>
          </a:prstGeom>
          <a:ln w="28440">
            <a:solidFill>
              <a:srgbClr val="ffe701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 flipH="1">
            <a:off x="395280" y="4653000"/>
            <a:ext cx="792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395280" y="2708280"/>
            <a:ext cx="0" cy="194472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395280" y="2708280"/>
            <a:ext cx="720720" cy="0"/>
          </a:xfrm>
          <a:prstGeom prst="line">
            <a:avLst/>
          </a:prstGeom>
          <a:ln w="28440">
            <a:solidFill>
              <a:srgbClr val="ffe701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1979640" y="544500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e701"/>
                </a:solidFill>
                <a:uFillTx/>
                <a:latin typeface="Arial Black"/>
              </a:rPr>
              <a:t>Связующие процес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коммуникац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принятие реш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000" y="907560"/>
            <a:ext cx="8002440" cy="488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e701"/>
                </a:solidFill>
                <a:latin typeface="Arial Black"/>
              </a:rPr>
              <a:t>Система</a:t>
            </a: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– это некоторая целостность, состоящая из взаимозависимых частей, каждая из которых вносит свой вклад в характеристики целого.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-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e701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475920"/>
            <a:ext cx="88930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Бараусова Елена Александровна, к.э.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доцент кафедры экономики и менеджм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Аудитория: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15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Телефон: (4232)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40 41 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il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: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n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rausov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@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vsu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barausova</a:t>
            </a: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_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elena</a:t>
            </a: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@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ail</a:t>
            </a: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енний семестр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едель. Лекций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8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часов,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семинаров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час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урсовая работа, экзам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e701"/>
                </a:solidFill>
                <a:latin typeface="Arial Black"/>
              </a:rPr>
              <a:t>Системный подход к управлению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132000" y="2781360"/>
            <a:ext cx="3024360" cy="23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Обработка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преобразов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в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(зависит о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эффектив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управле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042920" y="2852640"/>
            <a:ext cx="17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Информ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1119240" y="33577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Материа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258920" y="3789360"/>
            <a:ext cx="14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Капит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611280" y="422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Трудовые ресур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900000" y="321300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900000" y="371628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900000" y="414972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900000" y="458136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900000" y="2276640"/>
            <a:ext cx="17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ВХ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3300120" y="206064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ПРЕ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6999120" y="2276640"/>
            <a:ext cx="21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ВЫХ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6211440" y="28004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Продукция / услу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6372360" y="3213000"/>
            <a:ext cx="12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Прибы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6227640" y="3500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Социаль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6156360" y="3213000"/>
            <a:ext cx="23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21"/>
          <p:cNvSpPr/>
          <p:nvPr/>
        </p:nvSpPr>
        <p:spPr>
          <a:xfrm>
            <a:off x="6156360" y="3573360"/>
            <a:ext cx="23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22"/>
          <p:cNvSpPr/>
          <p:nvPr/>
        </p:nvSpPr>
        <p:spPr>
          <a:xfrm>
            <a:off x="6156360" y="4149720"/>
            <a:ext cx="23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6209280" y="409716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Доля ры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>
            <a:off x="6156360" y="4508640"/>
            <a:ext cx="2376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5"/>
          <p:cNvSpPr/>
          <p:nvPr/>
        </p:nvSpPr>
        <p:spPr>
          <a:xfrm>
            <a:off x="6231960" y="4508640"/>
            <a:ext cx="24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Удовлетвор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работ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26"/>
          <p:cNvSpPr/>
          <p:nvPr/>
        </p:nvSpPr>
        <p:spPr>
          <a:xfrm>
            <a:off x="7380360" y="5157720"/>
            <a:ext cx="0" cy="863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H="1">
            <a:off x="1763640" y="6021360"/>
            <a:ext cx="56167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28"/>
          <p:cNvSpPr/>
          <p:nvPr/>
        </p:nvSpPr>
        <p:spPr>
          <a:xfrm flipV="1">
            <a:off x="1763640" y="4797360"/>
            <a:ext cx="0" cy="1224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9"/>
          <p:cNvSpPr/>
          <p:nvPr/>
        </p:nvSpPr>
        <p:spPr>
          <a:xfrm>
            <a:off x="3635280" y="5589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 Black"/>
              </a:rPr>
              <a:t>Обратная связ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48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Ситуация</a:t>
            </a: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- это конкретный набор внутренних и внешних факторов, которые сильно влияют на организацию в данное конкретное время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e701"/>
                </a:solidFill>
                <a:uFillTx/>
                <a:latin typeface="Arial Black"/>
              </a:rPr>
              <a:t>Методология ситуационного подхода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00000" y="981000"/>
            <a:ext cx="8002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уководитель должен быть знаком со средствами профессионального упра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Руководитель должен уметь предвидеть вероятные последствия применения данной метод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уководитель должен уметь правильно интерпретировать ситуац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Руководитель должен уметь увязывать конкретные приемы с конкретными ситуаци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552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 Black"/>
              </a:rPr>
              <a:t>Организация</a:t>
            </a: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– это группа людей, деятельность которых сознательно координируется для достижения общих целей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Black"/>
              </a:rPr>
              <a:t>КЛАССИФИКАЦИЯ ОРГАНИЗАЦИЙ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47280" y="2276280"/>
            <a:ext cx="56898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Формаль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Неформаль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 Black"/>
              </a:rPr>
              <a:t>По формам собственности: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47640" y="2349360"/>
            <a:ext cx="60595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част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государствен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муниципаль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друг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По </a:t>
            </a:r>
            <a:r>
              <a:rPr b="1" lang="ru-RU" sz="4000" spc="-1" strike="noStrike">
                <a:solidFill>
                  <a:srgbClr val="ffffcc"/>
                </a:solidFill>
                <a:latin typeface="Arial Black"/>
              </a:rPr>
              <a:t>отношению к прибыли: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03280" y="2276280"/>
            <a:ext cx="584352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Коммерческ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Некоммерческ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По </a:t>
            </a: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размерам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410920" y="2708280"/>
            <a:ext cx="36831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крупны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средни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e70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малы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e701"/>
                </a:solidFill>
                <a:uFillTx/>
                <a:latin typeface="Arial Black"/>
              </a:rPr>
              <a:t>ОБЩИЕ ХАРАКТЕРИСТИКИ ОРГАНИЗАЦИИ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Ресурсы (люди, капитал, материалы, технология, информац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Зависимость от внешней сре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Разделение труд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горизонтальное –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разделение работы на составные ч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вертикальное –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деятельность по координированию работы других лю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Необходимость у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21844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РОЛЬ </a:t>
            </a: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– </a:t>
            </a: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это образец действий, ожидаемых от индивида при выполнении деятельности, имеющей отношение к другим людям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РЕКОМЕНДУЕМАЯ ЛИТЕРАТУРА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cc"/>
                </a:solidFill>
                <a:uFillTx/>
                <a:latin typeface="Arial"/>
              </a:rPr>
              <a:t>Основная литерату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иханский О.С., Наумов А.И. Менеджмент: Учебник. М.: Гардарика, 200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иханский О.С., Наумов А.И. Практикум по курсу «Менеджмент». М.: Гардарика, 1998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Дафт Р.Л. Менеджмент. СПб.: Питер, 2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cc"/>
                </a:solidFill>
                <a:uFillTx/>
                <a:latin typeface="Arial Black"/>
              </a:rPr>
              <a:t>МЕЖЛИЧНОСТНЫЕ РОЛ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ГЛАВА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церемониалы, встреча гостей, подписание юридических докумен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ЛИДЕР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уководство и мотивация подчиненных, обучение, коммуникации с работни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СВЯЗУЮЩЕЕ ЗВЕНО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переписка, участие в совещаниях на стороне, поддержание информационных связей внутри и за пределами организ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cc"/>
                </a:solidFill>
                <a:uFillTx/>
                <a:latin typeface="Arial Black"/>
              </a:rPr>
              <a:t>ИНФОРМАЦИОННЫЕ РОЛ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ПРИЕМНИК ИНФОРМАЦИИ (НАБЛЮДАТЕЛЬ)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обработка всей почты, ознакомительные поездки, личные контак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РАСПРОСТРАНИТЕЛЬ ИНФОРМАЦИИ (ПРОВОДНИК)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ассылка почты по организациям, вербальные контакты для передачи информ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ПРЕДСТАВИТЕЛЬ (ОРАТОР)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– </a:t>
            </a: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участие в заседаниях, обращение через средства массовой информации, речи, отчеты, запис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cc"/>
                </a:solidFill>
                <a:uFillTx/>
                <a:latin typeface="Arial Black"/>
              </a:rPr>
              <a:t>РОЛИ, СВЯЗАННЫЕ С ПРИНЯТИЕМ РЕШЕНИЙ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ПРЕДПРИНИМАТЕЛЬ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– инициация новых проектов, поиск новых идей, завоевание сторон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УСТРАНЯЮЩИЙ НАРУШЕНИЯ (ПОЖАРНЫЙ)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– урегулирование споров, разрешение конфликтов, адаптация к кризисам во внешней сре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РАСПРЕДЕЛИТЕЛЬ РЕСУРСОВ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– составление бюджетов, составление графиков работы, расстановка приорит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ВЕДУЩИЙ ПЕРЕГОВОРЫ (ПОСРЕДНИК)</a:t>
            </a: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 Black"/>
              </a:rPr>
              <a:t>– ведение переговоров, представление интересов своей организ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Уровни управления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4"/>
          <p:cNvSpPr/>
          <p:nvPr/>
        </p:nvSpPr>
        <p:spPr>
          <a:xfrm flipH="1">
            <a:off x="1547280" y="1413000"/>
            <a:ext cx="2953080" cy="410364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4500720" y="1413000"/>
            <a:ext cx="3166920" cy="410364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>
            <a:off x="1547640" y="5516640"/>
            <a:ext cx="6120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2268360" y="4508640"/>
            <a:ext cx="460872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3132000" y="3357720"/>
            <a:ext cx="2880000" cy="0"/>
          </a:xfrm>
          <a:prstGeom prst="line">
            <a:avLst/>
          </a:prstGeom>
          <a:ln w="2844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3810240" y="2284560"/>
            <a:ext cx="145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Инсти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туциональ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2930400" y="3778200"/>
            <a:ext cx="32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Управлен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3449160" y="4797360"/>
            <a:ext cx="21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701"/>
                </a:solidFill>
                <a:latin typeface="Arial Black"/>
              </a:rPr>
              <a:t>Техн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"/>
          <p:cNvSpPr/>
          <p:nvPr/>
        </p:nvSpPr>
        <p:spPr>
          <a:xfrm>
            <a:off x="2124000" y="981000"/>
            <a:ext cx="6624720" cy="4176720"/>
          </a:xfrm>
          <a:prstGeom prst="rect">
            <a:avLst/>
          </a:prstGeom>
          <a:solidFill>
            <a:srgbClr val="3366cc"/>
          </a:solidFill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2124000" y="3068640"/>
            <a:ext cx="66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>
            <a:off x="2124000" y="2060640"/>
            <a:ext cx="66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2124000" y="4076640"/>
            <a:ext cx="66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 flipH="1">
            <a:off x="3419280" y="981000"/>
            <a:ext cx="1439640" cy="4176720"/>
          </a:xfrm>
          <a:prstGeom prst="line">
            <a:avLst/>
          </a:prstGeom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 flipH="1">
            <a:off x="4427280" y="4076640"/>
            <a:ext cx="360360" cy="1081080"/>
          </a:xfrm>
          <a:prstGeom prst="line">
            <a:avLst/>
          </a:prstGeom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0"/>
          <p:cNvSpPr/>
          <p:nvPr/>
        </p:nvSpPr>
        <p:spPr>
          <a:xfrm flipH="1">
            <a:off x="6300360" y="981000"/>
            <a:ext cx="1079640" cy="3095640"/>
          </a:xfrm>
          <a:prstGeom prst="line">
            <a:avLst/>
          </a:prstGeom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2195640" y="1341360"/>
            <a:ext cx="266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Концепту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навы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4578840" y="2305080"/>
            <a:ext cx="177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Челове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701"/>
                </a:solidFill>
                <a:latin typeface="Arial Black"/>
              </a:rPr>
              <a:t>навы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6881760" y="3529080"/>
            <a:ext cx="162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cc"/>
                </a:solidFill>
                <a:latin typeface="Arial Black"/>
              </a:rPr>
              <a:t>Техн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cc"/>
                </a:solidFill>
                <a:latin typeface="Arial Black"/>
              </a:rPr>
              <a:t>навы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5"/>
          <p:cNvSpPr/>
          <p:nvPr/>
        </p:nvSpPr>
        <p:spPr>
          <a:xfrm>
            <a:off x="4788000" y="4076640"/>
            <a:ext cx="1512720" cy="0"/>
          </a:xfrm>
          <a:prstGeom prst="line">
            <a:avLst/>
          </a:prstGeom>
          <a:ln w="381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6"/>
          <p:cNvSpPr/>
          <p:nvPr/>
        </p:nvSpPr>
        <p:spPr>
          <a:xfrm>
            <a:off x="2124000" y="2060640"/>
            <a:ext cx="2376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7"/>
          <p:cNvSpPr/>
          <p:nvPr/>
        </p:nvSpPr>
        <p:spPr>
          <a:xfrm>
            <a:off x="2124000" y="3068640"/>
            <a:ext cx="201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18"/>
          <p:cNvSpPr/>
          <p:nvPr/>
        </p:nvSpPr>
        <p:spPr>
          <a:xfrm>
            <a:off x="2124000" y="4076640"/>
            <a:ext cx="1656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19"/>
          <p:cNvSpPr/>
          <p:nvPr/>
        </p:nvSpPr>
        <p:spPr>
          <a:xfrm>
            <a:off x="4500720" y="2060640"/>
            <a:ext cx="2519280" cy="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0"/>
          <p:cNvSpPr/>
          <p:nvPr/>
        </p:nvSpPr>
        <p:spPr>
          <a:xfrm>
            <a:off x="4140360" y="3068640"/>
            <a:ext cx="2519280" cy="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21"/>
          <p:cNvSpPr/>
          <p:nvPr/>
        </p:nvSpPr>
        <p:spPr>
          <a:xfrm>
            <a:off x="3780000" y="4076640"/>
            <a:ext cx="1008000" cy="0"/>
          </a:xfrm>
          <a:prstGeom prst="line">
            <a:avLst/>
          </a:prstGeom>
          <a:ln w="1908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22"/>
          <p:cNvSpPr/>
          <p:nvPr/>
        </p:nvSpPr>
        <p:spPr>
          <a:xfrm>
            <a:off x="7020000" y="2060640"/>
            <a:ext cx="1728720" cy="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23"/>
          <p:cNvSpPr/>
          <p:nvPr/>
        </p:nvSpPr>
        <p:spPr>
          <a:xfrm>
            <a:off x="6659640" y="3068640"/>
            <a:ext cx="2089080" cy="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24"/>
          <p:cNvSpPr/>
          <p:nvPr/>
        </p:nvSpPr>
        <p:spPr>
          <a:xfrm>
            <a:off x="6300720" y="4076640"/>
            <a:ext cx="2448000" cy="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5"/>
          <p:cNvSpPr/>
          <p:nvPr/>
        </p:nvSpPr>
        <p:spPr>
          <a:xfrm>
            <a:off x="154440" y="404640"/>
            <a:ext cx="26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Уровни управ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6"/>
          <p:cNvSpPr/>
          <p:nvPr/>
        </p:nvSpPr>
        <p:spPr>
          <a:xfrm>
            <a:off x="547920" y="141300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 Black"/>
              </a:rPr>
              <a:t>Высш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27"/>
          <p:cNvSpPr/>
          <p:nvPr/>
        </p:nvSpPr>
        <p:spPr>
          <a:xfrm>
            <a:off x="470520" y="242100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 Black"/>
              </a:rPr>
              <a:t>Сред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28"/>
          <p:cNvSpPr/>
          <p:nvPr/>
        </p:nvSpPr>
        <p:spPr>
          <a:xfrm>
            <a:off x="536040" y="342900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 Black"/>
              </a:rPr>
              <a:t>Низш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9"/>
          <p:cNvSpPr/>
          <p:nvPr/>
        </p:nvSpPr>
        <p:spPr>
          <a:xfrm>
            <a:off x="115200" y="4221000"/>
            <a:ext cx="200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Неруководя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работ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 Black"/>
              </a:rPr>
              <a:t>(персона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Спасибо за внимание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97" name="Picture 3" descr="BD04924_"/>
          <p:cNvPicPr/>
          <p:nvPr/>
        </p:nvPicPr>
        <p:blipFill>
          <a:blip r:embed="rId1"/>
          <a:stretch/>
        </p:blipFill>
        <p:spPr>
          <a:xfrm>
            <a:off x="3352680" y="3048120"/>
            <a:ext cx="2525760" cy="340668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e701"/>
                </a:solidFill>
                <a:latin typeface="Arial Black"/>
              </a:rPr>
              <a:t>Дополнительная литература</a:t>
            </a:r>
            <a:r>
              <a:rPr b="1" lang="ru-RU" sz="3200" spc="-1" strike="noStrike">
                <a:solidFill>
                  <a:srgbClr val="ffe701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Бодди Д., Пэйтон Р. Основы менеджмента. СПб., 199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Мескон М., Альберт М., Хедоури Ф. Основы менеджмента. М., 199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Фалмер Р. Энциклопедия современного управления. В 5-ти т. М., 199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История менеджмента: Учебное пособие / Под ред. Д.В. Валового. М., 199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21844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Тема </a:t>
            </a: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1</a:t>
            </a:r>
            <a:r>
              <a:rPr b="0" lang="ru-RU" sz="4000" spc="-1" strike="noStrike">
                <a:solidFill>
                  <a:srgbClr val="ffffcc"/>
                </a:solidFill>
                <a:latin typeface="Arial Black"/>
              </a:rPr>
              <a:t>. </a:t>
            </a:r>
            <a:br>
              <a:rPr sz="4000"/>
            </a:b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ВВЕДЕНИЕ В</a:t>
            </a:r>
            <a:r>
              <a:rPr b="0" lang="en-US" sz="4000" spc="-1" strike="noStrike">
                <a:solidFill>
                  <a:srgbClr val="ffe701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e701"/>
                </a:solidFill>
                <a:latin typeface="Arial Black"/>
              </a:rPr>
              <a:t>МЕНЕДЖМЕНТ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20" descr="j0283209"/>
          <p:cNvPicPr/>
          <p:nvPr/>
        </p:nvPicPr>
        <p:blipFill>
          <a:blip r:embed="rId1"/>
          <a:stretch/>
        </p:blipFill>
        <p:spPr>
          <a:xfrm>
            <a:off x="2627280" y="2852640"/>
            <a:ext cx="3959280" cy="36720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e701"/>
                </a:solidFill>
                <a:latin typeface="Arial Black"/>
              </a:rPr>
              <a:t>План лекци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Общая характеристика  менеджм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Организация как объект у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Функции и роли руководи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 Black"/>
              </a:rPr>
              <a:t>Уровни управления в орган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28036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 Black"/>
              </a:rPr>
              <a:t>Менеджмент </a:t>
            </a:r>
            <a:r>
              <a:rPr b="0" lang="ru-RU" sz="3600" spc="-1" strike="noStrike">
                <a:solidFill>
                  <a:srgbClr val="ffffcc"/>
                </a:solidFill>
                <a:latin typeface="Arial Black"/>
              </a:rPr>
              <a:t>–</a:t>
            </a: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это эффективное и производительное достижение целей организации посредством планирования, организации, руководства и контроля над организационными ресурсами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cc"/>
                </a:solidFill>
                <a:uFillTx/>
                <a:latin typeface="Arial"/>
              </a:rPr>
              <a:t>Элементы управления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e701"/>
                </a:solidFill>
                <a:latin typeface="Arial Black"/>
              </a:rPr>
              <a:t>решение о поставленной цели и планирование деятельности по ее достиже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распределение времени и действий, необходимых для решения задач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e701"/>
                </a:solidFill>
                <a:latin typeface="Arial Black"/>
              </a:rPr>
              <a:t>мотивация (побуждение) к действия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координация отдельных, но взаимосвязанных действ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e701"/>
                </a:solidFill>
                <a:latin typeface="Arial Black"/>
              </a:rPr>
              <a:t>осуществление контроля над тем, что сделано, с целью проверки соответствия  результатов намеченным план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04000" cy="538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 Black"/>
              </a:rPr>
              <a:t>Предметом</a:t>
            </a:r>
            <a:r>
              <a:rPr b="0" lang="ru-RU" sz="3600" spc="-1" strike="noStrike">
                <a:solidFill>
                  <a:srgbClr val="ffffcc"/>
                </a:solidFill>
                <a:latin typeface="Arial Black"/>
              </a:rPr>
              <a:t> изучения науки управления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являются отношения между людьми, возникающие по поводу согласования в пространстве и времени производственных ресурсов для достижения поставленной цели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3:57:59Z</dcterms:created>
  <dc:creator>HOME</dc:creator>
  <dc:description/>
  <dc:language>en-US</dc:language>
  <cp:lastModifiedBy>LEGION</cp:lastModifiedBy>
  <dcterms:modified xsi:type="dcterms:W3CDTF">2016-01-11T10:03:16Z</dcterms:modified>
  <cp:revision>131</cp:revision>
  <dc:subject/>
  <dc:title>Основы менеджмента</dc:title>
</cp:coreProperties>
</file>