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83D1-E7FD-486E-AE7C-1D23A602A6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© Бараусова Елена Александ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ы менедж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© Бараусова Елена Александ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управления - это совокупность (система) управленческих приемов, способствующих обеспечению высокой эффективности деятельности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управления - это совокупность (система) управленческих приемов, способствующих обеспечению высокой эффективности деятельности организа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-распоряди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дминистратив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онно-распорядите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административные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психолог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изирующ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рядите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е о подразде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норм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норм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рядительные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ные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у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изирующ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дей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дей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р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дей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ые 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ламент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т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ение о подразделе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ые нормат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ческие нормат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жностные инстру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ческие указ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чие инстру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ие ответстве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ч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ллективная 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ри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ая 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сс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агра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ощ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о-преми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о-сд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о-прогресс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ор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о-преми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жил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под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г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работ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исс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агражд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ощр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е 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ремен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де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ст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ременно-преми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свенно-сде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дельно-прогрессив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корд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дельно-преми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у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ое обслужи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утев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лата жиль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ные под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ие в прибы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ие в собстве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ьг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е стим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опы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рев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ый кодек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струк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м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тные з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и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в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оложите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-психологического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психолог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гру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алы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манизация процесса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т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олог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психологические 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ое стимул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мен опы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ревн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ый кодек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ческие струк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м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тные з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убличное призн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дар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хв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положительн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о-психологического клима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ы психологическ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груз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малых груп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уманизация процесса тру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клю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ното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шир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ворче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 - это свод определенных правил, нормативных актов, которые регулируют поведение работника в процессе управления производством и людьми в конкретных экономических и социальных услов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- это свод определенных правил, нормативных актов, которые регулируют поведение работника в процессе управления производством и людьми в конкретных экономических и социальных условия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ный подход к уп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процесс, серия непрерывных взаимосвязанных действий, каждое из которых – тоже проце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действия называют управленчески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ный подход к управл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е – это процесс, серия непрерывных взаимосвязанных действий, каждое из которых – тоже процесс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 действия называют управленческими функция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УНКЦ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ующие процес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ФУНКЦИИ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тив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язующие процесс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муникац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ятие ре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– это некоторая целостность, состоящая из взаимозависимых частей, каждая из которых вносит свой вклад в характеристики цел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а – это некоторая целостность, состоящая из взаимозависимых частей, каждая из которых вносит свой вклад в характеристики цел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аусова Елена Александровна, к.э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кафедры экономики 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ория: 15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: (4232) 40 41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-mail:    elena.barausova@vvsu.ru,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barausova_elena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ний семестр: 16 недель. Лекций – 48 часов,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семинаров – 32 ча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овая работа, экза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раусова Елена Александровна, к.э.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цент кафедры экономики и менедж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удитория: 153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лефон: (4232) 40 41 3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E-mail:    elena.barausova@vvsu.ru,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barausova_elena@mail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енний семестр: 16 недель. Лекций – 48 часов,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семинаров – 32 час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рсовая работа, экзам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 к уп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висит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ция /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влетвор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ный подход к управл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ботка 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ход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зависит о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ффекти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я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риал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ые ресурс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Х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Х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дукция / услуг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бы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довлетвор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н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- это конкретный набор внутренних и внешних факторов, которые сильно влияют на организацию в данное конкрет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туация - это конкретный набор внутренних и внешних факторов, которые сильно влияют на организацию в данное конкретное врем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ситуационного под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быть знаком со средствами профессиональ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уметь предвидеть вероятные последствия применения данной метод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уметь правильно интерпретировать ситу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уметь увязывать конкретные приемы с конкретными ситу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ология ситуационного подх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быть знаком со средствами профессионального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уметь предвидеть вероятные последствия применения данной метод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уметь правильно интерпретировать ситуац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уметь увязывать конкретные приемы с конкретными ситуация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– это группа людей, деятельность которых сознательно координируется для достижения общих ц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– это группа людей, деятельность которых сознательно координируется для достижения общих це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СИФИКАЦИЯ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е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КЛАССИФИКАЦИЯ ОРГАНИЗ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Форм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еформ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ормам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ницип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формам собственност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уницип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ношению к прибы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ммер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отношению к прибыли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мер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коммер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р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п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размерам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п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ХАРАКТЕРИСТИКИ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(люди, капитал, материалы, технология, информ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от внешн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тру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ое – разделение работы на составные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тикальное – деятельность по координированию работы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ИЕ ХАРАКТЕРИСТИКИ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сурсы (люди, капитал, материалы, технология, информация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от внешней сре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деление труд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изонтальное – разделение работы на составные ч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ртикальное – деятельность по координированию работы других люд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сть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– это образец действий, ожидаемых от индивида при выполнении деятельности, имеющей отношение к другим люд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ЛЬ – это образец действий, ожидаемых от индивида при выполнении деятельности, имеющей отношение к другим людя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ханский О.С., Наумов А.И. Менеджмент: Учебник. М.: Гардарика,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ханский О.С., Наумов А.И. Практикум по курсу «Менеджмент». М.: Гардарика, 199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фт Р.Л. Менеджмент. СПб.: Питер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литера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ханский О.С., Наумов А.И. Менеджмент: Учебник. М.: Гардарика, 200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ханский О.С., Наумов А.И. Практикум по курсу «Менеджмент». М.: Гардарика, 1998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афт Р.Л. Менеджмент. СПб.: Питер, 200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ЛИЧНОСТНЫЕ Р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– церемониалы, встреча гостей, подписание юридических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 – руководство и мотивация подчиненных, обучение, коммуникации с работ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УЮЩЕЕ ЗВЕНО – переписка, участие в совещаниях на стороне, поддержание информационных связей внутри и за пределами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ЛИЧНОСТНЫЕ Р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– церемониалы, встреча гостей, подписание юридических докумен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ДЕР – руководство и мотивация подчиненных, обучение, коммуникации с работник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ЯЗУЮЩЕЕ ЗВЕНО – переписка, участие в совещаниях на стороне, поддержание информационных связей внутри и за пределами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НИК ИНФОРМАЦИИ (НАБЛЮДАТЕЛЬ) – обработка всей почты, ознакомительные поездки, личные конт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ИТЕЛЬ ИНФОРМАЦИИ (ПРОВОДНИК) – рассылка почты по организациям, вербальные контакты для передачи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(ОРАТОР) – участие в заседаниях, обращение через средства массовой информации, речи, отчеты, за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ОННЫЕ Р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ЕМНИК ИНФОРМАЦИИ (НАБЛЮДАТЕЛЬ) – обработка всей почты, ознакомительные поездки, личные конта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ОСТРАНИТЕЛЬ ИНФОРМАЦИИ (ПРОВОДНИК) – рассылка почты по организациям, вербальные контакты для передачи информ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СТАВИТЕЛЬ (ОРАТОР) – участие в заседаниях, обращение через средства массовой информации, речи, отчеты, запис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, СВЯЗАННЫЕ С ПРИНЯТИЕМ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 – инициация новых проектов, поиск новых идей, завоевание сторо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ЯЮЩИЙ НАРУШЕНИЯ (ПОЖАРНЫЙ) – урегулирование споров, разрешение конфликтов, адаптация к кризисам во внешне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ИТЕЛЬ РЕСУРСОВ – составление бюджетов, составление графиков работы, расстановка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Й ПЕРЕГОВОРЫ (ПОСРЕДНИК) – ведение переговоров, представление интересов сво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ЛИ, СВЯЗАННЫЕ С ПРИНЯТИЕМ РЕ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 – инициация новых проектов, поиск новых идей, завоевание сторонн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АНЯЮЩИЙ НАРУШЕНИЯ (ПОЖАРНЫЙ) – урегулирование споров, разрешение конфликтов, адаптация к кризисам во внешней сред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ЕДЕЛИТЕЛЬ РЕСУРСОВ – составление бюджетов, составление графиков работы, расстановка приорите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ДУЩИЙ ПЕРЕГОВОРЫ (ПОСРЕДНИК) – ведение переговоров, представление интересов своей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цион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уциональ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уководя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ерсон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цепту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ы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лове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ы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ы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сш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изш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руководящ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ерсонал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 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дди Д., Пэйтон Р. Основы менеджмента. СПб.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кон М., Альберт М., Хедоури Ф. Основы менеджмента. М.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лмер Р. Энциклопедия современного управления. В 5-ти т. М., 19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неджмента: Учебное пособие / Под ред. Д.В. Валового. М.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ая литератур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дди Д., Пэйтон Р. Основы менеджмента. СПб., 199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скон М., Альберт М., Хедоури Ф. Основы менеджмента. М., 199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лмер Р. Энциклопедия современного управления. В 5-ти т. М., 199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менеджмента: Учебное пособие / Под ред. Д.В. Валового. М., 199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МЕНЕДЖМ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 1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ВЕДЕНИЕ В МЕНЕДЖМЕНТ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ак объект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роли руково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характеристика  менедж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как объект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и роли руководител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 в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ффективное и производительное достижение целей организации посредством планирования, организации, руководства и контроля над организационными ресур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–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эффективное и производительное достижение целей организации посредством планирования, организации, руководства и контроля над организационными ресурс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о поставленной цели и планирование деятельности по ее достижен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времени и действий, необходимых для решения зада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я (побуждение) к действ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отдельных, но взаимосвязан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контроля над тем, что сделано, с целью проверки соответствия  результатов намеченным пл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ементы управл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шение о поставленной цели и планирование деятельности по ее достижению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еделение времени и действий, необходимых для решения задач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тивация (побуждение) к действиям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ординация отдельных, но взаимосвязанных действи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уществление контроля над тем, что сделано, с целью проверки соответствия  результатов намеченным план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изучения науки управления являются отношения между людьми, возникающие по поводу согласования в пространстве и времени производственных ресурсов для достижения поставленной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ом изучения науки управления являются отношения между людьми, возникающие по поводу согласования в пространстве и времени производственных ресурсов для достижения поставленной ц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9CEE-1642-4B12-A5AF-EA2B6B5D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6200-F82D-44B9-BE01-7CACBC76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6EB-5018-495A-8384-1F80A7E5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EA3-6F52-4F81-94E7-3A7D79BF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823-44F4-45FB-B30B-140F745B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3519-A6C6-4789-86F9-8643D716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B43-DEC7-4E9B-A5DA-23C173E7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8AC-87A3-46EB-9C03-B9DB2D97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61E-0893-4647-9518-F23927D5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71E3-B203-438E-93EF-60BEF423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729B-4FD9-4596-B9B9-B2AAF7C4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AA0-C650-4F60-A580-18154758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78F3-A6FD-4050-905D-425F3920F6B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Основы менеджмент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00200" y="5486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©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Бараусова Елена Александ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PE01616_"/>
          <p:cNvPicPr/>
          <p:nvPr/>
        </p:nvPicPr>
        <p:blipFill>
          <a:blip r:embed="rId1"/>
          <a:stretch/>
        </p:blipFill>
        <p:spPr>
          <a:xfrm>
            <a:off x="2743200" y="1905120"/>
            <a:ext cx="369720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Рис.3.2."/>
          <p:cNvPicPr/>
          <p:nvPr/>
        </p:nvPicPr>
        <p:blipFill>
          <a:blip r:embed="rId1"/>
          <a:stretch/>
        </p:blipFill>
        <p:spPr>
          <a:xfrm>
            <a:off x="324000" y="404640"/>
            <a:ext cx="8351640" cy="60944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 Black"/>
              </a:rPr>
              <a:t>Метод управления</a:t>
            </a: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- это совокупность (система) управленческих приемов, способствующих обеспечению высокой эффективности деятельности организации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619280" y="981000"/>
            <a:ext cx="5689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МЕТОДЫ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2340000" y="1916280"/>
            <a:ext cx="71280" cy="403380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2340000" y="2924280"/>
            <a:ext cx="1224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564000" y="2349360"/>
            <a:ext cx="5256000" cy="1152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e701"/>
                </a:solidFill>
                <a:latin typeface="Arial Black"/>
              </a:rPr>
              <a:t>Организационно-распорядите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(административ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3564000" y="3933720"/>
            <a:ext cx="5256000" cy="1152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Эконом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3635280" y="5445000"/>
            <a:ext cx="5184720" cy="1152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Социально-психолог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2411280" y="4508640"/>
            <a:ext cx="115272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2411280" y="5950080"/>
            <a:ext cx="1224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7"/>
          <p:cNvSpPr/>
          <p:nvPr/>
        </p:nvSpPr>
        <p:spPr>
          <a:xfrm>
            <a:off x="826920" y="907920"/>
            <a:ext cx="2160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Стабилизиру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8"/>
          <p:cNvSpPr/>
          <p:nvPr/>
        </p:nvSpPr>
        <p:spPr>
          <a:xfrm>
            <a:off x="826920" y="3213000"/>
            <a:ext cx="2305080" cy="865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Распорядите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29"/>
          <p:cNvSpPr/>
          <p:nvPr/>
        </p:nvSpPr>
        <p:spPr>
          <a:xfrm>
            <a:off x="900000" y="5300640"/>
            <a:ext cx="2159280" cy="792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Дисциплинар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61"/>
          <p:cNvSpPr/>
          <p:nvPr/>
        </p:nvSpPr>
        <p:spPr>
          <a:xfrm rot="16200000">
            <a:off x="-1711080" y="3159360"/>
            <a:ext cx="4175280" cy="25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дминистративны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3"/>
          <p:cNvSpPr/>
          <p:nvPr/>
        </p:nvSpPr>
        <p:spPr>
          <a:xfrm>
            <a:off x="3432960" y="2682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регламент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4"/>
          <p:cNvSpPr/>
          <p:nvPr/>
        </p:nvSpPr>
        <p:spPr>
          <a:xfrm>
            <a:off x="3448440" y="98100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 Black"/>
              </a:rPr>
              <a:t>норм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5"/>
          <p:cNvSpPr/>
          <p:nvPr/>
        </p:nvSpPr>
        <p:spPr>
          <a:xfrm>
            <a:off x="3290760" y="1833480"/>
            <a:ext cx="25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инструкт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6"/>
          <p:cNvSpPr/>
          <p:nvPr/>
        </p:nvSpPr>
        <p:spPr>
          <a:xfrm>
            <a:off x="6551640" y="0"/>
            <a:ext cx="2592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Уст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Положение о подраздел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7"/>
          <p:cNvSpPr/>
          <p:nvPr/>
        </p:nvSpPr>
        <p:spPr>
          <a:xfrm>
            <a:off x="5589720" y="1052640"/>
            <a:ext cx="3554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Трудовые 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Технические 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Распорядительные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8"/>
          <p:cNvSpPr/>
          <p:nvPr/>
        </p:nvSpPr>
        <p:spPr>
          <a:xfrm>
            <a:off x="6084720" y="2492280"/>
            <a:ext cx="3059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Должностные инстру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Методические указ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Рабочие инстру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70"/>
          <p:cNvSpPr/>
          <p:nvPr/>
        </p:nvSpPr>
        <p:spPr>
          <a:xfrm>
            <a:off x="3132000" y="47628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71"/>
          <p:cNvSpPr/>
          <p:nvPr/>
        </p:nvSpPr>
        <p:spPr>
          <a:xfrm>
            <a:off x="3132000" y="2060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72"/>
          <p:cNvSpPr/>
          <p:nvPr/>
        </p:nvSpPr>
        <p:spPr>
          <a:xfrm>
            <a:off x="3132000" y="112536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73"/>
          <p:cNvSpPr/>
          <p:nvPr/>
        </p:nvSpPr>
        <p:spPr>
          <a:xfrm>
            <a:off x="3132000" y="4762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74"/>
          <p:cNvSpPr/>
          <p:nvPr/>
        </p:nvSpPr>
        <p:spPr>
          <a:xfrm>
            <a:off x="2987640" y="11253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75"/>
          <p:cNvSpPr/>
          <p:nvPr/>
        </p:nvSpPr>
        <p:spPr>
          <a:xfrm>
            <a:off x="3132000" y="371628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6"/>
          <p:cNvSpPr/>
          <p:nvPr/>
        </p:nvSpPr>
        <p:spPr>
          <a:xfrm>
            <a:off x="3924360" y="3213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к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поря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аз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7"/>
          <p:cNvSpPr/>
          <p:nvPr/>
        </p:nvSpPr>
        <p:spPr>
          <a:xfrm>
            <a:off x="5364000" y="119700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8"/>
          <p:cNvSpPr/>
          <p:nvPr/>
        </p:nvSpPr>
        <p:spPr>
          <a:xfrm>
            <a:off x="5435640" y="2205000"/>
            <a:ext cx="576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79"/>
          <p:cNvSpPr/>
          <p:nvPr/>
        </p:nvSpPr>
        <p:spPr>
          <a:xfrm flipV="1">
            <a:off x="6156360" y="333000"/>
            <a:ext cx="35892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80"/>
          <p:cNvSpPr/>
          <p:nvPr/>
        </p:nvSpPr>
        <p:spPr>
          <a:xfrm>
            <a:off x="3059280" y="573408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81"/>
          <p:cNvSpPr/>
          <p:nvPr/>
        </p:nvSpPr>
        <p:spPr>
          <a:xfrm>
            <a:off x="3851280" y="537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Установление ответстве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2"/>
          <p:cNvSpPr/>
          <p:nvPr/>
        </p:nvSpPr>
        <p:spPr>
          <a:xfrm>
            <a:off x="6443640" y="4005360"/>
            <a:ext cx="22687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Лич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Коллективная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Матер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Моральная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83"/>
          <p:cNvSpPr/>
          <p:nvPr/>
        </p:nvSpPr>
        <p:spPr>
          <a:xfrm>
            <a:off x="5796000" y="57340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84"/>
          <p:cNvSpPr/>
          <p:nvPr/>
        </p:nvSpPr>
        <p:spPr>
          <a:xfrm flipV="1">
            <a:off x="5508720" y="4365360"/>
            <a:ext cx="79200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85"/>
          <p:cNvSpPr/>
          <p:nvPr/>
        </p:nvSpPr>
        <p:spPr>
          <a:xfrm>
            <a:off x="5724360" y="595008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6"/>
          <p:cNvSpPr/>
          <p:nvPr/>
        </p:nvSpPr>
        <p:spPr>
          <a:xfrm flipV="1">
            <a:off x="5651640" y="5084640"/>
            <a:ext cx="6490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87"/>
          <p:cNvSpPr/>
          <p:nvPr/>
        </p:nvSpPr>
        <p:spPr>
          <a:xfrm flipV="1">
            <a:off x="539640" y="1341000"/>
            <a:ext cx="21600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88"/>
          <p:cNvSpPr/>
          <p:nvPr/>
        </p:nvSpPr>
        <p:spPr>
          <a:xfrm>
            <a:off x="539640" y="37162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9"/>
          <p:cNvSpPr/>
          <p:nvPr/>
        </p:nvSpPr>
        <p:spPr>
          <a:xfrm>
            <a:off x="539640" y="4869000"/>
            <a:ext cx="2872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826920" y="907920"/>
            <a:ext cx="2160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Зарабо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пл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826920" y="2492280"/>
            <a:ext cx="2305080" cy="865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Комиссио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награ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900000" y="5300640"/>
            <a:ext cx="2159280" cy="792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Дополните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поощ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 rot="16200000">
            <a:off x="-1711080" y="3159360"/>
            <a:ext cx="4175280" cy="25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кономически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737520" y="33336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Пов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635280" y="17733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00"/>
                </a:solidFill>
                <a:latin typeface="Arial"/>
              </a:rPr>
              <a:t>Сд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227640" y="0"/>
            <a:ext cx="2197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Про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Повременно-прем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589720" y="105264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5364000" y="1125360"/>
            <a:ext cx="305928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Прям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Косвенно-сд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Сдельно-прогресс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Аккорд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Сдельно-прем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276720" y="54936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 flipV="1">
            <a:off x="3203640" y="3860280"/>
            <a:ext cx="93672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4211640" y="3213000"/>
            <a:ext cx="201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Пит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Обу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Медицинское обслужи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Путев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Оплата жил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4932360" y="2060640"/>
            <a:ext cx="503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 flipV="1">
            <a:off x="5508720" y="404280"/>
            <a:ext cx="7207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3059280" y="5734080"/>
            <a:ext cx="3025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6300720" y="5025960"/>
            <a:ext cx="2268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Ценные подар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Участие в прибы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Участие в собстве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 flipV="1">
            <a:off x="539640" y="1341000"/>
            <a:ext cx="21600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539640" y="29242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539640" y="4869000"/>
            <a:ext cx="2872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32"/>
          <p:cNvSpPr/>
          <p:nvPr/>
        </p:nvSpPr>
        <p:spPr>
          <a:xfrm>
            <a:off x="900000" y="3933720"/>
            <a:ext cx="2305080" cy="865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Дополни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льг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34"/>
          <p:cNvSpPr/>
          <p:nvPr/>
        </p:nvSpPr>
        <p:spPr>
          <a:xfrm>
            <a:off x="3276720" y="549360"/>
            <a:ext cx="358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35"/>
          <p:cNvSpPr/>
          <p:nvPr/>
        </p:nvSpPr>
        <p:spPr>
          <a:xfrm>
            <a:off x="3276720" y="1989000"/>
            <a:ext cx="358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36"/>
          <p:cNvSpPr/>
          <p:nvPr/>
        </p:nvSpPr>
        <p:spPr>
          <a:xfrm>
            <a:off x="2987640" y="119700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826920" y="1341360"/>
            <a:ext cx="2160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900000" y="4365720"/>
            <a:ext cx="2159280" cy="79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Психолог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 rot="16200000">
            <a:off x="-2664360" y="3320280"/>
            <a:ext cx="6120000" cy="288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циально-психологически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539520" y="260280"/>
            <a:ext cx="190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Соци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регул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592800" y="98100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 Black"/>
              </a:rPr>
              <a:t>Соци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 Black"/>
              </a:rPr>
              <a:t>норм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419640" y="1989000"/>
            <a:ext cx="25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Моральное стимул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551640" y="0"/>
            <a:ext cx="2592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Обмен опы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Соревн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058080" y="1413000"/>
            <a:ext cx="30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Моральный коде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Этические струк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6300720" y="2205000"/>
            <a:ext cx="3059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Грам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Почетные з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Публичное призн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Благодар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Похв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3203640" y="62064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3203640" y="227664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3203640" y="1413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3203640" y="620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2987640" y="17002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>
            <a:off x="3492360" y="3645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5580000" y="148428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5435640" y="2205000"/>
            <a:ext cx="576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 flipV="1">
            <a:off x="5508720" y="476280"/>
            <a:ext cx="936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3492360" y="6093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6588000" y="5013360"/>
            <a:ext cx="22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9"/>
          <p:cNvSpPr/>
          <p:nvPr/>
        </p:nvSpPr>
        <p:spPr>
          <a:xfrm flipV="1">
            <a:off x="539640" y="1699920"/>
            <a:ext cx="21600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31"/>
          <p:cNvSpPr/>
          <p:nvPr/>
        </p:nvSpPr>
        <p:spPr>
          <a:xfrm>
            <a:off x="539640" y="3789360"/>
            <a:ext cx="287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32"/>
          <p:cNvSpPr/>
          <p:nvPr/>
        </p:nvSpPr>
        <p:spPr>
          <a:xfrm>
            <a:off x="3059280" y="479736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3"/>
          <p:cNvSpPr/>
          <p:nvPr/>
        </p:nvSpPr>
        <p:spPr>
          <a:xfrm>
            <a:off x="3492360" y="364500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4"/>
          <p:cNvSpPr/>
          <p:nvPr/>
        </p:nvSpPr>
        <p:spPr>
          <a:xfrm>
            <a:off x="3924360" y="285264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Создание положитель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морально-психологического клим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5"/>
          <p:cNvSpPr/>
          <p:nvPr/>
        </p:nvSpPr>
        <p:spPr>
          <a:xfrm>
            <a:off x="3492360" y="4581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36"/>
          <p:cNvSpPr/>
          <p:nvPr/>
        </p:nvSpPr>
        <p:spPr>
          <a:xfrm>
            <a:off x="4054320" y="4313160"/>
            <a:ext cx="32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Системы психологиче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азгру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7"/>
          <p:cNvSpPr/>
          <p:nvPr/>
        </p:nvSpPr>
        <p:spPr>
          <a:xfrm>
            <a:off x="3492360" y="537372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8"/>
          <p:cNvSpPr/>
          <p:nvPr/>
        </p:nvSpPr>
        <p:spPr>
          <a:xfrm>
            <a:off x="4067280" y="5229360"/>
            <a:ext cx="3440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cc"/>
                </a:solidFill>
                <a:latin typeface="Arial"/>
              </a:rPr>
              <a:t>Формирование малых груп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Гуманизация процесса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39"/>
          <p:cNvSpPr/>
          <p:nvPr/>
        </p:nvSpPr>
        <p:spPr>
          <a:xfrm>
            <a:off x="6732720" y="6308640"/>
            <a:ext cx="431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0"/>
          <p:cNvSpPr/>
          <p:nvPr/>
        </p:nvSpPr>
        <p:spPr>
          <a:xfrm>
            <a:off x="7164360" y="5545080"/>
            <a:ext cx="19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Исклю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моното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Расшир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твор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41"/>
          <p:cNvSpPr/>
          <p:nvPr/>
        </p:nvSpPr>
        <p:spPr>
          <a:xfrm flipV="1">
            <a:off x="6804000" y="5805360"/>
            <a:ext cx="289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843588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ринципы управления</a:t>
            </a: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- это свод определенных правил, нормативных актов, которые регулируют поведение работника в процессе управления производством и людьми в конкретных экономических и социальных условиях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e701"/>
                </a:solidFill>
                <a:uFillTx/>
                <a:latin typeface="Arial Black"/>
              </a:rPr>
              <a:t>Процессный подход к управлению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cc"/>
                </a:solidFill>
                <a:latin typeface="Arial Black"/>
              </a:rPr>
              <a:t>Управление – это процесс, серия непрерывных взаимосвязанных действий, каждое из которых – тоже процесс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 Black"/>
              </a:rPr>
              <a:t>Эти действия называют управленческими функция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701"/>
                </a:solidFill>
                <a:latin typeface="Arial Black"/>
              </a:rPr>
              <a:t>ОСНОВНЫЕ ФУНКЦИИ УПРАВЛЕНИЯ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187280" y="2060640"/>
            <a:ext cx="281016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лан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003640" y="2060640"/>
            <a:ext cx="2664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орган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003640" y="3933720"/>
            <a:ext cx="2664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мотив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187280" y="3933720"/>
            <a:ext cx="280836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конт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3995640" y="2708280"/>
            <a:ext cx="100800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667640" y="2708280"/>
            <a:ext cx="57636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8244000" y="2708280"/>
            <a:ext cx="0" cy="194472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 flipH="1">
            <a:off x="7667280" y="4653000"/>
            <a:ext cx="57636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H="1">
            <a:off x="3995640" y="4653000"/>
            <a:ext cx="100800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 flipH="1">
            <a:off x="395280" y="4653000"/>
            <a:ext cx="792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395280" y="2708280"/>
            <a:ext cx="0" cy="194472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395280" y="2708280"/>
            <a:ext cx="72072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1979640" y="544500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e701"/>
                </a:solidFill>
                <a:uFillTx/>
                <a:latin typeface="Arial Black"/>
              </a:rPr>
              <a:t>Связующие процес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коммуника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принятие реш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8002440" cy="488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e701"/>
                </a:solidFill>
                <a:latin typeface="Arial Black"/>
              </a:rPr>
              <a:t>Система</a:t>
            </a: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– это некоторая целостность, состоящая из взаимозависимых частей, каждая из которых вносит свой вклад в характеристики целого.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-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e701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8893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Бараусова Елена Александровна, к.э.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доцент кафедры экономики и менедж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удитория: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15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елефон: (4232)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40 41 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il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: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n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rausov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vsu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barausova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_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elena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@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ail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енний семестр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едель. Лекций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часов,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семинаров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ча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рсовая работа, экзам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e701"/>
                </a:solidFill>
                <a:latin typeface="Arial Black"/>
              </a:rPr>
              <a:t>Системный подход к управлению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132000" y="2781360"/>
            <a:ext cx="3024360" cy="23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Обработка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реобразо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в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(зависит 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эффектив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управл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042920" y="285264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нформ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119240" y="33577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Материа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258920" y="37893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Капит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611280" y="422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Трудовые ресур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900000" y="321300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900000" y="371628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900000" y="458136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900000" y="227664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В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3300120" y="206064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ПРЕ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6999120" y="2276640"/>
            <a:ext cx="21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ВЫ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6211440" y="28004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Продукция / усл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6372360" y="321300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Прибы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6227640" y="3500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Социаль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6156360" y="321300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1"/>
          <p:cNvSpPr/>
          <p:nvPr/>
        </p:nvSpPr>
        <p:spPr>
          <a:xfrm>
            <a:off x="6156360" y="357336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2"/>
          <p:cNvSpPr/>
          <p:nvPr/>
        </p:nvSpPr>
        <p:spPr>
          <a:xfrm>
            <a:off x="6156360" y="414972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6209280" y="409716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Доля ры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>
            <a:off x="6156360" y="450864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5"/>
          <p:cNvSpPr/>
          <p:nvPr/>
        </p:nvSpPr>
        <p:spPr>
          <a:xfrm>
            <a:off x="6231960" y="450864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Удовлетвор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работ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>
            <a:off x="7380360" y="515772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H="1">
            <a:off x="1763640" y="6021360"/>
            <a:ext cx="5616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28"/>
          <p:cNvSpPr/>
          <p:nvPr/>
        </p:nvSpPr>
        <p:spPr>
          <a:xfrm flipV="1">
            <a:off x="1763640" y="4797360"/>
            <a:ext cx="0" cy="1224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9"/>
          <p:cNvSpPr/>
          <p:nvPr/>
        </p:nvSpPr>
        <p:spPr>
          <a:xfrm>
            <a:off x="3635280" y="5589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 Black"/>
              </a:rPr>
              <a:t>Обратная свя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48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Ситуация</a:t>
            </a: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- это конкретный набор внутренних и внешних факторов, которые сильно влияют на организацию в данное конкретное время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e701"/>
                </a:solidFill>
                <a:uFillTx/>
                <a:latin typeface="Arial Black"/>
              </a:rPr>
              <a:t>Методология ситуационного подхода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00000" y="981000"/>
            <a:ext cx="800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уководитель должен быть знаком со средствами профессионального у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Руководитель должен уметь предвидеть вероятные последствия применения данной метод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уководитель должен уметь правильно интерпретировать ситуац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Руководитель должен уметь увязывать конкретные приемы с конкретными ситуаци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552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 Black"/>
              </a:rPr>
              <a:t>Организация</a:t>
            </a: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– это группа людей, деятельность которых сознательно координируется для достижения общих целей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Black"/>
              </a:rPr>
              <a:t>КЛАССИФИКАЦИЯ ОРГАНИЗАЦИЙ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47280" y="2276280"/>
            <a:ext cx="56898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Форм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Неформ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Black"/>
              </a:rPr>
              <a:t>По формам собственности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47640" y="2349360"/>
            <a:ext cx="60595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част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государствен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муницип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друг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По </a:t>
            </a: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отношению к прибыли: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03280" y="2276280"/>
            <a:ext cx="584352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Коммерч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Некоммерч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о </a:t>
            </a: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размерам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10920" y="2708280"/>
            <a:ext cx="3683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крупн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средн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мал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 Black"/>
              </a:rPr>
              <a:t>ОБЩИЕ ХАРАКТЕРИСТИКИ ОРГАНИЗАЦИИ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Ресурсы (люди, капитал, материалы, технология, информац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Зависимость от внешней сре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Разделение тру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горизонтальное –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разделение работы на составные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вертикальное –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деятельность по координированию работы других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Необходимость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РОЛЬ </a:t>
            </a: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– 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это образец действий, ожидаемых от индивида при выполнении деятельности, имеющей отношение к другим людям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РЕКОМЕНДУЕМАЯ ЛИТЕРАТУРА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cc"/>
                </a:solidFill>
                <a:uFillTx/>
                <a:latin typeface="Arial"/>
              </a:rPr>
              <a:t>Основная литер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иханский О.С., Наумов А.И. Менеджмент: Учебник. М.: Гардарика, 200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иханский О.С., Наумов А.И. Практикум по курсу «Менеджмент». М.: Гардарика, 1998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Дафт Р.Л. Менеджмент. СПб.: Питер, 2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 Black"/>
              </a:rPr>
              <a:t>МЕЖЛИЧНОСТНЫЕ РОЛ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ГЛАВА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церемониалы, встреча гостей, подписание юридических докуме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ЛИДЕР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уководство и мотивация подчиненных, обучение, коммуникации с работни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СВЯЗУЮЩЕЕ ЗВЕНО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переписка, участие в совещаниях на стороне, поддержание информационных связей внутри и за пределами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 Black"/>
              </a:rPr>
              <a:t>ИНФОРМАЦИОННЫЕ РОЛ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РИЕМНИК ИНФОРМАЦИИ (НАБЛЮДАТЕЛЬ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обработка всей почты, ознакомительные поездки, личные конта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РАСПРОСТРАНИТЕЛЬ ИНФОРМАЦИИ (ПРОВОДНИК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ассылка почты по организациям, вербальные контакты для передачи информ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РЕДСТАВИТЕЛЬ (ОРАТОР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участие в заседаниях, обращение через средства массовой информации, речи, отчеты, запи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cc"/>
                </a:solidFill>
                <a:uFillTx/>
                <a:latin typeface="Arial Black"/>
              </a:rPr>
              <a:t>РОЛИ, СВЯЗАННЫЕ С ПРИНЯТИЕМ РЕШЕНИЙ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ПРЕДПРИНИМАТЕЛЬ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инициация новых проектов, поиск новых идей, завоевание сторон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УСТРАНЯЮЩИЙ НАРУШЕНИЯ (ПОЖАРНЫЙ)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урегулирование споров, разрешение конфликтов, адаптация к кризисам во внешней сре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РАСПРЕДЕЛИТЕЛЬ РЕСУРСОВ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составление бюджетов, составление графиков работы, расстановка приорит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ВЕДУЩИЙ ПЕРЕГОВОРЫ (ПОСРЕДНИК)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ведение переговоров, представление интересов своей орган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Уровни управления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 flipH="1">
            <a:off x="1547280" y="1413000"/>
            <a:ext cx="2953080" cy="410364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4500720" y="1413000"/>
            <a:ext cx="3166920" cy="410364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1547640" y="5516640"/>
            <a:ext cx="6120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2268360" y="4508640"/>
            <a:ext cx="460872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3132000" y="3357720"/>
            <a:ext cx="2880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810240" y="2284560"/>
            <a:ext cx="145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Инст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туциона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2930400" y="3778200"/>
            <a:ext cx="32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Управлен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449160" y="4797360"/>
            <a:ext cx="21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Техн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2124000" y="981000"/>
            <a:ext cx="6624720" cy="4176720"/>
          </a:xfrm>
          <a:prstGeom prst="rect">
            <a:avLst/>
          </a:prstGeom>
          <a:solidFill>
            <a:srgbClr val="3366cc"/>
          </a:solidFill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2124000" y="3068640"/>
            <a:ext cx="66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2124000" y="2060640"/>
            <a:ext cx="66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2124000" y="4076640"/>
            <a:ext cx="66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3419280" y="981000"/>
            <a:ext cx="1439640" cy="417672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 flipH="1">
            <a:off x="4427280" y="4076640"/>
            <a:ext cx="360360" cy="108108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 flipH="1">
            <a:off x="6300360" y="981000"/>
            <a:ext cx="1079640" cy="309564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2195640" y="1341360"/>
            <a:ext cx="266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Концепт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4578840" y="2305080"/>
            <a:ext cx="17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Челове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6881760" y="3529080"/>
            <a:ext cx="162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cc"/>
                </a:solidFill>
                <a:latin typeface="Arial Black"/>
              </a:rPr>
              <a:t>Техн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cc"/>
                </a:solidFill>
                <a:latin typeface="Arial Black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4788000" y="4076640"/>
            <a:ext cx="1512720" cy="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6"/>
          <p:cNvSpPr/>
          <p:nvPr/>
        </p:nvSpPr>
        <p:spPr>
          <a:xfrm>
            <a:off x="2124000" y="2060640"/>
            <a:ext cx="2376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7"/>
          <p:cNvSpPr/>
          <p:nvPr/>
        </p:nvSpPr>
        <p:spPr>
          <a:xfrm>
            <a:off x="2124000" y="3068640"/>
            <a:ext cx="201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8"/>
          <p:cNvSpPr/>
          <p:nvPr/>
        </p:nvSpPr>
        <p:spPr>
          <a:xfrm>
            <a:off x="2124000" y="4076640"/>
            <a:ext cx="1656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19"/>
          <p:cNvSpPr/>
          <p:nvPr/>
        </p:nvSpPr>
        <p:spPr>
          <a:xfrm>
            <a:off x="4500720" y="2060640"/>
            <a:ext cx="2519280" cy="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0"/>
          <p:cNvSpPr/>
          <p:nvPr/>
        </p:nvSpPr>
        <p:spPr>
          <a:xfrm>
            <a:off x="4140360" y="3068640"/>
            <a:ext cx="2519280" cy="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21"/>
          <p:cNvSpPr/>
          <p:nvPr/>
        </p:nvSpPr>
        <p:spPr>
          <a:xfrm>
            <a:off x="3780000" y="4076640"/>
            <a:ext cx="1008000" cy="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22"/>
          <p:cNvSpPr/>
          <p:nvPr/>
        </p:nvSpPr>
        <p:spPr>
          <a:xfrm>
            <a:off x="7020000" y="2060640"/>
            <a:ext cx="172872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23"/>
          <p:cNvSpPr/>
          <p:nvPr/>
        </p:nvSpPr>
        <p:spPr>
          <a:xfrm>
            <a:off x="6659640" y="3068640"/>
            <a:ext cx="208908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24"/>
          <p:cNvSpPr/>
          <p:nvPr/>
        </p:nvSpPr>
        <p:spPr>
          <a:xfrm>
            <a:off x="6300720" y="4076640"/>
            <a:ext cx="244800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5"/>
          <p:cNvSpPr/>
          <p:nvPr/>
        </p:nvSpPr>
        <p:spPr>
          <a:xfrm>
            <a:off x="154440" y="404640"/>
            <a:ext cx="26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Уровни упра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6"/>
          <p:cNvSpPr/>
          <p:nvPr/>
        </p:nvSpPr>
        <p:spPr>
          <a:xfrm>
            <a:off x="547920" y="141300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Высш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7"/>
          <p:cNvSpPr/>
          <p:nvPr/>
        </p:nvSpPr>
        <p:spPr>
          <a:xfrm>
            <a:off x="470520" y="242100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Сред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28"/>
          <p:cNvSpPr/>
          <p:nvPr/>
        </p:nvSpPr>
        <p:spPr>
          <a:xfrm>
            <a:off x="536040" y="342900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Низш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9"/>
          <p:cNvSpPr/>
          <p:nvPr/>
        </p:nvSpPr>
        <p:spPr>
          <a:xfrm>
            <a:off x="115200" y="4221000"/>
            <a:ext cx="20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Неруководя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работ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(персона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Спасибо за внимание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97" name="Picture 3" descr="BD04924_"/>
          <p:cNvPicPr/>
          <p:nvPr/>
        </p:nvPicPr>
        <p:blipFill>
          <a:blip r:embed="rId1"/>
          <a:stretch/>
        </p:blipFill>
        <p:spPr>
          <a:xfrm>
            <a:off x="3352680" y="3048120"/>
            <a:ext cx="2525760" cy="340668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701"/>
                </a:solidFill>
                <a:latin typeface="Arial Black"/>
              </a:rPr>
              <a:t>Дополнительная литература</a:t>
            </a:r>
            <a:r>
              <a:rPr b="1" lang="ru-RU" sz="3200" spc="-1" strike="noStrike">
                <a:solidFill>
                  <a:srgbClr val="ffe701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одди Д., Пэйтон Р. Основы менеджмента. СПб., 199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Мескон М., Альберт М., Хедоури Ф. Основы менеджмента. М., 199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Фалмер Р. Энциклопедия современного управления. В 5-ти т. М., 199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История менеджмента: Учебное пособие / Под ред. Д.В. Валового. М., 199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18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Тема </a:t>
            </a: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1</a:t>
            </a: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. </a:t>
            </a:r>
            <a:br>
              <a:rPr sz="4000"/>
            </a:b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ВВЕДЕНИЕ В</a:t>
            </a:r>
            <a:r>
              <a:rPr b="0" lang="en-US" sz="4000" spc="-1" strike="noStrike">
                <a:solidFill>
                  <a:srgbClr val="ffe701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МЕНЕДЖМЕНТ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20" descr="j0283209"/>
          <p:cNvPicPr/>
          <p:nvPr/>
        </p:nvPicPr>
        <p:blipFill>
          <a:blip r:embed="rId1"/>
          <a:stretch/>
        </p:blipFill>
        <p:spPr>
          <a:xfrm>
            <a:off x="2627280" y="2852640"/>
            <a:ext cx="3959280" cy="36720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701"/>
                </a:solidFill>
                <a:latin typeface="Arial Black"/>
              </a:rPr>
              <a:t>План лекци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Общая характеристика  менедж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Организация как объект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Функции и роли руковод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Уровни управления в орган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28036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 Black"/>
              </a:rPr>
              <a:t>Менеджмент </a:t>
            </a:r>
            <a:r>
              <a:rPr b="0" lang="ru-RU" sz="3600" spc="-1" strike="noStrike">
                <a:solidFill>
                  <a:srgbClr val="ffffcc"/>
                </a:solidFill>
                <a:latin typeface="Arial Black"/>
              </a:rPr>
              <a:t>–</a:t>
            </a: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это эффективное и производительное достижение целей организации посредством планирования, организации, руководства и контроля над организационными ресурсами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"/>
              </a:rPr>
              <a:t>Элементы управления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701"/>
                </a:solidFill>
                <a:latin typeface="Arial Black"/>
              </a:rPr>
              <a:t>решение о поставленной цели и планирование деятельности по ее достиж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аспределение времени и действий, необходимых для решения задач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701"/>
                </a:solidFill>
                <a:latin typeface="Arial Black"/>
              </a:rPr>
              <a:t>мотивация (побуждение) к действия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координация отдельных, но взаимосвязанных действ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701"/>
                </a:solidFill>
                <a:latin typeface="Arial Black"/>
              </a:rPr>
              <a:t>осуществление контроля над тем, что сделано, с целью проверки соответствия  результатов намеченным план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04000" cy="53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редметом</a:t>
            </a:r>
            <a:r>
              <a:rPr b="0" lang="ru-RU" sz="3600" spc="-1" strike="noStrike">
                <a:solidFill>
                  <a:srgbClr val="ffffcc"/>
                </a:solidFill>
                <a:latin typeface="Arial Black"/>
              </a:rPr>
              <a:t> изучения науки управления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являются отношения между людьми, возникающие по поводу согласования в пространстве и времени производственных ресурсов для достижения поставленной цели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3:57:59Z</dcterms:created>
  <dc:creator>HOME</dc:creator>
  <dc:description/>
  <dc:language>en-US</dc:language>
  <cp:lastModifiedBy>LEGION</cp:lastModifiedBy>
  <dcterms:modified xsi:type="dcterms:W3CDTF">2016-01-11T10:03:16Z</dcterms:modified>
  <cp:revision>131</cp:revision>
  <dc:subject/>
  <dc:title>Основы менеджмента</dc:title>
</cp:coreProperties>
</file>