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0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1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12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D406-866E-4E74-9A49-27F9E7D506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ГОУ  ВПО  «Финансовая академ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равительстве Российской Федерац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ОСНОВЫ  ПСИХОЛОГ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  проф.   В.С. Трипольского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B109-74EE-4889-A03C-59E7FAE336C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сихическое состоя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пределившийся в данное время относительно устойчивый уровень психической деятельности, который проявляется в повышенной или пониженной активности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изученными являю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общее психическое состояние, например внимание, проявляющееся на уровне активной сосредоточенности или рассеянн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эмоциональные состояния, или настроения (жизнерадост-ное, восторженное, грустное, печальное, гневное, и т.д.). Интересные исследования имеются об особом, творческом, состоянии личности, которое называют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вдохнов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DB17-20AD-492D-B5A1-04FE7C169FA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ими и устойчивыми регуляторами психической деятельности являю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свойства лич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устойчивые образования, обеспечивающие определенный качественно-количест-венный уровень деятельности и поведения, типичный для данного чело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ое психическое свойство формируется постепенно в процессе отражения и закрепляется в практике. Оно, следовательно, является результатом отражательной и практической деяте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C8BD-6331-47CA-9AA5-78334113B16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Тема 2.   Чувственные формы освоения действи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щущение как элементарная форма отражения реальности. Классификация ощущений. Общие свойства ощущений. Развитие ощущений в процессе деятельности человека: адаптация, сенсибилизация, синестез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ятие и его свойства. Восприятие пространства и движения. Восприятие времени. Нарушения восприятия – гиперстезия, галлюцинации, аффективные, вербальные и перейдолические иллюз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ние и его основные свойства: устойчивость, концентрация и распределение, переключаемость и объем. Виды вним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AC95-8ED1-49A2-8F82-1B338C6C87A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Ощущ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наиболее элементарный психический процесс, заключающийся в психическом отражен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тдельных свойст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ов и явлений, непосредственно воздействующих на органы чув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Классификация ощущений по модальности органов чув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Зрите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Слух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Такти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Вкус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Обоняте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9246-5BDE-4A0A-B966-306495A71B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Классификация ощущений п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)способу воздействия раздражителя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) времени возникновения в филогенезе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3) функци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4) по расположению рецептивных  по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33F6-BA93-4642-A808-D255376322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йства ощущ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рог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абсолютный нижний (порог обнаружения)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ая интенсивность раздражителя, вызывающего едва заметное ощущ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абсолютный верхний (терминальный)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имально допустимая величина внешнего раздражител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ифференциальный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ое различие между двумя раздражителями, которые воспринимаются как различающиеся по ощуще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аптация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органов чувств приспосабливаться к новому или изменившему интенсивность сигна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нсибилизация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чувствительности,  снижение порог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нестезия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чески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щущения, возникающие  при совместной работе нескольких анализаторов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3752-5FB6-45E9-B571-1CFA3351146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осприяти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ерцепция) – воссоздани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целостных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зов объектов (предметов, ситуаций и т.д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Классификация по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ffff00"/>
                </a:solidFill>
                <a:latin typeface="Arial"/>
              </a:rPr>
              <a:t>модальности ведущего рецептор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рительное, слуховое, тактильное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Классификация по </a:t>
            </a:r>
            <a:r>
              <a:rPr b="1" i="1" lang="ru-RU" sz="1200" spc="-1" strike="noStrike">
                <a:solidFill>
                  <a:srgbClr val="ffff00"/>
                </a:solidFill>
                <a:latin typeface="Arial"/>
              </a:rPr>
              <a:t>содержанию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ятие формы, цвета, пространства, движения,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A73E-093B-4BDC-A436-D059DE822CA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Свойства вос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Константность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ство восприятия формы, размера и цвета предметов окружающего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Предметность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есенность всех полученных с помощью органов чувств сведений о внешнем мире к самим предметам (а, например, не к рецепторам или структурам мозг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Целостность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воспринимать всякий объект, предметную ситуацию как устойчивое системное целое, даже, если некоторые части этого целого в данный момент не могут быть наблюда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Категориальность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(осмысленность)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есение воспринимаемых объектов к определенной категории, группе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Избирательность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ие из сенсорного поля каких-либо объектов (или их частей) и признаков. «Фигура» и «фон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63FD-A588-4710-99D9-BDEA01AB209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Иллюзии восприятия 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искаженное восприятие реальных предме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Связанные со строением глаза (светлые предметы кажутся большими, чем темные – иррадиация возбуждения в сетчатк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ереоценка длины вертикальных ли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Иллюзии контраста (не только зрительны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Перенесение свойств фигуры на отдельные ее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Искажение направлений линий за счет штриховки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E663-C57B-41FE-ADA7-4ABD337185F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Зрительные иллюзии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тикальные параллельные линии, пересекаемые короткими косыми, кажутся расходящимися (иллюзия Цельнер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B7EE-BE2A-4F08-BE92-F23FF6B1870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Зрительные иллюзии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тикальные параллельные линии, пересекаемые короткими косыми, кажутся расходящимися (иллюзия Цельнер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FCB8-FE63-450E-B7F4-ACAD48E4EB8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Иллюзия Эббингау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1BEB-406E-4857-96BB-ECF93CF27B8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Иллюзия Мюллера-Лай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25A6-B31C-4FFD-8352-23D8248ECBB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Иллюзии зрительного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1C83-203A-48A6-8727-596F09C926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Тема 3.   Рациональные формы освоения </a:t>
            </a:r>
            <a:br>
              <a:rPr sz="1200"/>
            </a:b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                действи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мя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ш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ч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евые процес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38B7-3AE2-4397-A862-62CA0190FC1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амя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способность к сохранению, накоплению и воспроизведению информ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ез памяти мы были бы существами мгновения. Наше прошлое было бы мертво для будущего. Настоящее по мере его протекания безвозвратно исчезало бы в прошлом, не было бы психической жизни смыкающейся в единстве личного сознания, и невозможен был бы факт по существу непрерывного учения, проходящий через всю нашу жизнь и делающий нас тем, что мы ест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Л.Рубинштей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814E-0EEA-46C4-ACE4-365FB008B92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иды памя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типу запоминаемого материала: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двигательная, образная (слуховая, зрительная, тактильная), словесно-логиче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характеру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целей деятельности: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непроизвольная и произво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ремен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сенсорная (иконическая, эхоическая), кратковременная (до 20 сек.) , долговременная (практически бесконечная;), оперативная, или рабочая (время определяется задачей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FAAD-A7D6-4B3F-9DB5-D19C191EFD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11E0-5707-4211-A966-54ABA8AF3F7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66"/>
                </a:solidFill>
                <a:latin typeface="Arial"/>
              </a:rPr>
              <a:t>«</a:t>
            </a:r>
            <a:r>
              <a:rPr b="0" i="1" lang="ru-RU" sz="3800" spc="-1" strike="noStrike">
                <a:solidFill>
                  <a:srgbClr val="ffff66"/>
                </a:solidFill>
                <a:latin typeface="Arial"/>
              </a:rPr>
              <a:t>Человек – животное общественное</a:t>
            </a:r>
            <a:r>
              <a:rPr b="0" lang="ru-RU" sz="3800" spc="-1" strike="noStrike">
                <a:solidFill>
                  <a:srgbClr val="ffff66"/>
                </a:solidFill>
                <a:latin typeface="Arial"/>
              </a:rPr>
              <a:t>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66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Аристотель (384 </a:t>
            </a:r>
            <a:r>
              <a:rPr b="0" i="1" lang="ru-RU" sz="2400" spc="-1" strike="noStrike">
                <a:solidFill>
                  <a:srgbClr val="ffff66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 322 до н.э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D58E-51D7-4BA7-8713-87947DA5863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Arial"/>
              </a:rPr>
              <a:t>План ле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8F16-308E-4CA0-8715-33FA77B9E62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Тема 1.   Предмет психологии, задачи и мет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явлений, которые изучает современная псих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психических яв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развития психологического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современного  психологического знания и основные направления в псих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сихологического ис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практического применения психологических знаний и методов в сфере экономики и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ECD3-752A-4C53-A998-3A44CEBDA5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классификации наук академика А. Кедрова психология занимает центральное место не только как продукт всех других наук, но и как возможный источник объяснения их формирования и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я интегрирует все данные этих наук и в свою очередь влияет на них, становясь общей моделью человекознания. Психологию следует рассматривать как научное исследование поведения и умственной деятельности человека, а также практическое применение приобретенных зн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D211-32F0-492D-B11D-12F057789E5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Тема 1.   Предмет психологии, задачи и мет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явлений, которые изучает современная псих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психических яв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развития психологического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современного  психологического знания и основные направления в псих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сихологического ис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практического применения психологических знаний и методов в сфере экономики и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1A76-322A-4094-B796-B683254F4A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ика сложна и многообразна по своим проявлениям. Обычно выделяют три крупные группы психических явлений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сихические процесс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сихические состоя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психические свой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6919-C12E-45DD-895C-65D84F254B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Психические процессы – динамическое отражение действительности в различных формах психических яв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сихический процесс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течение психического явления, имеющего начало, развитие и конец, проявляющееся в виде реакции. При этом нужно иметь в виду, что конец психического процесса тесно связан с началом нового процесса. Отсюда непрерывность психической деятельности в состоянии бодрствования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1BCF-D656-4D4C-B2F3-9863EE8C068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B96B-384C-4268-8CB3-DC6C1EB9A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D408-264D-458F-B725-6D50488C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D589-D83C-4D17-9157-B6F844CE5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82F1-2035-4460-AE6F-A3613F457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B3DC-A586-49F6-94DE-0F4DBDE59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5D9B-8DBC-4267-8177-0487A06A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9E0A-8019-4CB1-8DAE-0C248A2B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111E-5FD0-41A8-A0BA-43DF60CE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E93D-712F-4EC9-A1D3-08F551D5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FB7F-6503-421B-90C8-3DC2A590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551E-112A-42B5-9185-45815BE3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D13C-B396-4280-BE55-5869832A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2DFB-EC73-4041-9D08-F0417609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A345-1601-419F-99E3-289EF786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27AD-CC75-435A-ABAD-372D1362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77255-4916-4653-BA6D-E01DD15E6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DAC0-8174-4E57-8536-40EDEE058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4C266-E54E-47EF-9EFD-9801923BB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4BB66-247B-4977-AA81-3AC91216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D0C9E-A444-4AD7-AD23-EBAAE8BF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70F47-F2AD-4690-8E4F-767ABF0A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1991F-095F-43F6-8B78-0612514C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9147-F437-4326-8DEB-0CE61694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8C084-1306-46F1-9C1D-C1916F4B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A0285-534D-467C-9395-EFCF77CA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C05FD-9BB6-496B-846D-A5631323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82B30-39D1-4EAD-A664-60658C5A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C2CB6-B474-4732-B9A5-215DC530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B6392-731D-48F0-89BA-788D51885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EA0B9-15D4-417A-B96D-1018E0C58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7776-5A78-418D-8C7D-C0A36BAB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31FA-27B2-4C88-A787-ED335C09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6573-0374-48AA-A47C-FF966D55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69C5-278E-48F2-BE5B-C574DD6F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601A-0165-4109-9576-19518271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DF08-67F0-4EF5-9345-698535C8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7FF3-9E85-4F04-8169-49FC5898292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B168-4F2C-4AE2-9257-3C093B53A07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15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4904-EDCB-4064-B750-580B98EAC27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8120" y="412920"/>
            <a:ext cx="6469200" cy="112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ГОУ  ВПО  «Финансовая академия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Правительстве Российской Федерации»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09160" y="2484000"/>
            <a:ext cx="874548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Arial"/>
              </a:rPr>
              <a:t>ОСНОВЫ  ПСИХОЛОГИИ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екция  проф.   В.С. Трипольского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4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Picture 4" descr="логотип зел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64960" y="228600"/>
            <a:ext cx="1920960" cy="1627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2120" y="1376280"/>
            <a:ext cx="870912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сихическое состоя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определившийся в данное время относительно устойчивый уровень психической деятельности, который проявляется в повышенной или пониженной активности лично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иболее изученными являются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) общее психическое состояние, например внимание, проявляющееся на уровне активной сосредоточенности или рассеянности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) эмоциональные состояния, или настроения (жизнерадост-ное, восторженное, грустное, печальное, гневное, и т.д.). Интересные исследования имеются об особом, творческом, состоянии личности, которое называют </a:t>
            </a:r>
            <a:r>
              <a:rPr b="0" lang="ru-RU" sz="2400" spc="-1" strike="noStrike">
                <a:solidFill>
                  <a:srgbClr val="ffff66"/>
                </a:solidFill>
                <a:latin typeface="Garamond"/>
              </a:rPr>
              <a:t>вдохновение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сшими и устойчивыми регуляторами психической деятельности являютс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войства личнос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устойчивые образования, обеспечивающие определенный качественно-количест-венный уровень деятельности и поведения, типичный для данного человек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ое психическое свойство формируется постепенно в процессе отражения и закрепляется в практике. Оно, следовательно, является результатом отражательной и практической деятельност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12320" y="252000"/>
            <a:ext cx="71564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Тема 2.   Чувственные формы освоения действительности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2120" y="1623960"/>
            <a:ext cx="87091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щущение как элементарная форма отражения реальности. Классификация ощущений. Общие свойства ощущений. Развитие ощущений в процессе деятельности человека: адаптация, сенсибилизация, синестез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приятие и его свойства. Восприятие пространства и движения. Восприятие времени. Нарушения восприятия – гиперстезия, галлюцинации, аффективные, вербальные и перейдолические иллюзи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имание и его основные свойства: устойчивость, концентрация и распределение, переключаемость и объем. Виды вним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2208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щущения</a:t>
            </a:r>
            <a:r>
              <a:rPr b="0" lang="ru-RU" sz="2400" spc="-1" strike="noStrike">
                <a:solidFill>
                  <a:srgbClr val="b9efe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наиболее элементарный психический процесс, заключающийся в психическом отражении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тдельных свойств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метов и явлений, непосредственно воздействующих на органы чу</a:t>
            </a:r>
            <a:r>
              <a:rPr b="0" lang="ru-RU" sz="2400" spc="-1" strike="noStrike">
                <a:solidFill>
                  <a:srgbClr val="b9efee"/>
                </a:solidFill>
                <a:latin typeface="Arial"/>
              </a:rPr>
              <a:t>вств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67760" y="1600200"/>
            <a:ext cx="8975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Классификация ощущений по модальности органов чувств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Зрительн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Слухов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Тактильн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Вкусов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Обонятельн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41120"/>
            <a:ext cx="8229600" cy="1633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Garamond"/>
              </a:rPr>
              <a:t>Классификация ощущений по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1)способу воздействия раздражителя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2) времени возникновения в филогенезе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3) функции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4) по расположению рецептивных  полей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22" name="Organization Chart 2"/>
          <p:cNvGrpSpPr/>
          <p:nvPr/>
        </p:nvGrpSpPr>
        <p:grpSpPr>
          <a:xfrm>
            <a:off x="466560" y="2302200"/>
            <a:ext cx="8208720" cy="3715560"/>
            <a:chOff x="466560" y="2302200"/>
            <a:chExt cx="8208720" cy="3715560"/>
          </a:xfrm>
        </p:grpSpPr>
        <p:cxnSp>
          <p:nvCxnSpPr>
            <p:cNvPr id="223" name="_s1028"/>
            <p:cNvCxnSpPr>
              <a:stCxn id="224" idx="1"/>
              <a:endCxn id="225" idx="2"/>
            </p:cNvCxnSpPr>
            <p:nvPr/>
          </p:nvCxnSpPr>
          <p:spPr>
            <a:xfrm rot="10800000">
              <a:off x="5810040" y="4707000"/>
              <a:ext cx="255960" cy="437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6" name="_s1029"/>
            <p:cNvCxnSpPr>
              <a:stCxn id="227" idx="1"/>
              <a:endCxn id="228" idx="2"/>
            </p:cNvCxnSpPr>
            <p:nvPr/>
          </p:nvCxnSpPr>
          <p:spPr>
            <a:xfrm rot="10800000">
              <a:off x="2689920" y="4707000"/>
              <a:ext cx="255960" cy="1092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9" name="_s1030"/>
            <p:cNvCxnSpPr>
              <a:stCxn id="230" idx="1"/>
              <a:endCxn id="228" idx="2"/>
            </p:cNvCxnSpPr>
            <p:nvPr/>
          </p:nvCxnSpPr>
          <p:spPr>
            <a:xfrm rot="10800000">
              <a:off x="2689920" y="4707000"/>
              <a:ext cx="255960" cy="437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1" name="_s1031"/>
            <p:cNvCxnSpPr>
              <a:stCxn id="225" idx="1"/>
              <a:endCxn id="232" idx="2"/>
            </p:cNvCxnSpPr>
            <p:nvPr/>
          </p:nvCxnSpPr>
          <p:spPr>
            <a:xfrm rot="10800000">
              <a:off x="4353120" y="4052160"/>
              <a:ext cx="255960" cy="438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3" name="_s1032"/>
            <p:cNvCxnSpPr>
              <a:stCxn id="228" idx="1"/>
              <a:endCxn id="234" idx="2"/>
            </p:cNvCxnSpPr>
            <p:nvPr/>
          </p:nvCxnSpPr>
          <p:spPr>
            <a:xfrm rot="10800000">
              <a:off x="1232280" y="4052160"/>
              <a:ext cx="255960" cy="438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5" name="_s1033"/>
            <p:cNvCxnSpPr>
              <a:stCxn id="232" idx="0"/>
              <a:endCxn id="236" idx="2"/>
            </p:cNvCxnSpPr>
            <p:nvPr/>
          </p:nvCxnSpPr>
          <p:spPr>
            <a:xfrm flipH="1" flipV="1" rot="5400000">
              <a:off x="5132520" y="2616480"/>
              <a:ext cx="219240" cy="1777320"/>
            </a:xfrm>
            <a:prstGeom prst="bentConnector3">
              <a:avLst>
                <a:gd name="adj1" fmla="val 495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7" name="_s1034"/>
            <p:cNvCxnSpPr>
              <a:stCxn id="234" idx="0"/>
              <a:endCxn id="238" idx="2"/>
            </p:cNvCxnSpPr>
            <p:nvPr/>
          </p:nvCxnSpPr>
          <p:spPr>
            <a:xfrm flipH="1" flipV="1" rot="5400000">
              <a:off x="2012760" y="2615760"/>
              <a:ext cx="219240" cy="1779120"/>
            </a:xfrm>
            <a:prstGeom prst="bentConnector3">
              <a:avLst>
                <a:gd name="adj1" fmla="val 495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9" name="_s1035"/>
            <p:cNvCxnSpPr>
              <a:stCxn id="236" idx="0"/>
              <a:endCxn id="240" idx="2"/>
            </p:cNvCxnSpPr>
            <p:nvPr/>
          </p:nvCxnSpPr>
          <p:spPr>
            <a:xfrm flipV="1" rot="16200000">
              <a:off x="5240160" y="2068200"/>
              <a:ext cx="219240" cy="15606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1" name="_s1036"/>
            <p:cNvCxnSpPr>
              <a:stCxn id="238" idx="0"/>
              <a:endCxn id="240" idx="2"/>
            </p:cNvCxnSpPr>
            <p:nvPr/>
          </p:nvCxnSpPr>
          <p:spPr>
            <a:xfrm flipH="1" flipV="1" rot="5400000">
              <a:off x="3681360" y="2068920"/>
              <a:ext cx="219240" cy="1559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40" name="_s1037"/>
            <p:cNvSpPr/>
            <p:nvPr/>
          </p:nvSpPr>
          <p:spPr>
            <a:xfrm>
              <a:off x="3457440" y="2302200"/>
              <a:ext cx="2225520" cy="437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Тип ощущений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_s1038"/>
            <p:cNvSpPr/>
            <p:nvPr/>
          </p:nvSpPr>
          <p:spPr>
            <a:xfrm>
              <a:off x="2087280" y="2958480"/>
              <a:ext cx="1845720" cy="437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Контактны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_s1039"/>
            <p:cNvSpPr/>
            <p:nvPr/>
          </p:nvSpPr>
          <p:spPr>
            <a:xfrm>
              <a:off x="5207400" y="2958480"/>
              <a:ext cx="1845720" cy="437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Arial"/>
                </a:rPr>
                <a:t>Дистантны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_s1040"/>
            <p:cNvSpPr/>
            <p:nvPr/>
          </p:nvSpPr>
          <p:spPr>
            <a:xfrm>
              <a:off x="466560" y="3615120"/>
              <a:ext cx="1533240" cy="437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Arial"/>
                </a:rPr>
                <a:t>Палео-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_s1041"/>
            <p:cNvSpPr/>
            <p:nvPr/>
          </p:nvSpPr>
          <p:spPr>
            <a:xfrm>
              <a:off x="3587040" y="3615120"/>
              <a:ext cx="1533240" cy="437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Arial"/>
                </a:rPr>
                <a:t>Нео-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_s1042"/>
            <p:cNvSpPr/>
            <p:nvPr/>
          </p:nvSpPr>
          <p:spPr>
            <a:xfrm>
              <a:off x="1488600" y="4271760"/>
              <a:ext cx="2403000" cy="4359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Констатирующи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_s1043"/>
            <p:cNvSpPr/>
            <p:nvPr/>
          </p:nvSpPr>
          <p:spPr>
            <a:xfrm>
              <a:off x="4609440" y="4271760"/>
              <a:ext cx="2403000" cy="4359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Упреждающи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_s1044"/>
            <p:cNvSpPr/>
            <p:nvPr/>
          </p:nvSpPr>
          <p:spPr>
            <a:xfrm>
              <a:off x="2946240" y="4926600"/>
              <a:ext cx="2608920" cy="436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Arial"/>
                </a:rPr>
                <a:t>Интеро(ре)цептивные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1045"/>
            <p:cNvSpPr/>
            <p:nvPr/>
          </p:nvSpPr>
          <p:spPr>
            <a:xfrm>
              <a:off x="2946240" y="5581800"/>
              <a:ext cx="2608920" cy="4359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Arial"/>
                </a:rPr>
                <a:t>Проприо(ре)цептивные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_s1046"/>
            <p:cNvSpPr/>
            <p:nvPr/>
          </p:nvSpPr>
          <p:spPr>
            <a:xfrm>
              <a:off x="6066360" y="4926600"/>
              <a:ext cx="2608920" cy="436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Arial"/>
                </a:rPr>
                <a:t>Экстеро(ре)цептивные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Свойства ощущений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роги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бсолютный нижний (порог обнаружения)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инимальная интенсивность раздражителя, вызывающего едва заметное ощущение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бсолютный верхний (терминальный)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ксимально допустимая величина внешнего раздражителя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дифференциальный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инимальное различие между двумя раздражителями, которые воспринимаются как различающиеся по ощущения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даптация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особность органов чувств приспосабливаться к новому или изменившему интенсивность сигналу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сибилизация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ышение чувствительности,  снижение порога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нестезия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ецифическ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щущения, возникающие  при совместной работе нескольких анализаторов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Восприятие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перцепция) – воссоздание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целостных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бразов объектов (предметов, ситуаций и т.д.)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17720"/>
            <a:ext cx="8229600" cy="41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лассификация по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модальности ведущего рецептора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рительное, слуховое, тактильное и т.д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лассификация по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содержанию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приятие формы, цвета, пространства, движения, времен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8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Garamond"/>
              </a:rPr>
              <a:t>Свойства восприятия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082520"/>
            <a:ext cx="8229600" cy="552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онстантност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оянство восприятия формы, размера и цвета предметов окружающего ми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редметность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–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несенность всех полученных с помощью органов чувств сведений о внешнем мире к самим предметам (а, например, не к рецепторам или структурам мозга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Целостност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особность воспринимать всякий объект, предметную ситуацию как устойчивое системное целое, даже, если некоторые части этого целого в данный момент не могут быть наблюдаем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атегориальност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(осмысленность)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несение воспринимаемых объектов к определенной категории, группе объекто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Избирательност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деление из сенсорного поля каких-либо объектов (или их частей) и признаков. «Фигура» и «фон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ллюзии восприятия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–</a:t>
            </a:r>
            <a:r>
              <a:rPr b="0" lang="ru-RU" sz="4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искаженное восприятие реальных предметов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002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 Связанные со строением глаза (светлые предметы кажутся большими, чем темные – иррадиация возбуждения в сетчатке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 Переоценка длины вертикальных лин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Иллюзии контраста (не только зрительные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) Перенесение свойств фигуры на отдельные ее ча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) Искажение направлений линий за счет штриховки и др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12320" y="252000"/>
            <a:ext cx="7156440" cy="77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Garamond"/>
              </a:rPr>
              <a:t>Зрительные иллюзии восприятия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2120" y="1623960"/>
            <a:ext cx="87091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ертикальные параллельные линии, пересекаемые короткими косыми, кажутся расходящимися (иллюзия Цельнера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7" name="Рисунок 5" descr="http://tvorim.e-gloryon.com/userdata/images/celner.jpg"/>
          <p:cNvPicPr/>
          <p:nvPr/>
        </p:nvPicPr>
        <p:blipFill>
          <a:blip r:embed="rId1"/>
          <a:stretch/>
        </p:blipFill>
        <p:spPr>
          <a:xfrm>
            <a:off x="2914560" y="2759040"/>
            <a:ext cx="3313080" cy="366732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PB1221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4"/>
          <p:cNvSpPr/>
          <p:nvPr/>
        </p:nvSpPr>
        <p:spPr>
          <a:xfrm>
            <a:off x="539640" y="239760"/>
            <a:ext cx="836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Как экономистам объяснить что такое человек, почему он активен, что им движет? Человеческий организм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НЕ НАБОР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дифференцированных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ЧАСТЕЙ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12320" y="252000"/>
            <a:ext cx="7156440" cy="77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Garamond"/>
              </a:rPr>
              <a:t>Зрительные иллюзии восприятия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2120" y="1623960"/>
            <a:ext cx="87091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ертикальные параллельные линии, пересекаемые короткими косыми, кажутся расходящимися (иллюзия Цельнера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Garamond"/>
              </a:rPr>
              <a:t>Иллюзия Эббингауз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63" name="Picture 5" descr="classic-5-1"/>
          <p:cNvPicPr/>
          <p:nvPr/>
        </p:nvPicPr>
        <p:blipFill>
          <a:blip r:embed="rId1"/>
          <a:stretch/>
        </p:blipFill>
        <p:spPr>
          <a:xfrm>
            <a:off x="2428920" y="2124000"/>
            <a:ext cx="4627440" cy="3043440"/>
          </a:xfrm>
          <a:prstGeom prst="rect">
            <a:avLst/>
          </a:prstGeom>
          <a:ln w="0">
            <a:noFill/>
          </a:ln>
        </p:spPr>
      </p:pic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Garamond"/>
              </a:rPr>
              <a:t>Иллюзия Мюллера-Лайер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66" name="Picture 5" descr="classic-1a-1"/>
          <p:cNvPicPr/>
          <p:nvPr/>
        </p:nvPicPr>
        <p:blipFill>
          <a:blip r:embed="rId1"/>
          <a:stretch/>
        </p:blipFill>
        <p:spPr>
          <a:xfrm>
            <a:off x="2666880" y="2428920"/>
            <a:ext cx="3810240" cy="286704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12320" y="252000"/>
            <a:ext cx="7156440" cy="77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Иллюзии зрительного восприятия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22120" y="1623960"/>
            <a:ext cx="870912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3351240" y="1927080"/>
            <a:ext cx="5641920" cy="39546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C:\Documents and Settings\VST\Рабочий стол\Иллюстрации\Иллюзия-01.jpg"/>
          <p:cNvPicPr/>
          <p:nvPr/>
        </p:nvPicPr>
        <p:blipFill>
          <a:blip r:embed="rId2"/>
          <a:stretch/>
        </p:blipFill>
        <p:spPr>
          <a:xfrm>
            <a:off x="270000" y="1933560"/>
            <a:ext cx="3039840" cy="395928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Garamond"/>
              </a:rPr>
              <a:t>Тема 3.   Рациональные формы освоения 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Garamond"/>
              </a:rPr>
              <a:t>                действительности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мя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ставл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обра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шл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ч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левые процесс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Память</a:t>
            </a: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Garamond"/>
              </a:rPr>
              <a:t>способность к сохранению, накоплению и воспроизведению информации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Без памяти мы были бы существами мгновения. Наше прошлое было бы мертво для будущего. Настоящее по мере его протекания безвозвратно исчезало бы в прошлом, не было бы психической жизни смыкающейся в единстве личного сознания, и невозможен был бы факт по существу непрерывного учения, проходящий через всю нашу жизнь и делающий нас тем, что мы есть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.Л.Рубинштей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Виды памяти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ипу запоминаемого материала: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двигательная, образная (слуховая, зрительная, тактильная), словесно-логическа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характеру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целей деятельности: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непроизвольная и произвольна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ремени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сенсорная (иконическая, эхоическая), кратковременная (до 20 сек.) , долговременная (практически бесконечная;), оперативная, или рабочая (время определяется задачей</a:t>
            </a:r>
            <a:r>
              <a:rPr b="0" lang="ru-RU" sz="2800" spc="-1" strike="noStrike">
                <a:solidFill>
                  <a:srgbClr val="ffff66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20320" y="2949120"/>
            <a:ext cx="732492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СПАСИБО ЗА ВНИМАНИЕ 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!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12320" y="-155880"/>
            <a:ext cx="715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6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9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66"/>
                </a:solidFill>
                <a:latin typeface="Garamond"/>
              </a:rPr>
              <a:t>«</a:t>
            </a:r>
            <a:r>
              <a:rPr b="0" i="1" lang="ru-RU" sz="3800" spc="-1" strike="noStrike">
                <a:solidFill>
                  <a:srgbClr val="ffff66"/>
                </a:solidFill>
                <a:latin typeface="Garamond"/>
              </a:rPr>
              <a:t>Человек – животное общественное</a:t>
            </a:r>
            <a:r>
              <a:rPr b="0" lang="ru-RU" sz="3800" spc="-1" strike="noStrike">
                <a:solidFill>
                  <a:srgbClr val="ffff66"/>
                </a:solidFill>
                <a:latin typeface="Garamond"/>
              </a:rPr>
              <a:t>»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66"/>
                </a:solidFill>
                <a:latin typeface="Garamond"/>
              </a:rPr>
              <a:t>           </a:t>
            </a:r>
            <a:r>
              <a:rPr b="0" lang="ru-RU" sz="2800" spc="-1" strike="noStrike">
                <a:solidFill>
                  <a:srgbClr val="ffff66"/>
                </a:solidFill>
                <a:latin typeface="Garamond"/>
              </a:rPr>
              <a:t>Аристотель (384 </a:t>
            </a:r>
            <a:r>
              <a:rPr b="0" i="1" lang="ru-RU" sz="2400" spc="-1" strike="noStrike">
                <a:solidFill>
                  <a:srgbClr val="ffff66"/>
                </a:solidFill>
                <a:latin typeface="Garamond"/>
              </a:rPr>
              <a:t>–</a:t>
            </a:r>
            <a:r>
              <a:rPr b="0" lang="ru-RU" sz="2800" spc="-1" strike="noStrike">
                <a:solidFill>
                  <a:srgbClr val="ffff66"/>
                </a:solidFill>
                <a:latin typeface="Garamond"/>
              </a:rPr>
              <a:t> 322 до н.э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254083997"/>
          <p:cNvPicPr/>
          <p:nvPr/>
        </p:nvPicPr>
        <p:blipFill>
          <a:blip r:embed="rId1"/>
          <a:stretch/>
        </p:blipFill>
        <p:spPr>
          <a:xfrm>
            <a:off x="6630840" y="515880"/>
            <a:ext cx="1879920" cy="254016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7" descr="биограф очерк1"/>
          <p:cNvPicPr/>
          <p:nvPr/>
        </p:nvPicPr>
        <p:blipFill>
          <a:blip r:embed="rId1"/>
          <a:stretch/>
        </p:blipFill>
        <p:spPr>
          <a:xfrm>
            <a:off x="0" y="-150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04840" y="0"/>
            <a:ext cx="8564400" cy="139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99"/>
                </a:solidFill>
                <a:latin typeface="Garamond"/>
              </a:rPr>
              <a:t>План лекций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" name="Прямоугольник 4"/>
          <p:cNvSpPr/>
          <p:nvPr/>
        </p:nvSpPr>
        <p:spPr>
          <a:xfrm>
            <a:off x="115920" y="1996920"/>
            <a:ext cx="8842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1.   Предмет психологии, задачи и мет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2.   Чувственные формы осво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ействи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3.   Рациональные формы осво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ействи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4.   Психология лич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5.   Психические состояния челов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6.   Межличностные отнош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Тема 1.   Предмет психологии, задачи и методы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а явлений, которые изучает современная психолог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лассификация психических явлен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я развития психологического зн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уктура современного  психологического знания и основные направления в психолог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ы психологического исследов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 направления практического применения психологических знаний и методов в сфере экономики и бизнес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12720" y="145080"/>
            <a:ext cx="7174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1360" y="985680"/>
            <a:ext cx="8972640" cy="58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гласно классификации наук академика А. Кедрова психология занимает центральное место не только как продукт всех других наук, но и как возможный источник объяснения их формирования и развит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сихология интегрирует все данные этих наук и в свою очередь влияет на них, становясь общей моделью человекознания. Психологию следует рассматривать как научное исследование поведения и умственной деятельности человека, а также практическое применение приобретенных знаний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 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Рисунок 3" descr="Рис. 1"/>
          <p:cNvPicPr/>
          <p:nvPr/>
        </p:nvPicPr>
        <p:blipFill>
          <a:blip r:embed="rId1"/>
          <a:stretch/>
        </p:blipFill>
        <p:spPr>
          <a:xfrm>
            <a:off x="2092320" y="2768760"/>
            <a:ext cx="5040360" cy="141732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Тема 1.   Предмет психологии, задачи и методы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а явлений, которые изучает современная психолог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лассификация психических явлен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я развития психологического зн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уктура современного  психологического знания и основные направления в психолог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ы психологического исследов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 направления практического применения психологических знаний и методов в сфере экономики и бизнес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сихика сложна и многообразна по своим проявлениям. Обычно выделяют три крупные группы психических явлений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 психические процессы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 психические состояния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психические свойств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Психические процессы – динамическое отражение действительности в различных формах психических явлен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сихический процесс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это течение психического явления, имеющего начало, развитие и конец, проявляющееся в виде реакции. При этом нужно иметь в виду, что конец психического процесса тесно связан с началом нового процесса. Отсюда непрерывность психической деятельности в состоянии бодрствования челове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18:40:37Z</dcterms:created>
  <dc:creator>Богатырев Е Д</dc:creator>
  <dc:description/>
  <dc:language>en-US</dc:language>
  <cp:lastModifiedBy>LEGION</cp:lastModifiedBy>
  <dcterms:modified xsi:type="dcterms:W3CDTF">2014-11-12T07:32:53Z</dcterms:modified>
  <cp:revision>98</cp:revision>
  <dc:subject/>
  <dc:title>Слайд 1</dc:title>
</cp:coreProperties>
</file>