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0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1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2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BB9D-3DD2-4A18-97AD-A0E3979575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У  ВПО  «Финансовая академ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равительстве Российской Федерац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ОСНОВЫ  ПСИХОЛОГ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  проф.   В.С. Трипольского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0366-938F-4030-A754-8CEB223B2F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сихическое состоя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ределившийся в данное время относительно устойчивый уровень психической деятельности, который проявляется в повышенной или пониженной активности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изученными являю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общее психическое состояние, например внимание, проявляющееся на уровне активной сосредоточенности или рассеянн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эмоциональные состояния, или настроения (жизнерадост-ное, восторженное, грустное, печальное, гневное, и т.д.). Интересные исследования имеются об особом, творческом, состоянии личности, которое называют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вдохнов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675F-95DC-4B4F-B864-6431579A79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ими и устойчивыми регуляторами психической деятельности являю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войства лич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устойчивые образования, обеспечивающие определенный качественно-количест-венный уровень деятельности и поведения, типичный для данного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ое психическое свойство формируется постепенно в процессе отражения и закрепляется в практике. Оно, следовательно, является результатом отражательной и практической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78F4-288D-4798-BF82-7AADB05398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Тема 2.   Чувственные формы освоения действи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щущение как элементарная форма отражения реальности. Классификация ощущений. Общие свойства ощущений. Развитие ощущений в процессе деятельности человека: адаптация, сенсибилизация, синестез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ятие и его свойства. Восприятие пространства и движения. Восприятие времени. Нарушения восприятия – гиперстезия, галлюцинации, аффективные, вербальные и перейдолические иллюз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ние и его основные свойства: устойчивость, концентрация и распределение, переключаемость и объем. Виды вним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7999-62C0-472C-A45A-4B5F96BA84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Ощущ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наиболее элементарный психический процесс, заключающийся в психическом отражен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тдельных свойст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ов и явлений, непосредственно воздействующих на органы чув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Классификация ощущений по модальности органов чув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Зри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Слух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Такти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Вкус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Обоня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290F-A744-4EA9-8B39-2E7019E44CC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Классификация ощущений п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)способу воздействия раздражител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) времени возникновения в филогенезе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3) функци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) по расположению рецептивных  по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5E34-4301-4399-BDF2-201562CE3E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йства ощущ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рог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бсолютный нижний (порог обнаружения)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ая интенсивность раздражителя, вызывающего едва заметное ощущ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бсолютный верхний (терминальный)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имально допустимая величина внешнего раздражите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ифференциальный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ое различие между двумя раздражителями, которые воспринимаются как различающиеся по ощущ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аптаци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органов чувств приспосабливаться к новому или изменившему интенсивность сигна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нсибилизаци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чувствительности,  снижение порог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нестези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чески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щущения, возникающие  при совместной работе нескольких анализаторов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374F-C11B-4F62-A2C7-A5BAF59BA9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осприят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ерцепция) – воссоздани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целостных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ов объектов (предметов, ситуаций и т.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Классификация по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ff00"/>
                </a:solidFill>
                <a:latin typeface="Arial"/>
              </a:rPr>
              <a:t>модальности ведущего рецептор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рительное, слуховое, тактильное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Классификация по </a:t>
            </a:r>
            <a:r>
              <a:rPr b="1" i="1" lang="ru-RU" sz="1200" spc="-1" strike="noStrike">
                <a:solidFill>
                  <a:srgbClr val="ffff00"/>
                </a:solidFill>
                <a:latin typeface="Arial"/>
              </a:rPr>
              <a:t>содержанию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ятие формы, цвета, пространства, движения,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1428-946A-46AC-8CE2-3A7AAEB893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Свойства вос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Константность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ство восприятия формы, размера и цвета предметов окружающего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Предметность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есенность всех полученных с помощью органов чувств сведений о внешнем мире к самим предметам (а, например, не к рецепторам или структурам мозг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Целостность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воспринимать всякий объект, предметную ситуацию как устойчивое системное целое, даже, если некоторые части этого целого в данный момент не могут быть наблюда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Категориальность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(осмысленность)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есение воспринимаемых объектов к определенной категории, группе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Избирательность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ие из сенсорного поля каких-либо объектов (или их частей) и признаков. «Фигура» и «фон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E1F5-DFD3-4BAD-9B11-1BB2DD4F997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Иллюзии восприятия 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искаженное восприятие реальных предме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Связанные со строением глаза (светлые предметы кажутся большими, чем темные – иррадиация возбуждения в сетчатк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ереоценка длины вертикальных ли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Иллюзии контраста (не только зрительны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Перенесение свойств фигуры на отдельные ее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Искажение направлений линий за счет штриховки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D585-E03B-4312-BB7A-4857763AFB5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Зрительные иллюзии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тикальные параллельные линии, пересекаемые короткими косыми, кажутся расходящимися (иллюзия Цельнер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FCAE-3E9A-4C5E-BD91-4078780627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Зрительные иллюзии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тикальные параллельные линии, пересекаемые короткими косыми, кажутся расходящимися (иллюзия Цельнер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6B1B-25FB-4C65-8354-9EF04502F6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Иллюзия Эббингау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A846-23AA-4544-BB11-D98CAFC853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Иллюзия Мюллера-Лай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16E6-3C59-479E-A7F2-C3898D80FD0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Иллюзии зрительного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A72F-D675-4234-8A31-2323D462FD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Тема 3.   Рациональные формы освоения </a:t>
            </a:r>
            <a:br>
              <a:rPr sz="1200"/>
            </a:b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                действи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м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ш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ч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евые проце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A496-A9A8-4765-A2FA-341E3E7ADB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амя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способность к сохранению, накоплению и воспроизведению информ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ез памяти мы были бы существами мгновения. Наше прошлое было бы мертво для будущего. Настоящее по мере его протекания безвозвратно исчезало бы в прошлом, не было бы психической жизни смыкающейся в единстве личного сознания, и невозможен был бы факт по существу непрерывного учения, проходящий через всю нашу жизнь и делающий нас тем, что мы ест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Л.Рубинште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C1D0-6D63-4B84-9443-475DFA1D37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иды памя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типу запоминаемого материала: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двигательная, образная (слуховая, зрительная, тактильная), словесно-логиче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характеру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целей деятельности: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непроизвольная и произво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ремен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сенсорная (иконическая, эхоическая), кратковременная (до 20 сек.) , долговременная (практически бесконечная;), оперативная, или рабочая (время определяется задачей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4C73-E430-4A99-BCD2-9F30F270A9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4B19-D81D-4EC7-8220-80ACB0FB7A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Arial"/>
              </a:rPr>
              <a:t>«</a:t>
            </a:r>
            <a:r>
              <a:rPr b="0" i="1" lang="ru-RU" sz="3800" spc="-1" strike="noStrike">
                <a:solidFill>
                  <a:srgbClr val="ffff66"/>
                </a:solidFill>
                <a:latin typeface="Arial"/>
              </a:rPr>
              <a:t>Человек – животное общественное</a:t>
            </a:r>
            <a:r>
              <a:rPr b="0" lang="ru-RU" sz="3800" spc="-1" strike="noStrike">
                <a:solidFill>
                  <a:srgbClr val="ffff66"/>
                </a:solidFill>
                <a:latin typeface="Arial"/>
              </a:rPr>
              <a:t>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Аристотель (384 </a:t>
            </a:r>
            <a:r>
              <a:rPr b="0" i="1" lang="ru-RU" sz="2400" spc="-1" strike="noStrike">
                <a:solidFill>
                  <a:srgbClr val="ffff66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 322 до 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B84A-E675-4442-865B-85E47122B2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"/>
              </a:rPr>
              <a:t>План ле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D780-32A5-4AE2-8B57-6911B2E5C9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Тема 1.   Предмет психологии, задачи и мет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явлений, которые изучает современная псих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психических яв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азвития психологического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овременного  психологического знания и основные направления в псих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сихологического ис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практического применения психологических знаний и методов в сфере экономики и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E1C2-1A43-48A4-8443-6A53A77EB22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классификации наук академика А. Кедрова психология занимает центральное место не только как продукт всех других наук, но и как возможный источник объяснения их формирования и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я интегрирует все данные этих наук и в свою очередь влияет на них, становясь общей моделью человекознания. Психологию следует рассматривать как научное исследование поведения и умственной деятельности человека, а также практическое применение приобретенных зн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16D1-B389-4869-B6F9-94A741DFBB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Тема 1.   Предмет психологии, задачи и мет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явлений, которые изучает современная псих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психических яв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азвития психологического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овременного  психологического знания и основные направления в псих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сихологического ис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практического применения психологических знаний и методов в сфере экономики и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1328-FC2A-4AD4-A522-85F4365FCB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ика сложна и многообразна по своим проявлениям. Обычно выделяют три крупные группы психических явлений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сихические процесс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сихические состоя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сихические свой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B49C-3582-43CD-8D03-0F982E679E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Психические процессы – динамическое отражение действительности в различных формах психических яв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сихический процесс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течение психического явления, имеющего начало, развитие и конец, проявляющееся в виде реакции. При этом нужно иметь в виду, что конец психического процесса тесно связан с началом нового процесса. Отсюда непрерывность психической деятельности в состоянии бодрствования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E056-40B8-4328-9172-90D5065BC4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AAF3-B747-46F7-93DB-5B3BBCA01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2A21-0D46-4E65-8653-75E02D83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AA06-CF73-4048-86B8-E73BBE721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615A-1E3E-4B6E-B9A2-078CA123D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025C-7909-4F83-89E7-049D1521A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984A-DBFC-4478-88EA-D81D4B4A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0141-A92C-4B43-B876-57525F69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2A5E-30D9-4E86-8AFD-A4748071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CE16-5CFF-4D21-A969-77AAE4D3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4F06-E2AC-410D-A746-1F5835A9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7ACD-ACA2-4FBE-A7AF-6C7F19F4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ECCC-A21F-4848-BDA8-79BF31D5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3B49-108E-49A9-B11B-6C6C55AE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6DDB-60C2-4E04-8153-0CA975AD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CE4C-CE70-4C6A-83F7-CBC7BE45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9753-E30B-48BF-9F80-3A53CDC8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67B4-89D6-4897-B815-87B25530C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16C93-BAB1-4DE3-A0C2-500C16F3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34F79-E211-4FB3-8EFB-7E928894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0E1BB-135F-4677-B36B-7F812A49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20FAC-CC5A-456C-85AD-5E83741D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C6789-E0D6-4BEE-9458-7D5F4920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3CB5-B72E-4D57-BD11-8B1824E3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0BC39-B2CF-4BC3-95F8-0DFD8F4F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6D4BC-E797-401E-A0AA-F4023010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69EB3-0A9B-4920-8A5D-E5A1DDF7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A6C83-5347-4A55-8DC5-591D7A1B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50571-A612-4583-9DFF-08A17EFC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A17C3-FCFB-4AC7-9513-0532B448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55112-4665-4383-A94B-4110B432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8661-449F-48C8-AF46-04AF3166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B7A5-6DB2-4D89-BCED-1218638C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3AB7-67BC-47AB-8980-E1FA446B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9D45-5775-47D8-9C3D-6551D0F8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0DAA-0D3D-48D6-B6E6-A75DCC34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EC82-E7F1-4C60-AC0E-C6B7EE5C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7E6C-B5D3-4107-AB32-B5A52968A7C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B0AE-4CD2-48ED-92A5-36818C40D4C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15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C427-05E2-454C-80BA-200B72FB9B6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8120" y="412920"/>
            <a:ext cx="6469200" cy="112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ГОУ  ВПО  «Финансовая академия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Правительстве Российской Федерации»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09160" y="2484000"/>
            <a:ext cx="874548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Arial"/>
              </a:rPr>
              <a:t>ОСНОВЫ  ПСИХОЛОГИИ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кция  проф.   В.С. Трипольского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Picture 4" descr="логотип зел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64960" y="228600"/>
            <a:ext cx="1920960" cy="1627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2120" y="1376280"/>
            <a:ext cx="870912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сихическое состоя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определившийся в данное время относительно устойчивый уровень психической деятельности, который проявляется в повышенной или пониженной активности лично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иболее изученными являются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) общее психическое состояние, например внимание, проявляющееся на уровне активной сосредоточенности или рассеянности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) эмоциональные состояния, или настроения (жизнерадост-ное, восторженное, грустное, печальное, гневное, и т.д.). Интересные исследования имеются об особом, творческом, состоянии личности, которое называют </a:t>
            </a:r>
            <a:r>
              <a:rPr b="0" lang="ru-RU" sz="2400" spc="-1" strike="noStrike">
                <a:solidFill>
                  <a:srgbClr val="ffff66"/>
                </a:solidFill>
                <a:latin typeface="Garamond"/>
              </a:rPr>
              <a:t>вдохновение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сшими и устойчивыми регуляторами психической деятельности являютс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войства лично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устойчивые образования, обеспечивающие определенный качественно-количест-венный уровень деятельности и поведения, типичный для данного человек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ое психическое свойство формируется постепенно в процессе отражения и закрепляется в практике. Оно, следовательно, является результатом отражательной и практической деятельност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12320" y="252000"/>
            <a:ext cx="71564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Тема 2.   Чувственные формы освоения действительности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2120" y="1623960"/>
            <a:ext cx="87091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щущение как элементарная форма отражения реальности. Классификация ощущений. Общие свойства ощущений. Развитие ощущений в процессе деятельности человека: адаптация, сенсибилизация, синестез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риятие и его свойства. Восприятие пространства и движения. Восприятие времени. Нарушения восприятия – гиперстезия, галлюцинации, аффективные, вербальные и перейдолические иллюзи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имание и его основные свойства: устойчивость, концентрация и распределение, переключаемость и объем. Виды вним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2208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щущения</a:t>
            </a:r>
            <a:r>
              <a:rPr b="0" lang="ru-RU" sz="2400" spc="-1" strike="noStrike">
                <a:solidFill>
                  <a:srgbClr val="b9efe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наиболее элементарный психический процесс, заключающийся в психическом отражении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тдельных свойств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метов и явлений, непосредственно воздействующих на органы чу</a:t>
            </a:r>
            <a:r>
              <a:rPr b="0" lang="ru-RU" sz="2400" spc="-1" strike="noStrike">
                <a:solidFill>
                  <a:srgbClr val="b9efee"/>
                </a:solidFill>
                <a:latin typeface="Arial"/>
              </a:rPr>
              <a:t>вств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67760" y="1600200"/>
            <a:ext cx="8975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Классификация ощущений по модальности органов чувств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Зрительн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лухов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Тактильн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Вкусов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Обонятельн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41120"/>
            <a:ext cx="8229600" cy="1633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Garamond"/>
              </a:rPr>
              <a:t>Классификация ощущений по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1)способу воздействия раздражителя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2) времени возникновения в филогенезе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3) функции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4) по расположению рецептивных  полей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22" name="Organization Chart 2"/>
          <p:cNvGrpSpPr/>
          <p:nvPr/>
        </p:nvGrpSpPr>
        <p:grpSpPr>
          <a:xfrm>
            <a:off x="466560" y="2302200"/>
            <a:ext cx="8208720" cy="3715560"/>
            <a:chOff x="466560" y="2302200"/>
            <a:chExt cx="8208720" cy="3715560"/>
          </a:xfrm>
        </p:grpSpPr>
        <p:cxnSp>
          <p:nvCxnSpPr>
            <p:cNvPr id="223" name="_s1028"/>
            <p:cNvCxnSpPr>
              <a:stCxn id="224" idx="1"/>
              <a:endCxn id="225" idx="2"/>
            </p:cNvCxnSpPr>
            <p:nvPr/>
          </p:nvCxnSpPr>
          <p:spPr>
            <a:xfrm rot="10800000">
              <a:off x="5810040" y="4707000"/>
              <a:ext cx="255960" cy="437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6" name="_s1029"/>
            <p:cNvCxnSpPr>
              <a:stCxn id="227" idx="1"/>
              <a:endCxn id="228" idx="2"/>
            </p:cNvCxnSpPr>
            <p:nvPr/>
          </p:nvCxnSpPr>
          <p:spPr>
            <a:xfrm rot="10800000">
              <a:off x="2689920" y="4707000"/>
              <a:ext cx="255960" cy="1092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9" name="_s1030"/>
            <p:cNvCxnSpPr>
              <a:stCxn id="230" idx="1"/>
              <a:endCxn id="228" idx="2"/>
            </p:cNvCxnSpPr>
            <p:nvPr/>
          </p:nvCxnSpPr>
          <p:spPr>
            <a:xfrm rot="10800000">
              <a:off x="2689920" y="4707000"/>
              <a:ext cx="255960" cy="437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1" name="_s1031"/>
            <p:cNvCxnSpPr>
              <a:stCxn id="225" idx="1"/>
              <a:endCxn id="232" idx="2"/>
            </p:cNvCxnSpPr>
            <p:nvPr/>
          </p:nvCxnSpPr>
          <p:spPr>
            <a:xfrm rot="10800000">
              <a:off x="4353120" y="4052160"/>
              <a:ext cx="255960" cy="438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3" name="_s1032"/>
            <p:cNvCxnSpPr>
              <a:stCxn id="228" idx="1"/>
              <a:endCxn id="234" idx="2"/>
            </p:cNvCxnSpPr>
            <p:nvPr/>
          </p:nvCxnSpPr>
          <p:spPr>
            <a:xfrm rot="10800000">
              <a:off x="1232280" y="4052160"/>
              <a:ext cx="255960" cy="438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5" name="_s1033"/>
            <p:cNvCxnSpPr>
              <a:stCxn id="232" idx="0"/>
              <a:endCxn id="236" idx="2"/>
            </p:cNvCxnSpPr>
            <p:nvPr/>
          </p:nvCxnSpPr>
          <p:spPr>
            <a:xfrm flipH="1" flipV="1" rot="5400000">
              <a:off x="5132520" y="2616480"/>
              <a:ext cx="219240" cy="1777320"/>
            </a:xfrm>
            <a:prstGeom prst="bentConnector3">
              <a:avLst>
                <a:gd name="adj1" fmla="val 495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7" name="_s1034"/>
            <p:cNvCxnSpPr>
              <a:stCxn id="234" idx="0"/>
              <a:endCxn id="238" idx="2"/>
            </p:cNvCxnSpPr>
            <p:nvPr/>
          </p:nvCxnSpPr>
          <p:spPr>
            <a:xfrm flipH="1" flipV="1" rot="5400000">
              <a:off x="2012760" y="2615760"/>
              <a:ext cx="219240" cy="1779120"/>
            </a:xfrm>
            <a:prstGeom prst="bentConnector3">
              <a:avLst>
                <a:gd name="adj1" fmla="val 495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9" name="_s1035"/>
            <p:cNvCxnSpPr>
              <a:stCxn id="236" idx="0"/>
              <a:endCxn id="240" idx="2"/>
            </p:cNvCxnSpPr>
            <p:nvPr/>
          </p:nvCxnSpPr>
          <p:spPr>
            <a:xfrm flipV="1" rot="16200000">
              <a:off x="5240160" y="2068200"/>
              <a:ext cx="219240" cy="1560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1" name="_s1036"/>
            <p:cNvCxnSpPr>
              <a:stCxn id="238" idx="0"/>
              <a:endCxn id="240" idx="2"/>
            </p:cNvCxnSpPr>
            <p:nvPr/>
          </p:nvCxnSpPr>
          <p:spPr>
            <a:xfrm flipH="1" flipV="1" rot="5400000">
              <a:off x="3681360" y="2068920"/>
              <a:ext cx="219240" cy="1559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40" name="_s1037"/>
            <p:cNvSpPr/>
            <p:nvPr/>
          </p:nvSpPr>
          <p:spPr>
            <a:xfrm>
              <a:off x="3457440" y="2302200"/>
              <a:ext cx="222552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Тип ощущений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_s1038"/>
            <p:cNvSpPr/>
            <p:nvPr/>
          </p:nvSpPr>
          <p:spPr>
            <a:xfrm>
              <a:off x="2087280" y="2958480"/>
              <a:ext cx="184572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Контактны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_s1039"/>
            <p:cNvSpPr/>
            <p:nvPr/>
          </p:nvSpPr>
          <p:spPr>
            <a:xfrm>
              <a:off x="5207400" y="2958480"/>
              <a:ext cx="184572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Arial"/>
                </a:rPr>
                <a:t>Дистантны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_s1040"/>
            <p:cNvSpPr/>
            <p:nvPr/>
          </p:nvSpPr>
          <p:spPr>
            <a:xfrm>
              <a:off x="466560" y="3615120"/>
              <a:ext cx="153324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Arial"/>
                </a:rPr>
                <a:t>Палео-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_s1041"/>
            <p:cNvSpPr/>
            <p:nvPr/>
          </p:nvSpPr>
          <p:spPr>
            <a:xfrm>
              <a:off x="3587040" y="3615120"/>
              <a:ext cx="153324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Arial"/>
                </a:rPr>
                <a:t>Нео-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_s1042"/>
            <p:cNvSpPr/>
            <p:nvPr/>
          </p:nvSpPr>
          <p:spPr>
            <a:xfrm>
              <a:off x="1488600" y="4271760"/>
              <a:ext cx="2403000" cy="4359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Констатирующи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1043"/>
            <p:cNvSpPr/>
            <p:nvPr/>
          </p:nvSpPr>
          <p:spPr>
            <a:xfrm>
              <a:off x="4609440" y="4271760"/>
              <a:ext cx="2403000" cy="4359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Упреждающи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_s1044"/>
            <p:cNvSpPr/>
            <p:nvPr/>
          </p:nvSpPr>
          <p:spPr>
            <a:xfrm>
              <a:off x="2946240" y="4926600"/>
              <a:ext cx="2608920" cy="436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Arial"/>
                </a:rPr>
                <a:t>Интеро(ре)цептивные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1045"/>
            <p:cNvSpPr/>
            <p:nvPr/>
          </p:nvSpPr>
          <p:spPr>
            <a:xfrm>
              <a:off x="2946240" y="5581800"/>
              <a:ext cx="2608920" cy="4359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Arial"/>
                </a:rPr>
                <a:t>Проприо(ре)цептивные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_s1046"/>
            <p:cNvSpPr/>
            <p:nvPr/>
          </p:nvSpPr>
          <p:spPr>
            <a:xfrm>
              <a:off x="6066360" y="4926600"/>
              <a:ext cx="2608920" cy="436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Arial"/>
                </a:rPr>
                <a:t>Экстеро(ре)цептивные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Свойства ощущений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роги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бсолютный нижний (порог обнаружения)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нимальная интенсивность раздражителя, вызывающего едва заметное ощущение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бсолютный верхний (терминальный)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ксимально допустимая величина внешнего раздражителя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ифференциальный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нимальное различие между двумя раздражителями, которые воспринимаются как различающиеся по ощущения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даптация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особность органов чувств приспосабливаться к новому или изменившему интенсивность сигналу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сибилизация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ышение чувствительности,  снижение порога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нестезия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ецифическ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щущения, возникающие  при совместной работе нескольких анализаторов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Восприятие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перцепция) – воссоздание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целостных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бразов объектов (предметов, ситуаций и т.д.)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17720"/>
            <a:ext cx="8229600" cy="41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лассификация по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модальности ведущего рецептора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рительное, слуховое, тактильное и т.д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лассификация по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содержанию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риятие формы, цвета, пространства, движения, времен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8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Garamond"/>
              </a:rPr>
              <a:t>Свойства восприятия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082520"/>
            <a:ext cx="8229600" cy="552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онстантност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оянство восприятия формы, размера и цвета предметов окружающего ми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редметность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–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несенность всех полученных с помощью органов чувств сведений о внешнем мире к самим предметам (а, например, не к рецепторам или структурам мозга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Целостност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особность воспринимать всякий объект, предметную ситуацию как устойчивое системное целое, даже, если некоторые части этого целого в данный момент не могут быть наблюдаем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атегориальност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(осмысленность)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несение воспринимаемых объектов к определенной категории, группе объект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Избирательност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деление из сенсорного поля каких-либо объектов (или их частей) и признаков. «Фигура» и «фон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ллюзии восприятия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–</a:t>
            </a:r>
            <a:r>
              <a:rPr b="0" lang="ru-RU" sz="4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искаженное восприятие реальных предметов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002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 Связанные со строением глаза (светлые предметы кажутся большими, чем темные – иррадиация возбуждения в сетчатке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 Переоценка длины вертикальных лин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Иллюзии контраста (не только зрительные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) Перенесение свойств фигуры на отдельные ее ча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) Искажение направлений линий за счет штриховки и др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12320" y="252000"/>
            <a:ext cx="7156440" cy="77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Garamond"/>
              </a:rPr>
              <a:t>Зрительные иллюзии восприятия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2120" y="1623960"/>
            <a:ext cx="87091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ертикальные параллельные линии, пересекаемые короткими косыми, кажутся расходящимися (иллюзия Цельнера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7" name="Рисунок 5" descr="http://tvorim.e-gloryon.com/userdata/images/celner.jpg"/>
          <p:cNvPicPr/>
          <p:nvPr/>
        </p:nvPicPr>
        <p:blipFill>
          <a:blip r:embed="rId1"/>
          <a:stretch/>
        </p:blipFill>
        <p:spPr>
          <a:xfrm>
            <a:off x="2914560" y="2759040"/>
            <a:ext cx="3313080" cy="366732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PB1221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"/>
          <p:cNvSpPr/>
          <p:nvPr/>
        </p:nvSpPr>
        <p:spPr>
          <a:xfrm>
            <a:off x="539640" y="239760"/>
            <a:ext cx="836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Как экономистам объяснить что такое человек, почему он активен, что им движет? Человеческий организм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НЕ НАБОР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дифференцированных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ЧАСТЕЙ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12320" y="252000"/>
            <a:ext cx="7156440" cy="77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Garamond"/>
              </a:rPr>
              <a:t>Зрительные иллюзии восприятия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2120" y="1623960"/>
            <a:ext cx="87091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ертикальные параллельные линии, пересекаемые короткими косыми, кажутся расходящимися (иллюзия Цельнера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Garamond"/>
              </a:rPr>
              <a:t>Иллюзия Эббингауз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63" name="Picture 5" descr="classic-5-1"/>
          <p:cNvPicPr/>
          <p:nvPr/>
        </p:nvPicPr>
        <p:blipFill>
          <a:blip r:embed="rId1"/>
          <a:stretch/>
        </p:blipFill>
        <p:spPr>
          <a:xfrm>
            <a:off x="2428920" y="2124000"/>
            <a:ext cx="4627440" cy="304344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Garamond"/>
              </a:rPr>
              <a:t>Иллюзия Мюллера-Лайер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66" name="Picture 5" descr="classic-1a-1"/>
          <p:cNvPicPr/>
          <p:nvPr/>
        </p:nvPicPr>
        <p:blipFill>
          <a:blip r:embed="rId1"/>
          <a:stretch/>
        </p:blipFill>
        <p:spPr>
          <a:xfrm>
            <a:off x="2666880" y="2428920"/>
            <a:ext cx="3810240" cy="28670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12320" y="252000"/>
            <a:ext cx="7156440" cy="77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Иллюзии зрительного восприятия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2120" y="1623960"/>
            <a:ext cx="870912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3351240" y="1927080"/>
            <a:ext cx="5641920" cy="3954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C:\Documents and Settings\VST\Рабочий стол\Иллюстрации\Иллюзия-01.jpg"/>
          <p:cNvPicPr/>
          <p:nvPr/>
        </p:nvPicPr>
        <p:blipFill>
          <a:blip r:embed="rId2"/>
          <a:stretch/>
        </p:blipFill>
        <p:spPr>
          <a:xfrm>
            <a:off x="270000" y="1933560"/>
            <a:ext cx="3039840" cy="395928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Тема 3.   Рациональные формы освоения 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                действительности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мя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ставл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обра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шл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ч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левые процесс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Память</a:t>
            </a: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Garamond"/>
              </a:rPr>
              <a:t>способность к сохранению, накоплению и воспроизведению информации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Без памяти мы были бы существами мгновения. Наше прошлое было бы мертво для будущего. Настоящее по мере его протекания безвозвратно исчезало бы в прошлом, не было бы психической жизни смыкающейся в единстве личного сознания, и невозможен был бы факт по существу непрерывного учения, проходящий через всю нашу жизнь и делающий нас тем, что мы есть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.Л.Рубинштей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Виды памяти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ипу запоминаемого материала: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двигательная, образная (слуховая, зрительная, тактильная), словесно-логическа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характеру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целей деятельности: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непроизвольная и произвольна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ремени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енсорная (иконическая, эхоическая), кратковременная (до 20 сек.) , долговременная (практически бесконечная;), оперативная, или рабочая (время определяется задачей</a:t>
            </a:r>
            <a:r>
              <a:rPr b="0" lang="ru-RU" sz="2800" spc="-1" strike="noStrike">
                <a:solidFill>
                  <a:srgbClr val="ffff66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20320" y="2949120"/>
            <a:ext cx="732492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СПАСИБО ЗА ВНИМАНИЕ 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!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12320" y="-155880"/>
            <a:ext cx="715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6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9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Garamond"/>
              </a:rPr>
              <a:t>«</a:t>
            </a:r>
            <a:r>
              <a:rPr b="0" i="1" lang="ru-RU" sz="3800" spc="-1" strike="noStrike">
                <a:solidFill>
                  <a:srgbClr val="ffff66"/>
                </a:solidFill>
                <a:latin typeface="Garamond"/>
              </a:rPr>
              <a:t>Человек – животное общественное</a:t>
            </a:r>
            <a:r>
              <a:rPr b="0" lang="ru-RU" sz="3800" spc="-1" strike="noStrike">
                <a:solidFill>
                  <a:srgbClr val="ffff66"/>
                </a:solidFill>
                <a:latin typeface="Garamond"/>
              </a:rPr>
              <a:t>»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Garamond"/>
              </a:rPr>
              <a:t>           </a:t>
            </a:r>
            <a:r>
              <a:rPr b="0" lang="ru-RU" sz="2800" spc="-1" strike="noStrike">
                <a:solidFill>
                  <a:srgbClr val="ffff66"/>
                </a:solidFill>
                <a:latin typeface="Garamond"/>
              </a:rPr>
              <a:t>Аристотель (384 </a:t>
            </a:r>
            <a:r>
              <a:rPr b="0" i="1" lang="ru-RU" sz="2400" spc="-1" strike="noStrike">
                <a:solidFill>
                  <a:srgbClr val="ffff66"/>
                </a:solidFill>
                <a:latin typeface="Garamond"/>
              </a:rPr>
              <a:t>–</a:t>
            </a:r>
            <a:r>
              <a:rPr b="0" lang="ru-RU" sz="2800" spc="-1" strike="noStrike">
                <a:solidFill>
                  <a:srgbClr val="ffff66"/>
                </a:solidFill>
                <a:latin typeface="Garamond"/>
              </a:rPr>
              <a:t> 322 до н.э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254083997"/>
          <p:cNvPicPr/>
          <p:nvPr/>
        </p:nvPicPr>
        <p:blipFill>
          <a:blip r:embed="rId1"/>
          <a:stretch/>
        </p:blipFill>
        <p:spPr>
          <a:xfrm>
            <a:off x="6630840" y="515880"/>
            <a:ext cx="1879920" cy="254016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7" descr="биограф очерк1"/>
          <p:cNvPicPr/>
          <p:nvPr/>
        </p:nvPicPr>
        <p:blipFill>
          <a:blip r:embed="rId1"/>
          <a:stretch/>
        </p:blipFill>
        <p:spPr>
          <a:xfrm>
            <a:off x="0" y="-150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04840" y="0"/>
            <a:ext cx="8564400" cy="139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99"/>
                </a:solidFill>
                <a:latin typeface="Garamond"/>
              </a:rPr>
              <a:t>План лекций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" name="Прямоугольник 4"/>
          <p:cNvSpPr/>
          <p:nvPr/>
        </p:nvSpPr>
        <p:spPr>
          <a:xfrm>
            <a:off x="115920" y="1996920"/>
            <a:ext cx="8842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1.   Предмет психологии, задачи и мет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2.   Чувственные формы осво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ействи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3.   Рациональные формы осво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ействи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4.   Психология лич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5.   Психические состояния 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6.   Межличностные отнош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Тема 1.   Предмет психологии, задачи и методы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 явлений, которые изучает современная психолог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лассификация психических явлен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я развития психологического зн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уктура современного  психологического знания и основные направления в психолог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ы психологического исследов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направления практического применения психологических знаний и методов в сфере экономики и бизнес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12720" y="145080"/>
            <a:ext cx="7174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1360" y="985680"/>
            <a:ext cx="8972640" cy="58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гласно классификации наук академика А. Кедрова психология занимает центральное место не только как продукт всех других наук, но и как возможный источник объяснения их формирования и развит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сихология интегрирует все данные этих наук и в свою очередь влияет на них, становясь общей моделью человекознания. Психологию следует рассматривать как научное исследование поведения и умственной деятельности человека, а также практическое применение приобретенных знаний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Рисунок 3" descr="Рис. 1"/>
          <p:cNvPicPr/>
          <p:nvPr/>
        </p:nvPicPr>
        <p:blipFill>
          <a:blip r:embed="rId1"/>
          <a:stretch/>
        </p:blipFill>
        <p:spPr>
          <a:xfrm>
            <a:off x="2092320" y="2768760"/>
            <a:ext cx="5040360" cy="141732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Тема 1.   Предмет психологии, задачи и методы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 явлений, которые изучает современная психолог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лассификация психических явлен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я развития психологического зн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уктура современного  психологического знания и основные направления в психолог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ы психологического исследов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направления практического применения психологических знаний и методов в сфере экономики и бизнес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сихика сложна и многообразна по своим проявлениям. Обычно выделяют три крупные группы психических явлений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 психические процессы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 психические состояния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психические свойст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Психические процессы – динамическое отражение действительности в различных формах психических явлен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сихический процесс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это течение психического явления, имеющего начало, развитие и конец, проявляющееся в виде реакции. При этом нужно иметь в виду, что конец психического процесса тесно связан с началом нового процесса. Отсюда непрерывность психической деятельности в состоянии бодрствования челове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18:40:37Z</dcterms:created>
  <dc:creator>Богатырев Е Д</dc:creator>
  <dc:description/>
  <dc:language>en-US</dc:language>
  <cp:lastModifiedBy>LEGION</cp:lastModifiedBy>
  <dcterms:modified xsi:type="dcterms:W3CDTF">2014-11-12T07:32:53Z</dcterms:modified>
  <cp:revision>98</cp:revision>
  <dc:subject/>
  <dc:title>Слайд 1</dc:title>
</cp:coreProperties>
</file>