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CF09-BADB-4088-8E5F-7789A2BEEF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СНОВ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дновременно нау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ой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вляется одновременно науко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кусство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ой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зависимости о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пуляцио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и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врем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по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а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веренность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огость и требов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"Критикуй положительно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умение поощрять и наказ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умение ценить время подчине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мение и молч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) чувство юм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уверенность в себ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огость и требователь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"Критикуй положительно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умение поощрять и наказыв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умение ценить время подчинен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) умение и молч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чувство юмо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асибо за внимание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развития теор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ф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науч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873-F24F-4CC9-9035-CC98C931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1C8-A69A-49CA-91CD-ADF49106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154-E2A2-4617-9745-09E88FC0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148-4774-417F-9463-F6C74063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99331-7942-47EC-8010-A76BAC52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AF16B-EF0C-426B-8019-640745F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2D0E9-9354-4F85-BAB1-3E8E5BF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EEB69-31AE-4896-911D-D1EC50F6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F6E2E-A637-41A7-A86D-A99B9CED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7123F-9926-4FD1-9EAF-DC6CD360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8210A-E6B1-4F91-B14A-1A6DE64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2FE-191D-491C-A5C2-7727A0DD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0473C-B7B9-4C62-8173-4DD6371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8A3FA-CCDB-43C4-A13B-29DD90C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126E-A256-45C4-9235-075D8AAD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826CD-1D2D-4B0E-A534-D17ECA9B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D16AD-D21B-48B3-9C41-3471C0D8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C46-2C18-40BA-94FD-DD88E95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4A1-2B30-40BA-9B9D-ED4F852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99D-62B2-476D-94CB-8B9250E7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533-5926-482B-BF92-C61856B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9B3-1276-4947-83B1-618353E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039-F3C8-4D72-90FA-3F3E360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70F-9EC3-4E75-8EF6-185E4B7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496-7D73-4365-995C-7F92DF500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51E8-C55C-4275-871C-272FA3E8A2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468360" y="620640"/>
            <a:ext cx="8064360" cy="5761080"/>
            <a:chOff x="468360" y="620640"/>
            <a:chExt cx="8064360" cy="5761080"/>
          </a:xfrm>
        </p:grpSpPr>
        <p:sp>
          <p:nvSpPr>
            <p:cNvPr id="147" name="Text Box 5"/>
            <p:cNvSpPr/>
            <p:nvPr/>
          </p:nvSpPr>
          <p:spPr>
            <a:xfrm>
              <a:off x="468360" y="620640"/>
              <a:ext cx="806436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ahoma"/>
                </a:rPr>
                <a:t>Елтон Мейо (1880 – 1947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 и психолог, один из основателей теории "человеческих отношений", положенных в основу психологических аспектов современного менеджмента. Основные тезисы Мейо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в основном мотивируются социальными потребностями и ощущают свою индивидуальность благодаря своим отношениям с другими людь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 результате рационализации процесса труда сама работа потеряла привлекательность и люди ищут удовлетворения в социальных взаимоотношениях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более чувствительны к социальному влиянию группы равных им людей, чем к побуждениям и средств контроля, используемых руководителя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абочий выполнит распоряжение руководителя, если последний сможет удовлетворить социальные потребности своих подчиненных и их желания быть понятны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951840" y="780480"/>
              <a:ext cx="3225600" cy="799920"/>
            </a:xfrm>
            <a:custGeom>
              <a:avLst/>
              <a:gdLst>
                <a:gd name="textAreaLeft" fmla="*/ 806400 w 3225600"/>
                <a:gd name="textAreaRight" fmla="*/ 2419200 w 3225600"/>
                <a:gd name="textAreaTop" fmla="*/ 9972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324000" y="549360"/>
            <a:ext cx="8280360" cy="5471640"/>
            <a:chOff x="324000" y="549360"/>
            <a:chExt cx="8280360" cy="5471640"/>
          </a:xfrm>
        </p:grpSpPr>
        <p:sp>
          <p:nvSpPr>
            <p:cNvPr id="154" name="Text Box 5"/>
            <p:cNvSpPr/>
            <p:nvPr/>
          </p:nvSpPr>
          <p:spPr>
            <a:xfrm>
              <a:off x="324000" y="572760"/>
              <a:ext cx="8280360" cy="54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Дэвид Мак Грегор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, автор теории "X" и "В". Теория X (более авторитарная) сводится к тому, что среднестатистический рабочий ленив, глуп, старается избегать работы, через который необходимо контролировать, принуждать, побуждать, направлять, пугать наказаниями, чтобы он работал для интересов организации. Такой руководитель нечестолюбний, не стремится ни к ответственности, ни к управлению, беспокоится преимущественно только о своей безопасности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Теория У (более демократична), напротив, сводится к тому, что рабочий инициативный, энергичный и честолюбивый, стремится к успеху собственного и организации, охотно берет на себя ответственность. Руководство должно доверять такому рабочему, поручать ему творческую работу, допускать определенную свободу действий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500040" y="549360"/>
              <a:ext cx="2818800" cy="680760"/>
            </a:xfrm>
            <a:custGeom>
              <a:avLst/>
              <a:gdLst>
                <a:gd name="textAreaLeft" fmla="*/ 704520 w 2818800"/>
                <a:gd name="textAreaRight" fmla="*/ 2114280 w 2818800"/>
                <a:gd name="textAreaTop" fmla="*/ 8496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95280" y="549360"/>
            <a:ext cx="835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одновременно наукой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м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кой управлени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7280" y="19051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Американские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) "Будь руководителем, а не погонщиком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2) уверенность в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3) строгость и требова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4) "Критикуй положительно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5) умение поощрять и наказыв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6) умение ценить время подчине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8) умение и молч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9) чувство юм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0) "Интересуйся, изучай своих подчиненных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435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6200000">
            <a:off x="-1841040" y="2856600"/>
            <a:ext cx="4903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 міс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971640" y="404640"/>
            <a:ext cx="7560720" cy="6453360"/>
            <a:chOff x="971640" y="404640"/>
            <a:chExt cx="7560720" cy="6453360"/>
          </a:xfrm>
        </p:grpSpPr>
        <p:sp>
          <p:nvSpPr>
            <p:cNvPr id="225" name="Line 5"/>
            <p:cNvSpPr/>
            <p:nvPr/>
          </p:nvSpPr>
          <p:spPr>
            <a:xfrm flipH="1">
              <a:off x="3152160" y="1215720"/>
              <a:ext cx="1017720" cy="28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 flipH="1">
              <a:off x="3152160" y="1220040"/>
              <a:ext cx="1017720" cy="38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3152160" y="1220040"/>
              <a:ext cx="1017720" cy="45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5447520" y="807480"/>
              <a:ext cx="8722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5447520" y="1479600"/>
              <a:ext cx="872280" cy="17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0" name="Group 10"/>
            <p:cNvGrpSpPr/>
            <p:nvPr/>
          </p:nvGrpSpPr>
          <p:grpSpPr>
            <a:xfrm>
              <a:off x="971640" y="404640"/>
              <a:ext cx="7560720" cy="6453360"/>
              <a:chOff x="971640" y="404640"/>
              <a:chExt cx="7560720" cy="6453360"/>
            </a:xfrm>
          </p:grpSpPr>
          <p:sp>
            <p:nvSpPr>
              <p:cNvPr id="231" name="Text Box 11"/>
              <p:cNvSpPr/>
              <p:nvPr/>
            </p:nvSpPr>
            <p:spPr>
              <a:xfrm>
                <a:off x="97164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ые лечебно-профилактические учрежд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2"/>
              <p:cNvSpPr/>
              <p:nvPr/>
            </p:nvSpPr>
            <p:spPr>
              <a:xfrm>
                <a:off x="971640" y="107676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тр "Здоровье"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Text Box 13"/>
              <p:cNvSpPr/>
              <p:nvPr/>
            </p:nvSpPr>
            <p:spPr>
              <a:xfrm>
                <a:off x="971640" y="1614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ая станция переливания кров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Text Box 14"/>
              <p:cNvSpPr/>
              <p:nvPr/>
            </p:nvSpPr>
            <p:spPr>
              <a:xfrm>
                <a:off x="971640" y="2152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е бюро судмедэкспертиз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Text Box 15"/>
              <p:cNvSpPr/>
              <p:nvPr/>
            </p:nvSpPr>
            <p:spPr>
              <a:xfrm>
                <a:off x="971640" y="2690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Обласне патанатомічне бюро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971640" y="3227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й дом ребенк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Text Box 17"/>
              <p:cNvSpPr/>
              <p:nvPr/>
            </p:nvSpPr>
            <p:spPr>
              <a:xfrm>
                <a:off x="971640" y="3765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В/о “Фармация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Text Box 18"/>
              <p:cNvSpPr/>
              <p:nvPr/>
            </p:nvSpPr>
            <p:spPr>
              <a:xfrm>
                <a:off x="971640" y="4303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НВО “Медтехника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Text Box 19"/>
              <p:cNvSpPr/>
              <p:nvPr/>
            </p:nvSpPr>
            <p:spPr>
              <a:xfrm>
                <a:off x="971640" y="4841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Санепидслужба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Text Box 20"/>
              <p:cNvSpPr/>
              <p:nvPr/>
            </p:nvSpPr>
            <p:spPr>
              <a:xfrm>
                <a:off x="971640" y="537912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Дезстанция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Text Box 21"/>
              <p:cNvSpPr/>
              <p:nvPr/>
            </p:nvSpPr>
            <p:spPr>
              <a:xfrm>
                <a:off x="635148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Центральные районные больниц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Text Box 22"/>
              <p:cNvSpPr/>
              <p:nvPr/>
            </p:nvSpPr>
            <p:spPr>
              <a:xfrm>
                <a:off x="6351480" y="1076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образования город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Text Box 23"/>
              <p:cNvSpPr/>
              <p:nvPr/>
            </p:nvSpPr>
            <p:spPr>
              <a:xfrm>
                <a:off x="6351480" y="24210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щественные и религиозные организ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Text Box 24"/>
              <p:cNvSpPr/>
              <p:nvPr/>
            </p:nvSpPr>
            <p:spPr>
              <a:xfrm>
                <a:off x="6351480" y="2958840"/>
                <a:ext cx="218088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Бизнес-структуры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Text Box 25"/>
              <p:cNvSpPr/>
              <p:nvPr/>
            </p:nvSpPr>
            <p:spPr>
              <a:xfrm>
                <a:off x="6351480" y="17488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редства массовой информ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Text Box 26"/>
              <p:cNvSpPr/>
              <p:nvPr/>
            </p:nvSpPr>
            <p:spPr>
              <a:xfrm>
                <a:off x="6351480" y="3900240"/>
                <a:ext cx="2180880" cy="80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Индивидуальная трудовая деятельности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Text Box 27"/>
              <p:cNvSpPr/>
              <p:nvPr/>
            </p:nvSpPr>
            <p:spPr>
              <a:xfrm>
                <a:off x="6351480" y="4841280"/>
                <a:ext cx="2180880" cy="67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Аптеки различной формы собственно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Text Box 28"/>
              <p:cNvSpPr/>
              <p:nvPr/>
            </p:nvSpPr>
            <p:spPr>
              <a:xfrm>
                <a:off x="6351480" y="5513760"/>
                <a:ext cx="2180880" cy="67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Ведомственные учреждения медицинской помощ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Text Box 29"/>
              <p:cNvSpPr/>
              <p:nvPr/>
            </p:nvSpPr>
            <p:spPr>
              <a:xfrm>
                <a:off x="6351480" y="645480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лужбы МВД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4170240" y="107676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Text Box 31"/>
              <p:cNvSpPr/>
              <p:nvPr/>
            </p:nvSpPr>
            <p:spPr>
              <a:xfrm>
                <a:off x="4170240" y="309348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Text Box 32"/>
              <p:cNvSpPr/>
              <p:nvPr/>
            </p:nvSpPr>
            <p:spPr>
              <a:xfrm>
                <a:off x="4170240" y="470700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4897440" y="2017800"/>
                <a:ext cx="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Line 34"/>
              <p:cNvSpPr/>
              <p:nvPr/>
            </p:nvSpPr>
            <p:spPr>
              <a:xfrm>
                <a:off x="4897440" y="4034520"/>
                <a:ext cx="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Line 35"/>
              <p:cNvSpPr/>
              <p:nvPr/>
            </p:nvSpPr>
            <p:spPr>
              <a:xfrm flipH="1" flipV="1">
                <a:off x="3152160" y="6732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 flipV="1">
                <a:off x="5479200" y="673200"/>
                <a:ext cx="87228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37"/>
              <p:cNvSpPr/>
              <p:nvPr/>
            </p:nvSpPr>
            <p:spPr>
              <a:xfrm flipH="1">
                <a:off x="3152160" y="1211400"/>
                <a:ext cx="10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Line 38"/>
              <p:cNvSpPr/>
              <p:nvPr/>
            </p:nvSpPr>
            <p:spPr>
              <a:xfrm flipH="1">
                <a:off x="3152160" y="12114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Line 39"/>
              <p:cNvSpPr/>
              <p:nvPr/>
            </p:nvSpPr>
            <p:spPr>
              <a:xfrm flipH="1">
                <a:off x="3152160" y="1211400"/>
                <a:ext cx="101772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40"/>
              <p:cNvSpPr/>
              <p:nvPr/>
            </p:nvSpPr>
            <p:spPr>
              <a:xfrm flipH="1">
                <a:off x="3152160" y="1211400"/>
                <a:ext cx="101772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 flipH="1">
                <a:off x="3152160" y="1211400"/>
                <a:ext cx="1017720" cy="22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 flipH="1">
                <a:off x="3152160" y="1211400"/>
                <a:ext cx="1017720" cy="33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 flipV="1">
                <a:off x="5479200" y="2152080"/>
                <a:ext cx="872280" cy="1209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 flipV="1">
                <a:off x="5479200" y="2690280"/>
                <a:ext cx="87228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 flipV="1">
                <a:off x="5479200" y="3362400"/>
                <a:ext cx="872280" cy="26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5479200" y="3765600"/>
                <a:ext cx="872280" cy="40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5479200" y="3900240"/>
                <a:ext cx="872280" cy="120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479200" y="4034520"/>
                <a:ext cx="872280" cy="161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5479200" y="4034520"/>
                <a:ext cx="872280" cy="255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Line 50"/>
              <p:cNvSpPr/>
              <p:nvPr/>
            </p:nvSpPr>
            <p:spPr>
              <a:xfrm flipH="1" flipV="1">
                <a:off x="3152160" y="807480"/>
                <a:ext cx="101772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Line 51"/>
              <p:cNvSpPr/>
              <p:nvPr/>
            </p:nvSpPr>
            <p:spPr>
              <a:xfrm flipH="1" flipV="1">
                <a:off x="3152160" y="1345680"/>
                <a:ext cx="1017720" cy="20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Line 52"/>
              <p:cNvSpPr/>
              <p:nvPr/>
            </p:nvSpPr>
            <p:spPr>
              <a:xfrm flipH="1" flipV="1">
                <a:off x="3152160" y="2017800"/>
                <a:ext cx="101772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Line 53"/>
              <p:cNvSpPr/>
              <p:nvPr/>
            </p:nvSpPr>
            <p:spPr>
              <a:xfrm>
                <a:off x="3152520" y="309348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>
                <a:off x="3152520" y="3631320"/>
                <a:ext cx="10177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3152160" y="3900240"/>
                <a:ext cx="101772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3152160" y="4034520"/>
                <a:ext cx="101772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 flipH="1">
                <a:off x="3152160" y="4034520"/>
                <a:ext cx="101772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 flipH="1">
                <a:off x="3152160" y="4034520"/>
                <a:ext cx="116316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j0212674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82" name="WordArt 9"/>
          <p:cNvSpPr txBox="1"/>
          <p:nvPr/>
        </p:nvSpPr>
        <p:spPr>
          <a:xfrm>
            <a:off x="468360" y="549360"/>
            <a:ext cx="820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611280" y="260280"/>
            <a:ext cx="8137080" cy="6337440"/>
            <a:chOff x="611280" y="260280"/>
            <a:chExt cx="8137080" cy="6337440"/>
          </a:xfrm>
        </p:grpSpPr>
        <p:sp>
          <p:nvSpPr>
            <p:cNvPr id="99" name="Text Box 5"/>
            <p:cNvSpPr/>
            <p:nvPr/>
          </p:nvSpPr>
          <p:spPr>
            <a:xfrm>
              <a:off x="611280" y="260280"/>
              <a:ext cx="1479240" cy="73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ередфаз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 1900 г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202760" y="788400"/>
              <a:ext cx="325476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Школа науч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202760" y="1105200"/>
              <a:ext cx="325476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1900- 1930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СШ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1646640" y="1633320"/>
              <a:ext cx="355068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административ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46640" y="1950120"/>
              <a:ext cx="35506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1900 - 1930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Германия, Франция, Англ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5493600" y="1105200"/>
              <a:ext cx="3254760" cy="105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оведенческая школ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(Школа поведенческих наук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457880" y="2478240"/>
              <a:ext cx="295884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еоклассическая школа управлен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4457880" y="2689560"/>
              <a:ext cx="2958840" cy="52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930 –195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США, Япон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5493600" y="311184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систем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5493600" y="342900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З 1940 и до сегодн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34760" y="3323160"/>
              <a:ext cx="207108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Професиональ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2090520" y="374580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2682360" y="416844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он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18"/>
            <p:cNvSpPr/>
            <p:nvPr/>
          </p:nvSpPr>
          <p:spPr>
            <a:xfrm>
              <a:off x="1646640" y="4590720"/>
              <a:ext cx="384696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Теория ситуацыонной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условлен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351080" y="5013360"/>
              <a:ext cx="31068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зависимости от ресурс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351080" y="5436000"/>
              <a:ext cx="38466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цепция стратегическ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>
              <a:off x="2238480" y="585828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популяционной эколог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3274200" y="628092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ституциональная теор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 rot="2081400">
              <a:off x="6233400" y="1844640"/>
              <a:ext cx="160200" cy="769680"/>
            </a:xfrm>
            <a:prstGeom prst="upArrow">
              <a:avLst>
                <a:gd name="adj1" fmla="val 50000"/>
                <a:gd name="adj2" fmla="val 1201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7121160" y="4696560"/>
              <a:ext cx="1479240" cy="63360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ременные теории менеджмент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 rot="12900000">
              <a:off x="7641000" y="3831840"/>
              <a:ext cx="147960" cy="950400"/>
            </a:xfrm>
            <a:prstGeom prst="upArrow">
              <a:avLst>
                <a:gd name="adj1" fmla="val 50000"/>
                <a:gd name="adj2" fmla="val 1605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 flipH="1">
              <a:off x="4605840" y="3429000"/>
              <a:ext cx="8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 flipH="1">
              <a:off x="4161600" y="3429000"/>
              <a:ext cx="133164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 flipH="1">
              <a:off x="4753440" y="3429000"/>
              <a:ext cx="73980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 flipV="1">
              <a:off x="5493600" y="4801680"/>
              <a:ext cx="16272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>
              <a:off x="4457880" y="5013360"/>
              <a:ext cx="266328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H="1">
              <a:off x="5197320" y="5013360"/>
              <a:ext cx="192348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 flipH="1">
              <a:off x="5197320" y="5013360"/>
              <a:ext cx="192348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 flipH="1">
              <a:off x="6085440" y="5013360"/>
              <a:ext cx="103536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17440"/>
            <a:ext cx="91440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765000"/>
            <a:ext cx="698508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11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Фредерик Уинстон (1856-1915)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55640" y="836640"/>
            <a:ext cx="7704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йоль Анри (1841-1925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30:54Z</dcterms:created>
  <dc:creator>Home</dc:creator>
  <dc:description/>
  <dc:language>en-US</dc:language>
  <cp:lastModifiedBy>LEGION</cp:lastModifiedBy>
  <dcterms:modified xsi:type="dcterms:W3CDTF">2016-01-11T10:02:41Z</dcterms:modified>
  <cp:revision>18</cp:revision>
  <dc:subject/>
  <dc:title>Общие основы менеджмента</dc:title>
</cp:coreProperties>
</file>