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10.png" ContentType="image/png"/>
  <Override PartName="/ppt/media/image5.png" ContentType="image/png"/>
  <Override PartName="/ppt/media/image4.png" ContentType="image/png"/>
  <Override PartName="/ppt/media/image12.png" ContentType="image/png"/>
  <Override PartName="/ppt/media/image7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gif" ContentType="image/gif"/>
  <Override PartName="/ppt/media/image17.png" ContentType="image/png"/>
  <Override PartName="/ppt/media/image19.gif" ContentType="image/gif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9296-3749-4AB5-98E5-4936D949F4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цы основных документов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цы основных документов управления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ка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правовой акт, издаваемый руководителем в целях разрешения производственных задач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иказ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правовой акт, издаваемый руководителем в целях разрешения производственных задач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казы предприятия делятся на две основные групп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казы по основной деятельности (производственным вопросам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казы по личному составу (персоналу предприятия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той приказа является дата его подписания руководител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иказы предприятия делятся на две основные группы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иказы по основной деятельности (производственным вопросам)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иказы по личному составу (персоналу предприятия)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атой приказа является дата его подписания руководителем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бразец прика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приказа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каз по личному состав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правовой акт, издаваемый руководителем, как правило, по вопросам приема, увольнения и перевода работников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каз по личному составу – обязательный документ трудовых правоотнош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иказ по личному составу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правовой акт, издаваемый руководителем, как правило, по вопросам приема, увольнения и перевода работников предприятия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иказ по личному составу – обязательный документ трудовых правоотношений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ец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дного приказ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личному составу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водного приказа </a:t>
            </a:r>
            <a:br>
              <a:rPr sz="1200"/>
            </a:b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 личному составу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ец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дного приказ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личному составу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водного приказа </a:t>
            </a:r>
            <a:br>
              <a:rPr sz="1200"/>
            </a:b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 личному составу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бразец указ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указания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о-справочные докумен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токол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ладные и служебные зап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авк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а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Информационно-справочные документы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отоколы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Акты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окладные и служебные записки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правки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исьма и др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токо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документ, фиксирующий ход обсуждения вопросов и коллегиального принятия решений на собраниях, совещаниях, заседания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той протокола является дата проведения собр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отокол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документ, фиксирующий ход обсуждения вопросов и коллегиального принятия решений на собраниях, совещаниях, заседаниях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атой протокола является дата проведения собрания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бразец полного протоко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полного протокола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онные докумен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стр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рганизационные документы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ставы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ложения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Инструкции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документ, составленный несколькими лицами и подтверждающий конкретные факты или действ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новидности акт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 приемки-передачи оборудования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 обследования места происшеств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 списания материальных ценност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 провер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мерческий акт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Акт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документ, составленный несколькими лицами и подтверждающий конкретные факты или действия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Разновидности актов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акт приемки-передачи оборудования;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акт обследования места происшествия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акт списания материальных ценностей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акт проверки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коммерческий акт и т.д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бразец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а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</a:t>
            </a:r>
            <a:br>
              <a:rPr sz="1200"/>
            </a:b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акта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ладная запис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документ, адресованный руководству, содержащий изложение какого-либо вопроса с выводами и предложениями составител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ладная записка может быть внешней и внутренн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ужебная записка – документ, адресованный руководителю предприятия или структурного подразделения, используемый  для решения  производственных  вопросов, как правило, внутри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окладная записка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документ, адресованный руководству, содержащий изложение какого-либо вопроса с выводами и предложениями составителя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окладная записка может быть внешней и внутренней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лужебная записка – документ, адресованный руководителю предприятия или структурного подразделения, используемый  для решения  производственных  вопросов, как правило, внутри предприятия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ец внутренне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ладной зап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внутренней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окладной записки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яснительные зап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яются по производственным вопросам и трудовым правоотношен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кст объяснительной записки составляется в произвольной форме, как правило, с указанием причин, которые привели к каким-либо нарушен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ъяснительные записки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оставляются по производственным вопросам и трудовым правоотношениям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текст объяснительной записки составляется в произвольной форме, как правило, с указанием причин, которые привели к каким-либо нарушениям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ец внутренне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яснительной зап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внутренней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ъяснительной записки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авк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документ, содержащий описание и (или) подтверждение фактов, событ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правка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документ, содержащий описание и (или) подтверждение фактов, событий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справ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авки, подтверждающие работу (учебу), оплату труда, место проживания и т.п., составляются по запросам гражда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авки по производственным вопросам, составляются по запросу руководства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- внешние составляются по запросу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вышестоящей организ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внутренние составляются по запросу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руководства своей организ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Виды справок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правки, подтверждающие работу (учебу), оплату труда, место проживания и т.п., составляются по запросам граждан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правки по производственным вопросам, составляются по запросу руководства:</a:t>
            </a:r>
            <a:br>
              <a:rPr sz="1200"/>
            </a:b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 - внешние составляются по запросу</a:t>
            </a:r>
            <a:br>
              <a:rPr sz="1200"/>
            </a:b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   вышестоящей организации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   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- внутренние составляются по запросу</a:t>
            </a:r>
            <a:br>
              <a:rPr sz="1200"/>
            </a:b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   руководства своей организации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ец  справки с места работ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 справки с места работы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ец внутренней справки по производственно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я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внутренней справки по производственной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еятельности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в – это правовой акт, определяющий права, функции, структуру организации в сфере государственной, коммерческой или обще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формляется на стандартных листах бумаг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став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став – это правовой акт, определяющий права, функции, структуру организации в сфере государственной, коммерческой или общественной деятельности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формляется на стандартных листах бумаги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яв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документ, содержащий просьбу или предлож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кст заявления должен быть юридически правильны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принято употреблять архаизмы и канцеляризмы («весьма убедительно», «заранее признателен», «прошу не отказать»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Заявлени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документ, содержащий просьбу или предложение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Текст заявления должен быть юридически правильным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Не принято употреблять архаизмы и канцеляризмы («весьма убедительно», «заранее признателен», «прошу не отказать»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фициально-деловой стиль излож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зык документов отличается подчеркнутой логичностью и безэмоциональностью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фициально-деловой стиль изложения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Язык документов отличается подчеркнутой логичностью и безэмоциональностью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бразец зая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заявления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зюм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документ, содержащий сведения, характеризующие уровень образования, профессиональные навыки и опыт работы претендента на долж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Резюм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документ, содержащий сведения, характеризующие уровень образования, профессиональные навыки и опыт работы претендента на должность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бразец резюм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резюме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обобщенное название различных по содержанию документов, пересылаемых по почте, курьером, посредством факсимильной связи, электронной почтой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а оформляются на бланке пись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екты писем готовятся исполнителями по поручению руководства предпри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исьмо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обобщенное название различных по содержанию документов, пересылаемых по почте, курьером, посредством факсимильной связи, электронной почтой и т.д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исьма оформляются на бланке письма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оекты писем готовятся исполнителями по поручению руководства предприятия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одержанию и назначению письма могут бы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струкцио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арантий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клам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мерческ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кламацио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а-запро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а-приглашения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 содержанию и назначению письма могут быть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инструкционны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гарантийны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информационны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рекламны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коммерчески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рекламационны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исьма-запросы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исьма-приглашения и др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дии подготовки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ение существа вопрос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бор необходимых сведений, в т.ч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из предыдущей перепис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 письм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гласование проекта (пр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необходимости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писание пись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тадии подготовки письма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Изучение существа вопроса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бор необходимых сведений, в т.ч. </a:t>
            </a:r>
            <a:br>
              <a:rPr sz="1200"/>
            </a:b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из предыдущей переписки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дготовка проекта письма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огласование проекта (при</a:t>
            </a:r>
            <a:br>
              <a:rPr sz="1200"/>
            </a:b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необходимости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дписание письма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о должно име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т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мер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сылку на дату и номер получен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письма (в письмах-ответах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дреса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головок (отвечающий на вопрос - о чем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кс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пис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метку об исполнител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метку о наличии прилож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исьмо должно иметь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ату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Номер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сылку на дату и номер полученного</a:t>
            </a:r>
            <a:br>
              <a:rPr sz="1200"/>
            </a:b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 письма (в письмах-ответах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Адресат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Заголовок (отвечающий на вопрос - о чем?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Текст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дпись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тметку об исполнителе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тметку о наличии приложений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виды устав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в государственной организации  (утверждается вышестоящим органом – министерством, комитетом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в муниципальной организации (утверждается городской или районной администрацией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в коммерческой организации (утверждается общим собранием (учредителями, собственниками имущества) и регистрируется государственным органом (регистрационной палатой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в общественной организации (утверждается общим собранием (съездом) участников организ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сновные виды уставов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став государственной организации  (утверждается вышестоящим органом – министерством, комитетом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став муниципальной организации (утверждается городской или районной администрацией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став коммерческой организации (утверждается общим собранием (учредителями, собственниками имущества) и регистрируется государственным органом (регистрационной палатой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став общественной организации (утверждается общим собранием (съездом) участников организации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ец исходяще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а – просьб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исходящего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исьма – просьбы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бразец входяще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исьма-отве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входящего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исьма-ответа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кст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жен быть лаконичным, последовательным, убедительным и корректны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кст, как правило, не превышает одной страниц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ы и события должны представляться объективно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стороны излагаемого вопроса должны освещаться с достаточной полнотой, кратко и яс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Текст письма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олжен быть лаконичным, последовательным, убедительным и корректным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Текст, как правило, не превышает одной страницы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Факты и события должны представляться объективно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Все стороны излагаемого вопроса должны освещаться с достаточной полнотой, кратко и ясно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бразец гарантийного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43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гарантийного письма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бразец информацион-ного письм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информацион-ного письма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Вопросы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Вопросы ?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в должен име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менование организ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менование вида докумен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ту (это дата утверждения устава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иф утвержд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метку о регистрации устава (для коммерческих организаций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сто издания (город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кс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писи учредителей или лиц, занимающих выборные должности (председателя, секретаря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став должен иметь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Наименование организации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Наименование вида документа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ату (это дата утверждения устава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Гриф утверждения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тметку о регистрации устава (для коммерческих организаций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Место издания (город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Текст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дписи учредителей или лиц, занимающих выборные должности (председателя, секретаря)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кст уста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ит из разделов, имеющих заголовки и нумерацию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е поло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и, задачи, предмет деятель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ой стату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онная структура (органы управления, структурные подразделения и их взаимосвяз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о-материальная база (уставной капитал, акции, основные и оборотные средства, порядок распоряжения им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т и отчет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троль за финансово-хозяйственной деятельность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а и обязанности участни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ядок ликвидации и реограниз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Текст устава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остоит из разделов, имеющих заголовки и нумерацию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щие положения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Цели, задачи, предмет деятельности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авовой статус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рганизационная структура (органы управления, структурные подразделения и их взаимосвязи)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Финансово-материальная база (уставной капитал, акции, основные и оборотные средства, порядок распоряжения ими)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чет и отчетность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Контроль за финансово-хозяйственной деятельностью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ава и обязанности участников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рядок ликвидации и реогранизации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ожения, инстр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ожение – нормативный акт, определяющий порядок образования, структуру, функции, права и обязанности организации, структурного подразделения, коллегиального органа (комисси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струкция – нормативный акт, регулирующий организационные, производственные, финансовые и иные вопросы деятельности организаций, предприятий и должностных лиц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ложения, инструкции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ложение – нормативный акт, определяющий порядок образования, структуру, функции, права и обязанности организации, структурного подразделения, коллегиального органа (комиссии)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Инструкция – нормативный акт, регулирующий организационные, производственные, финансовые и иные вопросы деятельности организаций, предприятий и должностных лиц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жностная инструк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нормативный документ, в котором определены функции, права, обязанности и ответственность сотрудника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основании должностной инструкции разрабатывается трудовой договор с работник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жностная инструкц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атывается  руководителем структурного подраздел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зируется  юрисконсультом и кадровой службо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тверждается  руководителем или заместителем директора, курирующим это подразделение, или вводится приказ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олжностная инструкция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нормативный документ, в котором определены функции, права, обязанности и ответственность сотрудника предприятия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На основании должностной инструкции разрабатывается трудовой договор с работником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олжностная инструкция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разрабатывается  руководителем структурного подразделения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визируется  юрисконсультом и кадровой службой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тверждается  руководителем или заместителем директора, курирующим это подразделение, или вводится приказом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рядительные докумен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ка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ря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аз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Распорядительные документы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иказ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Распоряжени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казани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Решени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39EB-3A34-49D5-B1B0-AC191B984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54BF-8A6E-4894-B0B3-E5AA81CB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3DDE-CFEA-4A61-8A7C-299C34B9A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7022-5E65-4C66-8661-29D3DE3FA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604DA-625B-47F6-9340-309E52473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BBE77-B2F5-4E82-B72C-17E6F55F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3AA3-9375-4D56-9AE8-C7F1A461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A77F-6891-409B-BBB2-E5FD418E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2CBB-3750-41D4-AB65-1FAC19D6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D54B-59F0-40D5-9465-28494DBF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04F19-6D3F-4CE6-8AB1-8DD2E6C7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F562-E9EF-446B-A748-30763AFB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A2FF-D83C-49D0-9704-58C23CF8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3784-66EB-4969-A9DB-B9AF7E8D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A7B0E-704A-4BA8-8082-C8C3F063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B9ED-F395-4BE7-A5A9-C96ABEC4D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9FCC-1989-4C03-B7D2-B85B8E6D5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CA48-CC3E-4B6B-99B6-25D291E2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5229-D171-4162-8BDA-6AE9F5A1B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5824-A5EE-4FDB-86D1-5C5C1C42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0344-E76F-4818-8645-11AB8E8F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2AD7-6077-42DA-82AA-57086820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D63B-E2F4-40D8-B681-4E8BDFDB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1B42-4AB2-485D-8604-3C916FED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8C31-9BDC-46D4-93BE-E4628D5D9C22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E888-F914-423C-9936-D185F2AC0D3D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d3333"/>
                </a:solidFill>
                <a:latin typeface="Times New Roman"/>
              </a:rPr>
              <a:t>Образцы основных документов управления</a:t>
            </a:r>
            <a:endParaRPr b="0" lang="en-US" sz="5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a08366"/>
              </a:solidFill>
              <a:latin typeface="Times New Roman"/>
            </a:endParaRPr>
          </a:p>
        </p:txBody>
      </p:sp>
      <p:pic>
        <p:nvPicPr>
          <p:cNvPr id="98" name="Picture 6" descr="AG00280_(t)"/>
          <p:cNvPicPr/>
          <p:nvPr/>
        </p:nvPicPr>
        <p:blipFill>
          <a:blip r:embed="rId1"/>
          <a:stretch/>
        </p:blipFill>
        <p:spPr>
          <a:xfrm>
            <a:off x="3564000" y="371628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40056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риказ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7164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2000"/>
                </a:solidFill>
                <a:latin typeface="Times New Roman"/>
              </a:rPr>
              <a:t>Это правовой акт, издаваемый руководителем в целях разрешения производственных задач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d3333"/>
                </a:solidFill>
                <a:latin typeface="Times New Roman"/>
              </a:rPr>
              <a:t>Приказы предприятия делятся на две основные группы: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риказы по </a:t>
            </a:r>
            <a:r>
              <a:rPr b="1" lang="ru-RU" sz="3200" spc="-1" strike="noStrike">
                <a:solidFill>
                  <a:srgbClr val="cd3333"/>
                </a:solidFill>
                <a:latin typeface="Times New Roman"/>
              </a:rPr>
              <a:t>основной деятельности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(производственным вопросам)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риказы по </a:t>
            </a:r>
            <a:r>
              <a:rPr b="1" lang="ru-RU" sz="3200" spc="-1" strike="noStrike">
                <a:solidFill>
                  <a:srgbClr val="cd3333"/>
                </a:solidFill>
                <a:latin typeface="Times New Roman"/>
              </a:rPr>
              <a:t>личному составу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(персоналу предприятия)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187280" y="4581360"/>
            <a:ext cx="763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d3333"/>
                </a:solidFill>
                <a:latin typeface="Times New Roman"/>
              </a:rPr>
              <a:t>Датой приказа является</a:t>
            </a:r>
            <a:r>
              <a:rPr b="0" lang="ru-RU" sz="32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дата его подписания руководителем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"/>
          <p:cNvPicPr/>
          <p:nvPr/>
        </p:nvPicPr>
        <p:blipFill>
          <a:blip r:embed="rId1"/>
          <a:srcRect l="31141" t="16899" r="30308" b="18004"/>
          <a:stretch/>
        </p:blipFill>
        <p:spPr>
          <a:xfrm>
            <a:off x="1547640" y="189000"/>
            <a:ext cx="4977000" cy="6480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6516720" y="333360"/>
            <a:ext cx="230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приказа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риказ по личному составу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Это правовой акт, издаваемый руководителем, как правило, по вопросам приема, увольнения и перевода работников предприятия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d3333"/>
                </a:solidFill>
                <a:latin typeface="Times New Roman"/>
              </a:rPr>
              <a:t>Приказ по личному составу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– обязательный документ трудовых правоотношений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rcRect l="30308" t="15001" r="30308" b="15280"/>
          <a:stretch/>
        </p:blipFill>
        <p:spPr>
          <a:xfrm>
            <a:off x="900000" y="189000"/>
            <a:ext cx="4915080" cy="65246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5796000" y="189000"/>
            <a:ext cx="349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бразец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водного приказа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 личному составу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rcRect l="31141" t="16237" r="30308" b="17588"/>
          <a:stretch/>
        </p:blipFill>
        <p:spPr>
          <a:xfrm>
            <a:off x="900000" y="260280"/>
            <a:ext cx="4810320" cy="63374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4"/>
          <p:cNvSpPr/>
          <p:nvPr/>
        </p:nvSpPr>
        <p:spPr>
          <a:xfrm>
            <a:off x="5651640" y="260280"/>
            <a:ext cx="349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бразец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водного приказа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 личному составу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rcRect l="31141" t="16150" r="31264" b="19398"/>
          <a:stretch/>
        </p:blipFill>
        <p:spPr>
          <a:xfrm>
            <a:off x="971640" y="189000"/>
            <a:ext cx="5040360" cy="64818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6588000" y="333360"/>
            <a:ext cx="23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указания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77724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Информационно-справочные документы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7280" y="1699920"/>
            <a:ext cx="7632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2000"/>
                </a:solidFill>
                <a:latin typeface="Times New Roman"/>
              </a:rPr>
              <a:t>Протоколы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2000"/>
                </a:solidFill>
                <a:latin typeface="Times New Roman"/>
              </a:rPr>
              <a:t>Акты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2000"/>
                </a:solidFill>
                <a:latin typeface="Times New Roman"/>
              </a:rPr>
              <a:t>Докладные и служебные записки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2000"/>
                </a:solidFill>
                <a:latin typeface="Times New Roman"/>
              </a:rPr>
              <a:t>Справки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2000"/>
                </a:solidFill>
                <a:latin typeface="Times New Roman"/>
              </a:rPr>
              <a:t>Письма и др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ротокол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Это документ, фиксирующий ход обсуждения вопросов и коллегиального принятия решений на собраниях, совещаниях, заседаниях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042920" y="436572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d3333"/>
                </a:solidFill>
                <a:latin typeface="Times New Roman"/>
              </a:rPr>
              <a:t>Датой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ротокола является </a:t>
            </a:r>
            <a:r>
              <a:rPr b="0" lang="ru-RU" sz="3200" spc="-1" strike="noStrike" u="sng">
                <a:solidFill>
                  <a:srgbClr val="402000"/>
                </a:solidFill>
                <a:uFillTx/>
                <a:latin typeface="Times New Roman"/>
              </a:rPr>
              <a:t>дата проведения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собрания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rcRect l="31141" t="17052" r="30308" b="14252"/>
          <a:stretch/>
        </p:blipFill>
        <p:spPr>
          <a:xfrm>
            <a:off x="900000" y="115920"/>
            <a:ext cx="4903920" cy="65530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5940360" y="260280"/>
            <a:ext cx="277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полного протокола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Организационные документы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987640" y="2276640"/>
            <a:ext cx="40132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02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Уставы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02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Положения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02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Инструкции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Акт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Это документ, составленный несколькими лицами и подтверждающий конкретные факты или действия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d3333"/>
                </a:solidFill>
                <a:latin typeface="Times New Roman"/>
              </a:rPr>
              <a:t>Разновидности актов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2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акт приемки-передачи оборудования;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2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акт обследования места происшествия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2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акт списания материальных ценностей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2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акт проверки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2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коммерческий акт и т.д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rcRect l="31141" t="15001" r="30308" b="16298"/>
          <a:stretch/>
        </p:blipFill>
        <p:spPr>
          <a:xfrm>
            <a:off x="1042920" y="260280"/>
            <a:ext cx="4794480" cy="64087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6445440" y="333360"/>
            <a:ext cx="221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акта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Докладная записка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71640" y="169992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Это документ, адресованный руководству, содержащий изложение какого-либо вопроса с выводами и предложениями составителя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Докладная записка может быть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внешней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и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внутренней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d3333"/>
                </a:solidFill>
                <a:latin typeface="Times New Roman"/>
              </a:rPr>
              <a:t>Служебная записка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– документ, адресованный руководителю предприятия или структурного подразделения, используемый  для решения  производственных  вопросов, как правило, внутри предприятия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rcRect l="32428" t="15001" r="32150" b="30085"/>
          <a:stretch/>
        </p:blipFill>
        <p:spPr>
          <a:xfrm>
            <a:off x="673200" y="260280"/>
            <a:ext cx="5389560" cy="6597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6048360" y="260280"/>
            <a:ext cx="3095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внутренней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докладной записки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Объяснительные записки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71640" y="2133720"/>
            <a:ext cx="77724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составляются по производственным вопросам и трудовым правоотношениям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текст объяснительной записки составляется в произвольной форме, как правило, с указанием причин, которые привели к каким-либо нарушениям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1"/>
          <a:srcRect l="32166" t="18474" r="33019" b="34854"/>
          <a:stretch/>
        </p:blipFill>
        <p:spPr>
          <a:xfrm>
            <a:off x="324000" y="333360"/>
            <a:ext cx="5276880" cy="59770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"/>
          <p:cNvSpPr/>
          <p:nvPr/>
        </p:nvSpPr>
        <p:spPr>
          <a:xfrm>
            <a:off x="5580000" y="476280"/>
            <a:ext cx="324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бразец внутренней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бъяснительной записки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правка</a:t>
            </a: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Это документ, содержащий описание и (или) подтверждение фактов, событий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Виды справок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03280" y="1773360"/>
            <a:ext cx="689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правки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, подтверждающие работу (учебу), оплату труда, место проживания и т.п., составляются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о запросам граждан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правки по производственным вопросам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, составляются по запросу руководства:</a:t>
            </a:r>
            <a:br>
              <a:rPr sz="2800"/>
            </a:b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 -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внешние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составляются по запросу</a:t>
            </a:r>
            <a:br>
              <a:rPr sz="2800"/>
            </a:b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   вышестоящей организации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внутренние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составляются по запросу</a:t>
            </a:r>
            <a:br>
              <a:rPr sz="2800"/>
            </a:b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   руководства своей организации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rcRect l="30854" t="16248" r="31157" b="43910"/>
          <a:stretch/>
        </p:blipFill>
        <p:spPr>
          <a:xfrm>
            <a:off x="611280" y="260280"/>
            <a:ext cx="5616360" cy="52102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"/>
          <p:cNvSpPr/>
          <p:nvPr/>
        </p:nvSpPr>
        <p:spPr>
          <a:xfrm>
            <a:off x="6227640" y="404640"/>
            <a:ext cx="259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 справки с места работы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rcRect l="31313" t="18343" r="31137" b="24512"/>
          <a:stretch/>
        </p:blipFill>
        <p:spPr>
          <a:xfrm>
            <a:off x="2195640" y="260280"/>
            <a:ext cx="5400720" cy="62643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2556000" y="5300640"/>
            <a:ext cx="518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бразец внутренней справки по производственной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деятельности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Устав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292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d3333"/>
                </a:solidFill>
                <a:latin typeface="Times New Roman"/>
              </a:rPr>
              <a:t>Устав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– это правовой акт, определяющий права, функции, структуру организации в сфере государственной, коммерческой или общественной деятельности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Оформляется на стандартных листах бумаги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Заявление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Это документ, содержащий просьбу или предложение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Текст заявления должен быть юридически правильным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Не принято употреблять архаизмы и канцеляризмы («весьма убедительно», «заранее признателен», «прошу не отказать»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88" name="Picture 4" descr="MOUSE1"/>
          <p:cNvPicPr/>
          <p:nvPr/>
        </p:nvPicPr>
        <p:blipFill>
          <a:blip r:embed="rId1"/>
          <a:stretch/>
        </p:blipFill>
        <p:spPr>
          <a:xfrm>
            <a:off x="6732720" y="5084640"/>
            <a:ext cx="1193760" cy="129564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d3333"/>
                </a:solidFill>
                <a:latin typeface="Times New Roman"/>
              </a:rPr>
              <a:t>Официально-деловой стиль изложения</a:t>
            </a:r>
            <a:r>
              <a:rPr b="0" lang="ru-RU" sz="40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91" name="Picture 6" descr="Язык документов отличает подчеркнутая логичность и безэмоциональность"/>
          <p:cNvPicPr/>
          <p:nvPr/>
        </p:nvPicPr>
        <p:blipFill>
          <a:blip r:embed="rId1"/>
          <a:stretch/>
        </p:blipFill>
        <p:spPr>
          <a:xfrm>
            <a:off x="3995640" y="1844640"/>
            <a:ext cx="4681800" cy="42274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7"/>
          <p:cNvSpPr/>
          <p:nvPr/>
        </p:nvSpPr>
        <p:spPr>
          <a:xfrm>
            <a:off x="971640" y="2349360"/>
            <a:ext cx="316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Язык документов отличается подчеркнутой логичностью и безэмоциональностью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"/>
          <p:cNvPicPr/>
          <p:nvPr/>
        </p:nvPicPr>
        <p:blipFill>
          <a:blip r:embed="rId1"/>
          <a:srcRect l="30833" t="16423" r="33039" b="24074"/>
          <a:stretch/>
        </p:blipFill>
        <p:spPr>
          <a:xfrm>
            <a:off x="971640" y="260280"/>
            <a:ext cx="4895640" cy="62643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"/>
          <p:cNvSpPr/>
          <p:nvPr/>
        </p:nvSpPr>
        <p:spPr>
          <a:xfrm>
            <a:off x="6156360" y="333360"/>
            <a:ext cx="2771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заявления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Резюме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7772400" cy="26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Это документ, содержащий сведения, характеризующие уровень образования, профессиональные навыки и опыт работы претендента на должность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rcRect l="31096" t="19984" r="30194" b="19010"/>
          <a:stretch/>
        </p:blipFill>
        <p:spPr>
          <a:xfrm>
            <a:off x="971640" y="260280"/>
            <a:ext cx="5173560" cy="640872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3"/>
          <p:cNvSpPr/>
          <p:nvPr/>
        </p:nvSpPr>
        <p:spPr>
          <a:xfrm>
            <a:off x="6516720" y="333360"/>
            <a:ext cx="23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резюме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исьмо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Это обобщенное название различных по содержанию документов, пересылаемых по почте, курьером, посредством факсимильной связи, электронной почтой и т.д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исьма оформляются на 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бланке письма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Проекты писем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готовятся исполнителями по поручению руководства предприятия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208" name="Picture 4" descr="017"/>
          <p:cNvPicPr/>
          <p:nvPr/>
        </p:nvPicPr>
        <p:blipFill>
          <a:blip r:embed="rId1"/>
          <a:stretch/>
        </p:blipFill>
        <p:spPr>
          <a:xfrm>
            <a:off x="6804000" y="3429000"/>
            <a:ext cx="1079640" cy="103824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d3333"/>
                </a:solidFill>
                <a:latin typeface="Times New Roman"/>
              </a:rPr>
              <a:t>По содержанию и назначению письма могут быть: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0372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799"/>
              </a:spcBef>
              <a:buClr>
                <a:srgbClr val="402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инструкционные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2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гарантийные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2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информационные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2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рекламные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2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коммерческие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2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рекламационные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2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письма-запросы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2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письма-приглашения и др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Стадии подготовки письма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31640" y="1773360"/>
            <a:ext cx="711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2000"/>
              </a:buClr>
              <a:buSzPct val="90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Изучение существа вопроса;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02000"/>
              </a:buClr>
              <a:buSzPct val="90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Сбор необходимых сведений, в т.ч. </a:t>
            </a:r>
            <a:br>
              <a:rPr sz="3200"/>
            </a:b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из предыдущей переписки;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02000"/>
              </a:buClr>
              <a:buSzPct val="90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одготовка проекта письма;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02000"/>
              </a:buClr>
              <a:buSzPct val="90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Согласование проекта (при</a:t>
            </a:r>
            <a:br>
              <a:rPr sz="3200"/>
            </a:b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необходимости);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02000"/>
              </a:buClr>
              <a:buSzPct val="90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одписание письма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Письмо должно иметь: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71280" y="1916280"/>
            <a:ext cx="784836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Дату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Номер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Ссылку на дату и номер полученного</a:t>
            </a:r>
            <a:br>
              <a:rPr sz="2800"/>
            </a:b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  письма (в письмах-ответах)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Адресат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Заголовок (отвечающий на вопрос - о чем?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Текст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Подпись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Отметку об исполнителе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Отметку о наличии приложений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Основные виды уставов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42560" y="170028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d3333"/>
                </a:solidFill>
                <a:latin typeface="Times New Roman"/>
              </a:rPr>
              <a:t>Устав государственной организации</a:t>
            </a:r>
            <a:r>
              <a:rPr b="0" lang="ru-RU" sz="2600" spc="-1" strike="noStrike">
                <a:solidFill>
                  <a:srgbClr val="402000"/>
                </a:solidFill>
                <a:latin typeface="Times New Roman"/>
              </a:rPr>
              <a:t>  (утверждается вышестоящим органом – министерством, комитетом);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d3333"/>
                </a:solidFill>
                <a:latin typeface="Times New Roman"/>
              </a:rPr>
              <a:t>Устав муниципальной организации</a:t>
            </a:r>
            <a:r>
              <a:rPr b="0" lang="ru-RU" sz="2600" spc="-1" strike="noStrike">
                <a:solidFill>
                  <a:srgbClr val="cd3333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402000"/>
                </a:solidFill>
                <a:latin typeface="Times New Roman"/>
              </a:rPr>
              <a:t>(утверждается городской или районной администрацией);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d3333"/>
                </a:solidFill>
                <a:latin typeface="Times New Roman"/>
              </a:rPr>
              <a:t>Устав коммерческой организации</a:t>
            </a:r>
            <a:r>
              <a:rPr b="0" lang="ru-RU" sz="2600" spc="-1" strike="noStrike">
                <a:solidFill>
                  <a:srgbClr val="cd3333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402000"/>
                </a:solidFill>
                <a:latin typeface="Times New Roman"/>
              </a:rPr>
              <a:t>(утверждается общим собранием (учредителями, собственниками имущества) и регистрируется государственным органом (регистрационной палатой);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cd3333"/>
                </a:solidFill>
                <a:latin typeface="Times New Roman"/>
              </a:rPr>
              <a:t>Устав общественной</a:t>
            </a:r>
            <a:r>
              <a:rPr b="1" lang="ru-RU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cd3333"/>
                </a:solidFill>
                <a:latin typeface="Times New Roman"/>
              </a:rPr>
              <a:t>организации</a:t>
            </a:r>
            <a:r>
              <a:rPr b="0" lang="ru-RU" sz="2600" spc="-1" strike="noStrike">
                <a:solidFill>
                  <a:srgbClr val="cd3333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402000"/>
                </a:solidFill>
                <a:latin typeface="Times New Roman"/>
              </a:rPr>
              <a:t>(утверждается общим собранием (съездом) участников организации.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1"/>
          <a:srcRect l="31686" t="19289" r="31981" b="20536"/>
          <a:stretch/>
        </p:blipFill>
        <p:spPr>
          <a:xfrm>
            <a:off x="684360" y="260280"/>
            <a:ext cx="5159160" cy="633744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3"/>
          <p:cNvSpPr/>
          <p:nvPr/>
        </p:nvSpPr>
        <p:spPr>
          <a:xfrm>
            <a:off x="5904000" y="333360"/>
            <a:ext cx="324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исходящего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исьма – просьбы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rcRect l="31161" t="17763" r="31604" b="19109"/>
          <a:stretch/>
        </p:blipFill>
        <p:spPr>
          <a:xfrm>
            <a:off x="900000" y="260280"/>
            <a:ext cx="5040360" cy="640872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3"/>
          <p:cNvSpPr/>
          <p:nvPr/>
        </p:nvSpPr>
        <p:spPr>
          <a:xfrm>
            <a:off x="6156360" y="333360"/>
            <a:ext cx="345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входящего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исьма-ответа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Текст письма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Должен быть лаконичным, последовательным, убедительным и корректным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Текст, как правило, не превышает одной страницы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Факты и события должны представляться объективно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Все стороны излагаемого вопроса должны освещаться с достаточной полнотой, кратко и ясно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rcRect l="30895" t="16565" r="30308" b="19415"/>
          <a:stretch/>
        </p:blipFill>
        <p:spPr>
          <a:xfrm>
            <a:off x="900000" y="333360"/>
            <a:ext cx="4827600" cy="626436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3"/>
          <p:cNvSpPr/>
          <p:nvPr/>
        </p:nvSpPr>
        <p:spPr>
          <a:xfrm>
            <a:off x="5580000" y="404640"/>
            <a:ext cx="410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гарантийного письма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96000" y="764640"/>
            <a:ext cx="334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бразец информацион-ного письма</a:t>
            </a:r>
            <a:r>
              <a:rPr b="0" lang="ru-RU" sz="40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32" name="Picture 5" descr=""/>
          <p:cNvPicPr/>
          <p:nvPr/>
        </p:nvPicPr>
        <p:blipFill>
          <a:blip r:embed="rId1"/>
          <a:srcRect l="31141" t="18237" r="31186" b="12559"/>
          <a:stretch/>
        </p:blipFill>
        <p:spPr>
          <a:xfrm>
            <a:off x="826920" y="260280"/>
            <a:ext cx="4969080" cy="633744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Вопросы 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35" name="Picture 3" descr="HMM"/>
          <p:cNvPicPr/>
          <p:nvPr/>
        </p:nvPicPr>
        <p:blipFill>
          <a:blip r:embed="rId1"/>
          <a:stretch/>
        </p:blipFill>
        <p:spPr>
          <a:xfrm>
            <a:off x="4038480" y="2057400"/>
            <a:ext cx="1416240" cy="383364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Устав должен иметь: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Наименование организации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Наименование вида документа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Дату (это дата утверждения устава)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Гриф утверждения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Отметку о регистрации устава (для коммерческих организаций)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Место издания (город)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Текст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Подписи учредителей или лиц, занимающих выборные должности (председателя, секретаря)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Текст устава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799308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Состоит из разделов, имеющих заголовки и нумерацию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Общие положения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Цели, задачи, предмет деятельности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Правовой статус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Организационная структура (органы управления, структурные подразделения и их взаимосвязи)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Финансово-материальная база (уставной капитал, акции, основные и оборотные средства, порядок распоряжения ими)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Учет и отчетность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Контроль за финансово-хозяйственной деятельностью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Права и обязанности участников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Порядок ликвидации и реогранизации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Положения, инструкции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d3333"/>
                </a:solidFill>
                <a:latin typeface="Times New Roman"/>
              </a:rPr>
              <a:t>Положение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– нормативный акт, определяющий порядок образования, структуру, функции, права и обязанности организации, структурного подразделения, коллегиального органа (комиссии)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d3333"/>
                </a:solidFill>
                <a:latin typeface="Times New Roman"/>
              </a:rPr>
              <a:t>Инструкция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– нормативный акт, регулирующий организационные, производственные, финансовые и иные вопросы деятельности организаций, предприятий и должностных лиц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Должностная инструкция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5640" y="1773000"/>
            <a:ext cx="7777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Это нормативный документ, в котором определены 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функции, права, обязанности и ответственность сотрудника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предприятия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На основании должностной инструкции разрабатывается 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трудовой договор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с работником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Должностная инструкция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2000"/>
                </a:solidFill>
                <a:uFillTx/>
                <a:latin typeface="Times New Roman"/>
              </a:rPr>
              <a:t>разрабатывается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 руководителем структурного подразделения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2000"/>
                </a:solidFill>
                <a:uFillTx/>
                <a:latin typeface="Times New Roman"/>
              </a:rPr>
              <a:t>визируется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 юрисконсультом и кадровой службой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2000"/>
                </a:solidFill>
                <a:uFillTx/>
                <a:latin typeface="Times New Roman"/>
              </a:rPr>
              <a:t>утверждается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 руководителем или заместителем директора, курирующим это подразделение, или вводится приказом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7772400" cy="102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Распорядительные документы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700360" y="2060640"/>
            <a:ext cx="47512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Приказ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Распоряжение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Указание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Решение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9T20:15:18Z</dcterms:created>
  <dc:creator>Людмила Шипулина</dc:creator>
  <dc:description/>
  <dc:language>en-US</dc:language>
  <cp:lastModifiedBy>LEGION</cp:lastModifiedBy>
  <dcterms:modified xsi:type="dcterms:W3CDTF">2016-01-11T10:02:53Z</dcterms:modified>
  <cp:revision>43</cp:revision>
  <dc:subject/>
  <dc:title>Образцы основных документов управления</dc:title>
</cp:coreProperties>
</file>