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3F41-8C5B-40BD-9F5F-61B64AE85B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Методологические основы менеджмента: цель, задачи, принципы, методы, фун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баев Ю.А. к.п.н., доцен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менеджмента и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а 3. Методологические основы менеджмента: цель, задачи, принципы, методы, функ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лбаев Ю.А. к.п.н., доцент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федра менеджмента и маркетинг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ера (П. Друк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лей организации и путей их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аботы персонала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системы мотивации и координирования деятельности рабо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деятельности работника и контроль за работой персо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роста людей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и менеджера (П. Друкер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целей организации и путей их достиж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 работы персонала компан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здание системы мотивации и координирования деятельности работн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деятельности работника и контроль за работой персон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роста людей в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цели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намеченных результатов, т. е. обеспечение определенного уровн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преодоление риска или рисковых ситуаций не только в настоящем, но и в будущ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Цели, задачи и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ые цели менеджмент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стижение намеченных результатов, т. е. обеспечение определенного уровня прибыл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тоянное преодоление риска или рисковых ситуаций не только в настоящем, но и в будуще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Цели, задачи и принцип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задачи менеджмен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к использованию работников, обладающих высокой квалифик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необходимых ресурсов и источников их обесп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атегии развития организации и реализа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лей развития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системы мероприятий для достижения намеченных ц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задачи менеджмен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ход к использованию работников, обладающих высокой квалификаци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необходимых ресурсов и источников их обеспеч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работка стратегии развития организации и реализа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целей развития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работка системы мероприятий для достижения намеченных цел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омерности,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авила, основные положения, нормы, которыми руководствуются менеджеры в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закономерности,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правила, основные положения, нормы, которыми руководствуются менеджеры в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ы менеджмен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ь принципов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специализации и универсализации в управлении (при управлении должно обеспечиваться оптимальное соотношение между специализацией и универсализаци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к внешней среде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ность управления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централизации и децентрализации в управлении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ять принципов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четание специализации и универсализации в управлении (при управлении должно обеспечиваться оптимальное соотношение между специализацией и универсализацией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тойчивость к внешней среде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ность управления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ость управления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четание централизации и децентрализации в управлении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ауч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методов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научны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еск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психологическ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применение моделей для решения управленчески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о-исторический подх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оциологических исследований Используются при решении проблем, связанных с людьми в организации (опросы, наблюдения, изучение документ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ет применение моделей для решения управленческих пробле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кретно-исторический подход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оциологических исследований Используются при решении проблем, связанных с людьми в организации (опросы, наблюдения, изучение документов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ют косвенное воздействие на объект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атериального стим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атериальных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ют косвенное воздействие на объект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атериального стимулирова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атериальных санкц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лагоприятного морально-психологического климата в коллекти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ие личных способностей каждого работни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благоприятного морально-психологического климата в коллективе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крытие личных способностей каждого работник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е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одель и роли менедж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Цели, задачи и принципы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функци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ебные вопрос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одель и роли менедже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Цели, задачи и принципы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функции менеджмен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- процесс принятия решений, позволяющих обеспечить эффективное функционирование и развитие организации в будущем, уменьшить неопредел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- процесс принятия решений, позволяющих обеспечить эффективное функционирование и развитие организации в будущем, уменьшить неопределенност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еспечение целенаправленного развития организации в целом и ее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спективная ориентация и раннее распознавание проблем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ординация деятельности структурных подразделений и работников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здание объективной базы для эффективного контро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тимул трудовой активности персо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Информационное обеспечение рабо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планиро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беспечение целенаправленного развития организации в целом и ее элем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Перспективная ориентация и раннее распознавание проблем развит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Координация деятельности структурных подразделений и работников организац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Создание объективной базы для эффективного контрол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Стимул трудовой активности персон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Информационное обеспечение работни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и инте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еобходимых условий для выполнения пл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ы планиро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рерыв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ализ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ординация и интеграц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здание необходимых условий для выполнения пла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план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ор действий и решений , предпринятых  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ратегическое планировани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бор действий и решений , предпринятых  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рациональных форм разделения труда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работы среди работников, групп работников подразде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уктуры органов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я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рациональных форм разделения труда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пределение работы среди работников, групп работников подразделен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работка структуры органов управл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и лид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 - поведение индивида, которое вносит изменения в поведение и отношения другого индивида или груп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- отношения доминирования и подчинения, влияния и следования в системе межличностных отношений в групп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пониманию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че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ие теории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е теории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уководство и лидер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лияние  - поведение индивида, которое вносит изменения в поведение и отношения другого индивида или групп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ство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ство - отношения доминирования и подчинения, влияния и следования в системе межличностных отношений в групп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ходы к пониманию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ория чер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веденческие теории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туационные теории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я менеджера от лидер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 О. Виханскому  и А. Наумов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ия менеджера от лидер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о О. Виханскому  и А. Наумову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это процесс обеспечения достижения цел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комплексная функция, включающая в себя функции учета, оценки,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я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это процесс обеспечения достижения целей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комплексная функция, включающая в себя функции учета, оценки, анали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ровню: стратегический, тактический, оператив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ремени: предварительный, текущий, заключите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ъекту: финансовый, производственный, маркетинговый, кадровый, качества, материальных средств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убъекту: 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иды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уровню: стратегический, тактический, оперативны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времени: предварительный, текущий, заключительны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объекту: финансовый, производственный, маркетинговый, кадровый, качества, материальных средств и т.п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убъекту: 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 (заведовать, руководить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r (заведующий, руководитель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ment (управление)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енеджмент» не является точным синонимом русскому термину «управление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ть можно не только заводом, но и автомобилем или ракет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- всегда управление людь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 (заведовать, руководить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r (заведующий, руководитель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ment (управление). 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«менеджмент» не является точным синонимом русскому термину «управление»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равлять можно не только заводом, но и автомобилем или ракето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мент - всегда управление людь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я термина 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енеджмент как вид трудов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неджмент как процесс управления, со всеми его функциями, методами и средств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неджмент – это научная дисциплина, посвященная проблемам, возникающим, когда люди управляют люд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Менеджмент – это не только наука, но и искусство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Менеджмент – это практика реального управления и ее осмыс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енеджмент – это учебная дисциплина, посвященная управ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начения термина «менеджмент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Менеджмент как вид трудовой деятельност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енеджмент как процесс управления, со всеми его функциями, методами и средства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Менеджмент – это научная дисциплина, посвященная проблемам, возникающим, когда люди управляют людь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Менеджмент – это не только наука, но и искусство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Менеджмент – это практика реального управления и ее осмыслен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Менеджмент – это учебная дисциплина, посвященная управлению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бъект менеджмен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щики ресурсов для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экономическая ситуация в стр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егион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ъект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тавщики ресурсов для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курен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экономическая ситуация в стран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раструктура региона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одель и роли 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 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одель и роли менеджер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ер 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менеджера Альфреда Слоу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920-е г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е управлять на основе опыта, знаний, вообра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рженность к фактам и неустанный поиск ист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ость мышления и стремление к беспрестанному анализ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идти на риск, предварительно рассчитав его це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ь и уважение прав других людей и целей также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иальность и стремление отстаивать свою точку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яльность и готовность пожертвовать личным в интересах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вперед и создание условий для лучшего вы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дель менеджера Альфреда Слоу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1920-е г.г.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мение управлять на основе опыта, знаний, воображ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верженность к фактам и неустанный поиск исти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крытость мышления и стремление к беспрестанному анализ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товность идти на риск, предварительно рассчитав его цен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раведливость и уважение прав других людей и целей также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иальность и стремление отстаивать свою точку зр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яльность и готовность пожертвовать личным в интересах дел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вижение вперед и создание условий для лучшего выбо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правленческие роли 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Г. Минцбер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Управленческие роли 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(Г. Минцберг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2A7-3310-4681-A421-389CF148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EED-F62D-4B4D-A292-963241BB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C5B-E79E-4940-AC3D-116C7EF0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4C9-1E21-4E34-BAC1-4E16C488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06E5-BBC6-49DC-A72A-17DB34D4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5731-4931-4B55-81B7-E9F77034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7A17-39CC-43C8-ACE2-A13FF505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1B56-5556-4B1A-882E-6B3955A3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801B-FE93-4F28-91A2-7AC4332B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47CE-3F23-4734-B6CE-12403F53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1CD0-DF9B-45F2-9523-18D12C51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27AC-FA8B-4CA8-9EBE-DEB6842B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65C3-3814-41C5-922A-D8CD6CEF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BB6B-EF6B-43AD-A790-C868E0FD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EC60-2EA5-451E-A99C-4F42D877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BB0D-2865-454F-B94C-1AD9279A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8E7A-75F8-42EA-BDA6-8C7A3F4C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C71F-EC95-4A02-91AE-2471F70A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A95-7216-4FD7-9830-E81EFF5A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392-400F-4349-9016-97063A54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2C6-98FA-49B2-9824-34E337C9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85C9-24E8-4DF2-A687-44FA1D88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4ABA-90E0-4751-A594-E9E70DEC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1BF-447A-47D2-BCDC-7034B0FF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16B3-3B18-4DE2-83C7-D82CC767F4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60A6-EEAA-429A-9141-C7DCA69A936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597800" cy="21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Тема 3. Методологические основы менеджмента: цель, задачи, принципы, методы, функции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9280" y="5229000"/>
            <a:ext cx="7704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лбаев Ю.А. к.п.н., доцент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федра менеджмента и маркетинг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и менеджера (П. Друкер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ение целей организации и путей их дости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 работы персонала компа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здание системы мотивации и координирования деятельности работ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нализ деятельности работника и контроль за работой персона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еспечение роста людей в орган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2104560"/>
            <a:ext cx="856944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Главные цели менеджмен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остижение намеченных результатов, т. е. обеспечение определенного уровня прибы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стоянное преодоление риска или рисковых ситуаций не только в настоящем, но и в будущем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476360" y="620640"/>
            <a:ext cx="6983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3. Цели, задачи и принцип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сновные задачи менеджмента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ереход к использованию работников, обладающих высокой квалификаци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ределение необходимых ресурсов и источников их обеспеч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зработка стратегии развития организации и реализац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ределение целей развития организ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работка системы мероприятий для достижения намеченных цел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55280" y="6857640"/>
            <a:ext cx="76294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116000" y="404640"/>
            <a:ext cx="802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11280" y="260028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закономерности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авила, основные положения, нормы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которыми руководствуются менеджеры в прак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403280" y="981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Принципы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15640" y="764640"/>
            <a:ext cx="735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Пять принципов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79280" y="1987200"/>
            <a:ext cx="8785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четание специализации и универсализации в управлен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управлении должно обеспечиваться оптимальное соотношение между специализацией и универсализацией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стойчивость к внешней сред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кономичность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ффективность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четание централизации и децентрализации в управлен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Классификация методов менеджмен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бщенаучны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Экономическ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Социально-психологическ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1332000" y="907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2060640"/>
          <a:ext cx="8351640" cy="4535280"/>
        </p:xfrm>
        <a:graphic>
          <a:graphicData uri="http://schemas.openxmlformats.org/drawingml/2006/table">
            <a:tbl>
              <a:tblPr/>
              <a:tblGrid>
                <a:gridCol w="2365200"/>
                <a:gridCol w="5986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вание мет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актерис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порядочивания упр. проблем, благодаря которому осуществляется их структурирование, выбираются варианты решений, устанавливаются взаимосвязи элементов проблем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плекс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цифическая форма конкретизации системности, заключающаяся в рассмотрении проблем в их связи с методами исследования других наук, изучающих те же проблемы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ко- математ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меняются для решения задач оптимизации, распределения ресурсов, программно-целевого планирования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6"/>
          <p:cNvSpPr/>
          <p:nvPr/>
        </p:nvSpPr>
        <p:spPr>
          <a:xfrm>
            <a:off x="2124000" y="981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Общенаучные мет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Предполагает применение моделей для решения управленческих проблем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ксперимент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кретно-исторический подход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тоды социологических исследований 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Используются при решении проблем, связанных с людьми в организации (опросы, наблюдения, изучение документов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258920" y="1052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бщенаучные мето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Экономические мето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олагают косвенное воздействие на объект управле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материального стимулиров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материальных санк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оциально-психологические мето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ормирование благоприятного морально-психологического климата в коллективе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скрытие личных способностей каждого работник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16000" y="765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547640" y="5145120"/>
            <a:ext cx="70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69000" y="2163960"/>
            <a:ext cx="720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ahoma"/>
              </a:rPr>
              <a:t>Учебные вопрос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Модель и роли менедже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Цели, задачи и принципы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4. Основные функции менеджмента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ланировани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ланир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процесс принятия решений, позволяющих обеспечить эффективное функционирование и развитие организации в будущем, уменьшить неопределеннос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планир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Обеспечение целенаправленного развития организации в целом и ее элемен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Перспективная ориентация и раннее распознавание проблем развит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Координация деятельности структурных подразделений и работников организаци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Создание объективной базы для эффективного контрол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. Стимул трудовой активности персона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. Информационное обеспечение работни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нципы планир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реры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ализ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ординация и интеграц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ч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здание необходимых условий для выполнения пл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тратегическое планирование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8664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бор действий и решений , предпринят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я организа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 рациональных форм разделения труда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ределение работы среди работников, групп работников подраздел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аботка структуры органов управ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уководство и лидерств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лияни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поведение индивида, которое вносит изменения в поведение и отношения другого индивида или групп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ств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ств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отношения доминирования и подчинения, влияния и следования в системе межличностных отношений в групп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Подходы к пониманию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ория чер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веденческие теории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туационные теории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Отличия менеджера от лидер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(по О. Виханскому  и А. Наумову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4360" y="2133720"/>
          <a:ext cx="7772400" cy="4572000"/>
        </p:xfrm>
        <a:graphic>
          <a:graphicData uri="http://schemas.openxmlformats.org/drawingml/2006/table">
            <a:tbl>
              <a:tblPr/>
              <a:tblGrid>
                <a:gridCol w="3852720"/>
                <a:gridCol w="3919680"/>
              </a:tblGrid>
              <a:tr h="51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недж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д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инистрат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андует, убежда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яет указания друг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ует на основе расче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ируется на организац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тролиру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держивает дви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имает ре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ает, как нуж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зуется уваж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новат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дохновляет, призыва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ует собственные ц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ует на основе вид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ируется на люд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веря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ет импульс движен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ует ре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ает, что нуж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зуется любов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я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</a:t>
            </a:r>
            <a:r>
              <a:rPr b="0" lang="ru-RU" sz="28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это процесс обеспечения достижения целей организ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комплексная функция, включающая в себя функции учета, оценки, анали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Задачи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иды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уровн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атегический, тактический, оперативны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времен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предварительный, текущий, заключительны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объект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финансовый, производственный, маркетинговый, кадровый, качества, материальных средств и т.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субъек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32000" y="764640"/>
            <a:ext cx="7488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1. Основные понятия менеджмен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116000" y="1802520"/>
            <a:ext cx="7632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заведовать, руководит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r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заведующий, руководител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управление). 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рмин «менеджмент» не является точным синонимом русскому термину «управление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правлять можно не только заводом, но и автомобилем или ракето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неджмент - всегда управление людьм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160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Значения термина «менеджмент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95280" y="212760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. Менеджмент как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ид трудовой деятельност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2. Менеджмент как процесс управления, со всеми его функциями, методами и средства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аучная дисципли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посвященная проблемам, возникающим, когда люди управляют людь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. Менеджмент – это не только наука, но и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скусство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правле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7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актика реального управления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и ее осмыс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учебная дисципли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посвященная управлению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убъект менеджмент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бъект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971640" y="5095800"/>
            <a:ext cx="794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5280" y="206064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ставщики ресурсов для организац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курент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циально-экономическая ситуация в стран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фраструктура региона и д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2. Модель и роли менеджер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енеджер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Модель менеджера Альфреда Слоун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(1920-е г.г.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мение управлять на основе опыта, знаний, воображ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верженность к фактам и неустанный поиск истин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крытость мышления и стремление к беспрестанному анализ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товность идти на риск, предварительно рассчитав его цен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раведливость и уважение прав других людей и целей также организ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нципиальность и стремление отстаивать свою точку зр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ояльность и готовность пожертвовать личным в интересах дел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вижение вперед и создание условий для лучшего выбор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Управленческие роли  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(Г. Минцберг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2017800"/>
          <a:ext cx="8486640" cy="4370400"/>
        </p:xfrm>
        <a:graphic>
          <a:graphicData uri="http://schemas.openxmlformats.org/drawingml/2006/table">
            <a:tbl>
              <a:tblPr/>
              <a:tblGrid>
                <a:gridCol w="4244760"/>
                <a:gridCol w="4241880"/>
              </a:tblGrid>
              <a:tr h="117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жличностная 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вный руко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д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язующее зв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формационная 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емник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остранитель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дстав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ь, связанная с принятием ре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раняющий нару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еделитель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дущий перегов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2:55:26Z</dcterms:created>
  <dc:creator>Дмитрий</dc:creator>
  <dc:description/>
  <dc:language>en-US</dc:language>
  <cp:lastModifiedBy>LEGION</cp:lastModifiedBy>
  <dcterms:modified xsi:type="dcterms:W3CDTF">2016-01-11T10:02:26Z</dcterms:modified>
  <cp:revision>16</cp:revision>
  <dc:subject/>
  <dc:title>Тема 3. Методологические основы менеджмента: цель, задачи, принципы, методы, функции</dc:title>
</cp:coreProperties>
</file>