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020-D143-45C9-8D1D-517E551CF0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600-3222-4035-BF0D-9EB38877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731-CF60-45A2-9767-8948EEBC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258-FC3C-4FCD-BDCF-A9C86242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45E-B0A5-4139-8C5E-54CA5709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5DD11-D839-40A7-BF06-7415759E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AF08F-6CD3-4188-AD63-F5CAB2E2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1363B-C548-44E3-96C1-821ED4D0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395BE-FDAC-432B-A998-1E1AD625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DC8E9-BC2F-408C-A61B-2F87E779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48B9D-A3A8-4C94-8981-3598B418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92588-7E41-4969-942E-E7AEA74B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0F8-8F43-441D-BADD-659EDD0D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67FB0-F7AD-4ED8-A0EF-925006D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A7D56-9A8F-431F-B98F-49C29859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5638-4050-4003-A564-4BA14882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48205-40E4-4796-A37E-D86BCD19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24A1-DBB0-4938-B99B-3A1CF6A8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BD5-D87E-4FA0-B118-BAC6EF7B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085-F192-4F46-8BE4-94BCF246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538-13A1-49EC-9BB3-AA1EF592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0C9-B550-4A5A-A55B-BC4212D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AC1-92E4-40B2-A40C-F54DDB9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109-783B-4C1E-B13D-475700A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B62-0961-4970-86D6-69A2544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609A-00CA-4BEB-B999-FAEE54BF9EF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41F4-581A-4483-A2B4-FF523EB8FC6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BC28-3D94-428B-8AF4-26653352286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D1F-B634-442B-BD9E-F2558CCEBAC4}" type="datetime">
              <a:rPr b="0" lang="ru-RU" sz="1400" spc="-1" strike="noStrike">
                <a:solidFill>
                  <a:srgbClr val="205ff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246-54B2-47D1-A608-119B7914A1A4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69" name="Picture 8" descr="36_2_63"/>
          <p:cNvPicPr/>
          <p:nvPr/>
        </p:nvPicPr>
        <p:blipFill>
          <a:blip r:embed="rId1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36_2_51"/>
          <p:cNvPicPr/>
          <p:nvPr/>
        </p:nvPicPr>
        <p:blipFill>
          <a:blip r:embed="rId2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777C-6B65-4F97-B4D8-2430860975FE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5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4" name="Picture 10" descr="EXAMINE"/>
          <p:cNvPicPr/>
          <p:nvPr/>
        </p:nvPicPr>
        <p:blipFill>
          <a:blip r:embed="rId1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F468-4BA3-4806-BD69-6978212664C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7106-7BE4-445E-8490-EC1ADCD3BA23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EETING2"/>
          <p:cNvPicPr/>
          <p:nvPr/>
        </p:nvPicPr>
        <p:blipFill>
          <a:blip r:embed="rId1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27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109" name="Line 14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0" name="WordArt 15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12" name="Line 16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3" name="WordArt 17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15" name="Line 18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17" name="Picture 23" descr="36_2_42"/>
          <p:cNvPicPr/>
          <p:nvPr/>
        </p:nvPicPr>
        <p:blipFill>
          <a:blip r:embed="rId2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36_5_3"/>
          <p:cNvPicPr/>
          <p:nvPr/>
        </p:nvPicPr>
        <p:blipFill>
          <a:blip r:embed="rId3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36_2_59"/>
          <p:cNvPicPr/>
          <p:nvPr/>
        </p:nvPicPr>
        <p:blipFill>
          <a:blip r:embed="rId4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EC54-431B-4BFD-ADD4-5D3742F626A3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EETING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4A4-AA8B-4941-B590-D25B5D70FF2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AutoShape 9">
            <a:hlinkClick r:id="rId3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6B3-7392-44E7-B8DE-517004199EBD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AutoShape 8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D921-BB82-42A3-9A49-BE782D66F103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Picture 6" descr="пирамида Маслоу"/>
          <p:cNvPicPr/>
          <p:nvPr/>
        </p:nvPicPr>
        <p:blipFill>
          <a:blip r:embed="rId1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BB63-0FEF-4223-BAC4-DB5198FB09EF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0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6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WordArt 16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FB6E-9460-4FD4-9989-78E3249AAAA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1442-D57B-4CA5-B2B8-447FA81C85A7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LEGION</cp:lastModifiedBy>
  <dcterms:modified xsi:type="dcterms:W3CDTF">2016-01-11T10:08:05Z</dcterms:modified>
  <cp:revision>8</cp:revision>
  <dc:subject/>
  <dc:title>Управление производств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7000000000001024140</vt:lpwstr>
  </property>
  <property fmtid="{D5CDD505-2E9C-101B-9397-08002B2CF9AE}" pid="3" name="_TemplateID">
    <vt:lpwstr>TC101950921049</vt:lpwstr>
  </property>
</Properties>
</file>