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4CCA-5661-485C-8336-F713380B037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01.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Х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ория У: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что?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истема наблюдения за деятельностью фирмы</a:t>
            </a:r>
            <a:br>
              <a:rPr sz="1200"/>
            </a:b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контроль количества, качества, сохран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вых норм, инструкций, договоров и т.д.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) предварительный контроль (на стад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ставл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виз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плексная проверка всех или отдель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орон деятельности фирм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нтроллинг (controlling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— ресурсы, необходимые для производства товаров и услуг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рудовые ресурсы, или труд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вестиционные ресурсы, или капитал 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иродные ресурсы, или земля 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 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технология;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мент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неджер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ицо, занимающее определенную должность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 и обладающее властью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авом принимать ре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Уровн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сший – председатель совет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ний – заместите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изовой – руководители первичных, низов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сновные функции менеджмент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ланирование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ффективная организация труда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рганизационные методы представляют собой установление связей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характер.  Они обеспечивают развитие персонала и упорядочивают управлени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Административные методы – это управление и регулирование деятельнос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комендации (совет, предписание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Экономические методы – косвенное воздействие на объект управления. Эт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сихологические методы – побуждение работников к эффективной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Мотивац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ирамида Маслоу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прямого воздейств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реда  косвенного  воздействия политика; экономика; социальные  факторы; технология; международные  отношения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Факторы внутренней среды 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нешней среды организ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оммуникации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отправитель (адресант) – лицо, генерирующее  идеи  или  собирающее  информацию  и  передающее  ее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ообщение – собственно  информация, закодированная  с  помощью  символов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канал – средство  передачи  информации;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получатель (адресат) – лицо, которому  предназначена  информация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3361-5595-474E-8519-49D72919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B6602-F3C5-4F18-ADCA-AF885692D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C9B0-53D7-4E19-9A22-AEB68681F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43A7-223D-43BA-8D89-8177AEF6B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7141A1-A0DF-4484-95D8-0D9CF274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89ED9F-1D27-49F6-9CA3-3A7D49DC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8C96E-8C91-4926-AF0A-A52CE4F0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D7C41F-084A-40BF-A3FC-22FC3D992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6E4B86-A2B9-4159-BFA4-C3AEC21D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11C186-A1E4-49CE-B860-B0FE067AE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3A1C3-A33D-48BA-B4C5-3280D281E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F7FF-C99D-470F-8E32-8F7A261C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6AEC4D-22EC-4A3B-BB3F-59EBE4D4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D6DAA-FCDB-43E1-828B-0A9FF38E1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AD86AB-C216-4CE1-9060-88A9CFA4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35B5B-864C-431E-8F5F-CC20485AF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F1AC6-169D-4BF4-A223-839229500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2C0F-288F-40EE-B82B-AC3DBF1F0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2739-A499-4E6B-BA4C-FCDE894B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FDE0-F3E3-4C6F-AA65-EFB35F76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20B1-D9A8-4EFD-8551-4E321643B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1E75-90DA-4459-A302-344AEA6F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3C20-8D96-4075-ADA7-021C1AA7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C972-D6FB-44B5-9065-54B2471B0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D78B-2E10-45F4-993A-7067C2FB2C2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77986-5324-4C90-B2CD-1580761252AA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50E09-62F8-489E-A09B-63B403AD5AB3}" type="slidenum"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0460-9976-4CC5-92D3-BF2C5AF91B7B}" type="datetime">
              <a:rPr b="0" lang="ru-RU" sz="1400" spc="-1" strike="noStrike">
                <a:solidFill>
                  <a:srgbClr val="205ff6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" Target="slide7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DC9BF-9E8C-4962-84A6-CED288C2F027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4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6" name="Text Box 5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7" name="Text Box 6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8" name="Text Box 7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69" name="Picture 8" descr="36_2_63"/>
          <p:cNvPicPr/>
          <p:nvPr/>
        </p:nvPicPr>
        <p:blipFill>
          <a:blip r:embed="rId1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36_2_51"/>
          <p:cNvPicPr/>
          <p:nvPr/>
        </p:nvPicPr>
        <p:blipFill>
          <a:blip r:embed="rId2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E6ED-2E1F-4534-848E-82F9649D259A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2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5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700"/>
              </a:gs>
              <a:gs pos="50000">
                <a:srgbClr val="cc9900"/>
              </a:gs>
              <a:gs pos="100000">
                <a:srgbClr val="5e47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74" name="Picture 10" descr="EXAMINE"/>
          <p:cNvPicPr/>
          <p:nvPr/>
        </p:nvPicPr>
        <p:blipFill>
          <a:blip r:embed="rId1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75" name="WordArt 4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76" name="WordArt 6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947F-F7CF-4C8E-AAC9-94F3DFBA31F0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8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ru-RU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ru-RU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6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4197-2097-427B-BDA3-9B174AE3BDA9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7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MEETING2"/>
          <p:cNvPicPr/>
          <p:nvPr/>
        </p:nvPicPr>
        <p:blipFill>
          <a:blip r:embed="rId1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99" name="WordArt 5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1" name="AutoShape 7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03" name="WordArt 9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4" name="WordArt 10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5" name="WordArt 11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06" name="WordArt 12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AutoShape 13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ff33"/>
              </a:gs>
              <a:gs pos="100000">
                <a:srgbClr val="33cc33"/>
              </a:gs>
            </a:gsLst>
            <a:lin ang="27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108" name="Group 20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109" name="Line 14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0" name="WordArt 15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1" name="Group 21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12" name="Line 16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3" name="WordArt 17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14" name="Group 22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15" name="Line 18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16" name="WordArt 19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17" name="Picture 23" descr="36_2_42"/>
          <p:cNvPicPr/>
          <p:nvPr/>
        </p:nvPicPr>
        <p:blipFill>
          <a:blip r:embed="rId2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4" descr="36_5_3"/>
          <p:cNvPicPr/>
          <p:nvPr/>
        </p:nvPicPr>
        <p:blipFill>
          <a:blip r:embed="rId3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5" descr="36_2_59"/>
          <p:cNvPicPr/>
          <p:nvPr/>
        </p:nvPicPr>
        <p:blipFill>
          <a:blip r:embed="rId4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  <p:sp>
        <p:nvSpPr>
          <p:cNvPr id="120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A218-78C9-414D-BAA0-931038EC46F9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1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5" descr="MEETING"/>
          <p:cNvPicPr/>
          <p:nvPr/>
        </p:nvPicPr>
        <p:blipFill>
          <a:blip r:embed="rId1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24" name="AutoShape 6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ru-RU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6" name="AutoShape 8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ECBCC-8F02-447B-BD80-868F4034A654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WordArt 5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31" name="AutoShape 6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WordArt 7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AutoShape 8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AutoShape 9">
            <a:hlinkClick r:id="rId3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2953-CDFC-40CC-907C-5F21D5AE7E62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6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AutoShape 8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48ED-DE95-47DD-B2C6-1DC126F457FE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WordArt 4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Picture 6" descr="пирамида Маслоу"/>
          <p:cNvPicPr/>
          <p:nvPr/>
        </p:nvPicPr>
        <p:blipFill>
          <a:blip r:embed="rId1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7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9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9188-624A-434F-8334-CAFB6BACB76A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0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AutoShape 6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4" name="AutoShape 14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5" name="Text Box 15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6" name="WordArt 16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57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1695-8EC9-44F4-BCE9-C3FFBC744667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8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WordArt 4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3" name="Місце для дати 1"/>
          <p:cNvSpPr/>
          <p:nvPr/>
        </p:nvSpPr>
        <p:spPr>
          <a:xfrm>
            <a:off x="45720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26C2-2D47-45A8-A248-1D0DCBE705E9}" type="datetime">
              <a:rPr b="0" lang="ru-RU" sz="1400" spc="-1" strike="noStrike">
                <a:solidFill>
                  <a:srgbClr val="205ff6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4" name="Місце для нижнього колонтитула 2"/>
          <p:cNvSpPr/>
          <p:nvPr/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205ff6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LEGION</cp:lastModifiedBy>
  <dcterms:modified xsi:type="dcterms:W3CDTF">2016-01-11T10:08:05Z</dcterms:modified>
  <cp:revision>8</cp:revision>
  <dc:subject/>
  <dc:title>Управление производством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007000000000001024140</vt:lpwstr>
  </property>
  <property fmtid="{D5CDD505-2E9C-101B-9397-08002B2CF9AE}" pid="3" name="_TemplateID">
    <vt:lpwstr>TC101950921049</vt:lpwstr>
  </property>
</Properties>
</file>