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3E20F-CEC1-4999-8C88-DBCFA5C69D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 организа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двух курсов специа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ы специальностей 060800  и 061100 (521500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им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и система управления предприяти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роение организационных структур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утрен­няя и внешняя среда предприят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онный менеджмен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персонала, ос­новные качества менеджера, особенности его работ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ка делового общения, управление конфликтами, психология менеджмента, кор­поративная культура и организационное пове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­ций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500 Бухгалтерский учет, анализ и ауди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оссийск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, качество и эффективность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0800  «экономист-менеджер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 - "Менеджмент организ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ологические основы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а и состав функций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организации системы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 деятельности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: власть и партнерство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эффективност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пециальность 061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акалавр менеджмен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ая теория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епц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ные школ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ующие процессы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сть и качеств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ка задачи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программы пяти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ать наполнение этих к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рав выделенные части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ем общее для всех специальностей ядро,  которое может стать основой базового модуля курса 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ые нами 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 Планирование как функция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результата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аботка требований к дистанционной подаче материала, представление курсов в форме, пригодной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болонизация»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8. Построение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0. Мотивация деятельност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1. Контроль и регулирование в систем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2. Коммуникации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3. Группов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4. Власть и вли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5. Лидерство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6. Конфликт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7. Эффективность в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вый эта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енеджмент» и «Стратегический менеджмент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8. История менеджмент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, что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этому, на наш взгляд, 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ечн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азличных специальностей эти центральные части будут различаться объемом выделяемых на них час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 разным будет соотношение часов на лекции, практические занятия и самостоятельную работ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ий объем курса при этом составляет 300 часов для очного обучения, 268 часов для заочного и 250 часов для бакалавреа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уляр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позволяет выделить несколько возможных направлений движ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ие – в пределах 250-350 часов – блоки,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Организационно подход удобен для приглашенных профессоров, имеющих возможность вычитать свой курс за 1-2 семестра и отбыть к следующему месту работ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ычен для европейской практик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может создавать определенные трудности студентам, либо вынужденных 2-3 года ждать необходимого им курса, либо ехать за этим курсом в другое учебное заве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-е на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курса из нескольких (нескольких десятков)  модулей – т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базовая часть – «менеджмент I», общая для всех специализаций и переменная часть «менеджмент II»,  варьируемая для трех специализаций –  строительства, машиностроения и трансп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ход обеспечивает большую взаимозаменяемость преподавателей и большие удобства для слушател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нашем случа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в виде единого макромодуля полным объемом до 300 часов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ие курса для дистанционного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мети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Менеджмент» - общепрофессиональная дисциплин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тавлен в учебных планах всех специальностей ИЭи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специальная дисциплина;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менеджмент среди курсов специ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ей курса являе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студентам представление о стратегическом управлении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чить студентов основам стратегического анализа, в том числе: анализу внешней среды, анализу внутренней среды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основами сценарного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 миссии, целях, приоритетах коммерческих, некоммерческих и государственны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корпоративной стратегии, стратегий отдельных бизнесов и их системы, а также  стратегий функциональных подсистем орган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ть представление о реализации стратегии и эффективности стратегическ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 с другими предмет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учебных пла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специальных экономических дисциплин. Изучается в 7 и 8 семестрах Общий объем курса 130 часов (85 аудиторных). Итоговая форма контроля - экзаме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специальные    дисциплины    направления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специальные    дисциплины    направлени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состав общего курса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мы 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 Введение в «Стратегическ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 Стратег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 Разработк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 Продуктово-маркетингов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ализация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Эффективность стратегического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колько важных отличий этой дисципли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адлежность к блоку специализации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раздо больший разброс подходов к дисциплине, как в ее понимании, так и в оценке ее необходим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ьший объ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вязки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последний 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модуляризации здесь будут решаться по-другому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варьировать объемом курса в более широких предел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общий модуль специализ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урс «Менеджмент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ается специальност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включает описания специальных дисцип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0800  «экономист-менеджер» - отличается методическим подхо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ндарт специальности 060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основного ядра предм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со специальными темами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6896-B989-4E70-84DA-16C623B6D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B431-B65A-4F88-B0E9-15F11B9C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0F53-F338-4EF4-820C-E196971D5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D406-3FF7-42A6-A135-A03D5412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6C28-BEB9-498D-A530-188AFE416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D61A-0B37-488B-A9F4-F9ABF82E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F3E3-1314-484B-9F31-29DFE82E8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A863E-90A5-4DDC-AFEA-ADF6FF0EB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ED76-64A1-4C9A-B058-01DA625D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7C955-B554-4030-9BEA-DF162A2A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1394A-FB78-413A-8F6E-FD73100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80B2-9EB9-49C0-A0FF-16C23162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6B6C1-45B6-4A05-A2FF-A05A6A4E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BA6A1-D07A-48D3-9AD7-17EA7EDB2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9AC7-7F2E-4645-A87F-E5567855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E7C4-4A30-46A8-9783-FD01A2DA2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EE8A6-7187-4AAB-973E-FC586175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6141-0AC9-4384-BF8F-D456BA93E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2804-FF7C-4BB6-BC52-8C32C4F20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FA16-D2C7-4ECB-AD47-53489ECF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F73-39CD-467B-9143-D8742AED3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DA9A-C781-40E4-84E1-8C7D1B21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3675E-5009-4AAE-8885-569F92CC4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F9F1-1B87-4F26-921C-D6DFB79D0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DEAF4-1A66-4AED-8895-780A3CBBD2B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322-0135-4922-AB77-F7B242DD121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0066"/>
                </a:solidFill>
                <a:latin typeface="Arial"/>
              </a:rPr>
              <a:t>«Менеджмент организации»</a:t>
            </a:r>
            <a:endParaRPr b="1" lang="en-US" sz="5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Представление двух курсов специа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ы специальностей 060800  и 061100 (521500),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хожи в своей основе,  но различаются методически, отражая разные научные школы разработчиков этих стандартов (ИнжЭконУниверситет, СПб и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АУ им. Орджоникидзе, Москва, соответственно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им.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расным цветом общие для всех программ пози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еленым цветом – темы специализац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28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остояние управления современной российской макро- и микроэкономикой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необходимость совершенствования организации управле­ния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особое значение антикризис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нятие, сущность, цели, значение, технологии, общие и специальные функции менеджмента как вида деятельност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виды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опыт менеджмента за рубежом; возможности и пути использования его в Росси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цели и система управления предприятиями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остроение организационных структур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методы обоснования бизнес-планов предприятий и их мониторинг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внутрен­няя и внешняя среда предприятия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коммуникационный менеджмент; система информационных коммуникаций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тратегически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ситуационный менеджмент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финансовый менеджмент, его роль в системе современного менеджмента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8000"/>
                </a:solidFill>
                <a:latin typeface="Arial"/>
              </a:rPr>
              <a:t>менеджмент персонала, ос­новные качества менеджера, особенности его работы;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этика делового общения,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управление конфликтами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психология менеджмента, кор­поративная культура и </a:t>
            </a: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организационное поведение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система мотива­ций</a:t>
            </a:r>
            <a:r>
              <a:rPr b="0" lang="ru-RU" sz="1300" spc="-1" strike="noStrike">
                <a:solidFill>
                  <a:srgbClr val="000000"/>
                </a:solidFill>
                <a:latin typeface="Arial"/>
              </a:rPr>
              <a:t>, контроль и контроллинг, управление рисками, антикризисное управление, особенности управления внешнеэкономическими связя­ми;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0000"/>
                </a:solidFill>
                <a:latin typeface="Arial"/>
              </a:rPr>
              <a:t>пути повышения эффективности менеджмента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300" spc="-1" strike="noStrike">
                <a:solidFill>
                  <a:srgbClr val="330066"/>
                </a:solidFill>
                <a:latin typeface="Arial"/>
              </a:rPr>
              <a:t>Специальность 060500 </a:t>
            </a:r>
            <a:r>
              <a:rPr b="0" i="1" lang="ru-RU" sz="3200" spc="-1" strike="noStrike">
                <a:solidFill>
                  <a:srgbClr val="330066"/>
                </a:solidFill>
                <a:latin typeface="Arial"/>
              </a:rPr>
              <a:t>Бухгалтерский учет, анализ и аудит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194" name="Object 5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91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отребность и необходимость управления в дея­тельности человека. Менеджмент в системе понятий рыночной экономики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Эволюция менеджмента: условия и предпосылки возникновения менеджмента, школы менеджмент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8000"/>
                </a:solidFill>
                <a:latin typeface="Arial"/>
              </a:rPr>
              <a:t>Особенности российского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теграционные процессы в менеджменте. Внеш­няя и внутренняя среда организации. Факторы прямого и косвенного воздейств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Системы менеджмента: функции и организацион­ные структуры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Процессы управления: целеполагание и оценка ситуации, принятие управленческих решений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Механизмы менеджмента: средства и методы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Диверсификация менеджмента, типология и выбор альтернатив эффективного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Экономика и социология управления персоналом и формирование человеческого капитала. Личность менеджера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Лидерство и стиль управления. Власть и партнерство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Групповая динамика и разрешение кон­фликтов. Формальное и неформальное управление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Ресурсы, </a:t>
            </a: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качество и эффективность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истема информационного обеспечения управления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0000"/>
                </a:solidFill>
                <a:latin typeface="Arial"/>
              </a:rPr>
              <a:t>Инновационный потенциал менеджмента, профессионализация менеджмен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0800  «экономист-менеджер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0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 - "Менеджмент организации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щая теория управления. Закономерности управления различными системами. Управление социально-экономическими системами (организациям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Методологические основы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раструктура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циофакторы и этика менеджмен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делирование ситуаций и разработка решен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рирода и состав функций менеджмент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(продолжение)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стратегические и тактические планы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организационные отношения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ормы организации системы менедж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отивация деятельности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егулирование и контроль в системе менеджмен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динамика групп и лидерство в системе менеджмент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уководство: власть и партнерство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фликтность в менеджмент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факторы эффективности менедж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Специальность 0611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211" name="Object 3"/>
          <p:cNvGraphicFramePr/>
          <p:nvPr/>
        </p:nvGraphicFramePr>
        <p:xfrm>
          <a:off x="468360" y="1700280"/>
          <a:ext cx="8229600" cy="441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00280"/>
                    <a:ext cx="8229600" cy="44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Направление 521500 </a:t>
            </a:r>
            <a:br>
              <a:rPr sz="3900"/>
            </a:br>
            <a:r>
              <a:rPr b="0" i="1" lang="ru-RU" sz="3900" spc="-1" strike="noStrike">
                <a:solidFill>
                  <a:srgbClr val="330066"/>
                </a:solidFill>
                <a:latin typeface="Arial"/>
              </a:rPr>
              <a:t>бакалавр менеджмента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Общая теория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Закономерности управления различными система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социально-экономическими системами (организацией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Концепция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Научные школ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Функции менеджмента (планирование, организация, мотивация, контроль)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труктуры системы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вязующие процессы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Человек в системе менеджмент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ли менеджера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правление организационными изменениям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Эффективность и качество управл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остановка задачи групп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программы пяти кур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«Менеджмент»,  «Управление проектами», «Стратегический менеджмент», «Маркетинг» и «Управление персоналом»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работать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наполнение этих курс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брав выделенные части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олучаем </a:t>
            </a:r>
            <a:r>
              <a:rPr b="0" lang="ru-RU" sz="3600" spc="-1" strike="noStrike">
                <a:solidFill>
                  <a:srgbClr val="ff0000"/>
                </a:solidFill>
                <a:latin typeface="Arial"/>
              </a:rPr>
              <a:t>общее для всех специальностей ядро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которое может стать основой базового модуля курса «Менеджмен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ыделенные нами темы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компонованы в программе курса «Менеджмент»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(разработка к.э.н., доц. Г.Я.Андреевой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ведем эти 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4"/>
          <p:cNvSpPr/>
          <p:nvPr/>
        </p:nvSpPr>
        <p:spPr>
          <a:xfrm>
            <a:off x="971640" y="4581360"/>
            <a:ext cx="7775640" cy="1800360"/>
          </a:xfrm>
          <a:custGeom>
            <a:avLst/>
            <a:gdLst>
              <a:gd name="textAreaLeft" fmla="*/ 0 w 7775640"/>
              <a:gd name="textAreaRight" fmla="*/ 7776000 w 777564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cc00">
              <a:alpha val="2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1. Общая теория управления. Закономерности управления различными системами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ибернетические основы управления. Понятия «объект» и «субъект» управления, «управляющее воздействие», «обратная связь», «управляемая» и «управляющая» подсисте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управления. Типы управле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2. Управление социально-экономическими системами (организациями)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я как объект управле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рганизационные  элементы и характеристик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есто и содержание процесса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обенности управленческого труд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бъекты и субъекты управления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управл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дачи и роли менеджеров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ипы менеджеров. Требования к менеджера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3. Методологические основы менеджмента. Инфраструктура менеджмента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дходы к определению сущности понятия «менеджмент». Соотношение с понятием «управление». Цели и задачи менеджмента. Взаимосвязь менеджмента с другими наукам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, методы и принципы менеджмента. Характеристика объектов менеджмен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нтеграционные процессы в менеджменте. Инфраструктура менеджмента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4.  Этика менеджмента и социальная ответственность организации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этики менеджмента. Критерии принятия этически сложных решений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Факторы, определяющие этический выбор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социальной ответствен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Заинтересованные в деятельности организации групп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ценка результатов социальной деятельност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правление этической и социальной ответственностью организац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5. Природа и состав функций менеджмента. Цикл управления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функций менеджмента, их взаимодействи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Распределение функций по уровням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икл управления и его стад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6. Моделирование ситуаций и разработка решений в менеджменте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одержание, значение и типология решений в менеджменте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ребования к управленческим решениям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, влияющие на процесс принятия управленческих решени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ходы к принятию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проблемной ситуац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ормальные процедуры анализа проблемной ситу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тапы процесса принятия и осуществления управленческого реш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буждение сотрудников к участию в принятии управленческих реш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7.  Планирование как функция менеджмент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держание, цели и задачи внутрифирменного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иды внутрифирменного планирования, их классификация: по целям; предмету; уровню; содержанию; периодам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равнительная характеристика стратегических и тактических планов в системе менеджмен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нципы планирова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цесс планирования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Требования к результата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согласовани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динаковых (сходных) курсов, читаемых на разных специальностях и разным категориям слушателе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модуляр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принципы модуляризации, типы модулей, применение к конкретным курса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работка требований к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дистанционной подач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материала, представление курсов в форме, пригодной для дистанционного обуч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39880" indent="-495360">
              <a:lnSpc>
                <a:spcPct val="80000"/>
              </a:lnSpc>
              <a:spcBef>
                <a:spcPts val="550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«болонизация»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урсов: выработка принципов согласования подходов и кредитовой оценки курсов (модулей, блоков, мейджеров и т.п.) с перспективой взаимозачетов курсов, прослушанных в разных университета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8. Построение организации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рганизация как процесс, его содержание и назначени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нятие структуры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лементы (звенья, связи, уровни) и характеристики (сложность, формализация, централизация, механизмы координации) организационной структуры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Факторы формирования организационных структур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Эволюция структур управления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иды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ценка эффективности структур управления организацие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68000" y="40428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Тема 9. Организация взаимодействия и делегирование полномочий в системе управления.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Делегирование, полномочия, ответственность: содержание и роль в обеспечении взаимодействия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полномочи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Централизация и децентрализация задач управле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 успешного делегирования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0. Мотивация деятельност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пределение и роль мотивации в управлен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равнительный анализ теорий мотив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именимость содержательных и процессуальных теорий в управлении организацие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истема мотивации персонала в организа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0066"/>
                </a:solidFill>
                <a:latin typeface="Arial"/>
              </a:rPr>
              <a:t>Тема 11. Контроль и регулирование в системе менеджмента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Значение и содержание функций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иды и формы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оцесс контроля и регулирован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ребования к организации контроля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2. Коммуникации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, сущность и роль коммуникаций в менеджмент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труктура процесса коммуникаций: элементы и эта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результатов (эффект)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Шум в процессе коммуник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Типы коммуникационных сетей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рол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оммуникационные сти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3. Групповая динамика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ормальные и неформальны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енезис и развитие группы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ормативное поведение в группе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Групповая сплоченность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Управление человеком и управление группой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Факторы, влияющие на эффективность работы групп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4. Власть и влия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онятие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лассификация видов вла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сточники власти в организаци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дель влияния руководителя на подчиненного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Способы управленческого влияния на подчинен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5. Лидерство в системе менеджмент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нятие лидерства. Составляющие лидерства. Основные подходы к трактовке лидерств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Лидер и менеджер, их характеристики и отлич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иль менеджмента и имидж (образ) менеджер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дходы к изучению лидерства. Теория лидерских качеств. Концепции лидерского поведения. Концепции ситуационного лидерств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вое в теориях лидерств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6. Конфликт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онфликт и его природа в организ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труктура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Цикл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иемы прерывания конфликт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Основные типы поведения в конфликтной ситуаци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ровни конфликта в организации и их источни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ктические навыки управления конфликтами различных уровн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7. Эффективность в менеджменте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 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пособы оценки эффективности менеджмента организ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ризнаки эффективного менеджмент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ути повышения эффективности менеджмента в орган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 u="sng">
                <a:solidFill>
                  <a:srgbClr val="330066"/>
                </a:solidFill>
                <a:uFillTx/>
                <a:latin typeface="Arial"/>
              </a:rPr>
              <a:t>Первый этап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Разработка программы двух курсов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Менеджмент» и «Стратегический менеджмен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согласование одинаковых (сходных) курсов, читаемых на разных специальностях и разным категориям слушателе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80000"/>
              </a:lnSpc>
              <a:spcBef>
                <a:spcPts val="6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«модуляризация» курсов: принципы модуляризации, типы модулей, применение к конкретным курсам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673200" y="1935000"/>
            <a:ext cx="8229600" cy="441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9880" indent="-4953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0066"/>
                </a:solidFill>
                <a:latin typeface="Arial"/>
              </a:rPr>
              <a:t>Тема 18. История менеджмента.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словия и факторы возникновения и развития менеджмента. Истоки возникновения менеджмента. Этапы и школы в истории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нообразие моделей менеджмента: американский, японский, европейский и др. Влияние национально-исторических факторов на развитие менеджмен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витие управления в Росси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овременная система взглядов на менеджмен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ерспективы менеджмента: возможное и вероят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Мы видим, что 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ыделенное нами ядро курса «Менеджмент», общее для всех специальностей ИЭиУ полностью  покрывается этой программой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еречень приведенных тем в достаточной степени исчерпывает проблематику классического менеджмента в его традиционном изложении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этому, на наш взгляд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менно этот перечень может быть взят в качестве устойчивого ядра курса «Менеджмент» как для всех специальностей ИЭиУ, так и для различных форм обучения – дневная, заочная, экстернат, дистанционное обучение.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Конечно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ля различных специальностей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эти центральные части будут различаться объемом выделяемых на них часов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 рамках специальности «Менеджмент»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разным будет соотношение часов на лекции, практические занятия и самостоятельную работ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Общий объем курса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ри этом составляет 300 часов для очного обучения, 268 часов для заочного и 250 часов для бакалавреа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700" spc="-1" strike="noStrike">
                <a:solidFill>
                  <a:srgbClr val="330066"/>
                </a:solidFill>
                <a:latin typeface="Arial"/>
              </a:rPr>
              <a:t>Модуляризация</a:t>
            </a:r>
            <a:endParaRPr b="1" lang="en-US" sz="47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варительное обсуждение и ознакомление с материалами наших немецких коллег </a:t>
            </a:r>
            <a:r>
              <a:rPr b="0" lang="ru-RU" sz="3400" spc="-1" strike="noStrike">
                <a:solidFill>
                  <a:srgbClr val="ff0000"/>
                </a:solidFill>
                <a:latin typeface="Arial"/>
              </a:rPr>
              <a:t>позволяет выделить несколько возможных направлений движения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1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Большие – в пределах 250-350 часов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– блоки,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концентрирующие содержание одной (чаще – фундаментальной)  или нескольких взаимоувязанных и взаимодополняющих (чаще – специальных) дисциплин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Организационно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одход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удоб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приглашенных профессоров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имеющих возможность вычитать свой курс за 1-2 семестра и отбыть к следующему месту работы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привычен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для европейской практи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но </a:t>
            </a:r>
            <a:r>
              <a:rPr b="1" lang="ru-RU" sz="2100" spc="-1" strike="noStrike">
                <a:solidFill>
                  <a:srgbClr val="008000"/>
                </a:solidFill>
                <a:latin typeface="Arial"/>
              </a:rPr>
              <a:t>может создавать определенные трудности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 студентам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либо вынужденных 2-3 года ждать необходимого им курса, либо ехать за этим курсом в другое учебное заведение.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таком формате естественно глядятся авторские курсы, нетрадиционные подходы, рассмотрение новых, спорных вопрос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2-е на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ормирование адаптированного для конкретного заказчика содержания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курса из нескольких (нескольких десятков)  модулей – тем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 какой-то мере этот подход уже реализован в учебном плане специальности 060800 ИЭиУ. Здесь выделена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базов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–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общая для всех специализаций и </a:t>
            </a:r>
            <a:r>
              <a:rPr b="0" lang="ru-RU" sz="2500" spc="-1" strike="noStrike">
                <a:solidFill>
                  <a:srgbClr val="ff0000"/>
                </a:solidFill>
                <a:latin typeface="Arial"/>
              </a:rPr>
              <a:t>переменная часть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«менеджмент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»,  варьируемая для трех специализаций –  строительства, машиностроения и транспор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ход обеспечивает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ую взаимозаменяемость преподав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500" spc="-1" strike="noStrike">
                <a:solidFill>
                  <a:srgbClr val="008000"/>
                </a:solidFill>
                <a:latin typeface="Arial"/>
              </a:rPr>
              <a:t>большие удобства для слушателей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В нашем случае…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ы видим достаточно тесную увязку следующих друг за другом тем и практическое отсутствие тем факультативны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Таким образом, напрашивается представление курса «Менеджмент»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 виде единого макромодуля полным объемом до 300 часов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для специальности «Менеджмент»), с возможностью сокращения до 100 часов (для других специальностей и специальных программ) за счет второстепенных вопросов в каждой тем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330066"/>
                </a:solidFill>
                <a:latin typeface="Arial"/>
              </a:rPr>
              <a:t>Представление курса для дистанционного обучения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большой степени зависит от рекомендованной программной оболочки, поэтому вернемся к этому вопросу позже, после выбора такой оболочк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ое управлени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в компаниях и на предприятиях современной России переживает стадию зарождения и первоначального развити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может помочь российским менеджерам осознанно подойти к решению вопросов, определяющих ближайшие и отдаленные перспективы; гармонично увязывать перспективы с текущей деятельностью фирм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Отметим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Менеджмент» -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бщепрофессиональная дисциплин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представлен в учебных планах 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сех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специальностей ИЭиУ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«Стратегический менеджмент»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специальная дисциплина;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000"/>
            </a:b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тдельный курс - лишь в учебном плане специальности «Менеджмент»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66"/>
                </a:solidFill>
                <a:latin typeface="Arial"/>
              </a:rPr>
              <a:t>Курс «Стратегический менеджмент»</a:t>
            </a:r>
            <a:br>
              <a:rPr sz="2800"/>
            </a:b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Курс относится к курсам специализации и его позиция в расстановке курсов специальности «Менеджмент» хорошо видна из рисунка.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ратегический менеджмент среди курсов специализаци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457200" y="1719360"/>
          <a:ext cx="8255160" cy="5211720"/>
        </p:xfrm>
        <a:graphic>
          <a:graphicData uri="http://schemas.openxmlformats.org/drawingml/2006/table">
            <a:tbl>
              <a:tblPr/>
              <a:tblGrid>
                <a:gridCol w="2053440"/>
                <a:gridCol w="356760"/>
                <a:gridCol w="700920"/>
                <a:gridCol w="702360"/>
                <a:gridCol w="355320"/>
                <a:gridCol w="529920"/>
                <a:gridCol w="461520"/>
                <a:gridCol w="588240"/>
                <a:gridCol w="702720"/>
                <a:gridCol w="393120"/>
                <a:gridCol w="664560"/>
                <a:gridCol w="218880"/>
                <a:gridCol w="527400"/>
              </a:tblGrid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мер семестр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495360" indent="-495360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0 Менеджмент 306/15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Д 11 Маркетинг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12 Финансовый менеджмент 120/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/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01 Исследование систем управления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2 Теория организ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3 Организационное поведение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4 Стратегический менеджмент 130/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0/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>
                        <a:alpha val="50000"/>
                      </a:srgbClr>
                    </a:solidFill>
                  </a:tcPr>
                </a:tc>
              </a:tr>
              <a:tr h="48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.07 Управление качеством 80/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/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8d8e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66"/>
                </a:solidFill>
                <a:latin typeface="Arial"/>
              </a:rPr>
              <a:t>Задачей курса является: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студентам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представление о стратегическом управлен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в системе менеджмента, стратегическом управлении и конкурентоспособности организации, стратегическом планировании и стратегическом менеджменте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учить студентов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 стратегического анализ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в том числе: анализу внешней среды, анализу внутренней среды организац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основами сценарного планирования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миссии, целях, приоритетах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коммерческих, некоммерческих и государственных организаци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знакомить студентов с разработкой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корпоративной стратег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отдельных бизнес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и их системы, а также 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стратегий функциональных подсистем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организации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Дать представление о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реализаци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и и </a:t>
            </a:r>
            <a:r>
              <a:rPr b="1" lang="ru-RU" sz="1900" spc="-1" strike="noStrike">
                <a:solidFill>
                  <a:srgbClr val="ff0000"/>
                </a:solidFill>
                <a:latin typeface="Arial"/>
              </a:rPr>
              <a:t>эффективности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стратегического управл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вязь с другими предмет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данной дисциплины целесообразно начинать после прохождения курсов "Менеджмент”, “Финансовый менеджмент”, “Маркетинг”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огласно учебных планов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пециальности 061100 "Стратегический  менеджмент" отнесен к категории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х экономических дисципли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 Изучается в 7 и 8 семестрах </a:t>
            </a:r>
            <a:r>
              <a:rPr b="0" lang="ru-RU" sz="2100" spc="-1" strike="noStrike">
                <a:solidFill>
                  <a:srgbClr val="008000"/>
                </a:solidFill>
                <a:latin typeface="Arial"/>
              </a:rPr>
              <a:t>Общий объем курса 130 часов (85 аудиторных). Итоговая форма контроля - экзаме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направления 521500 "Менеджмент",  квалификация - бакалавр менеджмента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800  «экономист-менеджер»",  "Стратегический  менеджмент"  включен в рекомендуемые    УМО   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пециальные    дисциплины    направления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В соответствии с учебным планом специальности 060500 Бухгалтерский учет, анализ и аудит  "Стратегический  менеджмент" включен в </a:t>
            </a:r>
            <a:r>
              <a:rPr b="0" lang="ru-RU" sz="2100" spc="-1" strike="noStrike">
                <a:solidFill>
                  <a:srgbClr val="ff0000"/>
                </a:solidFill>
                <a:latin typeface="Arial"/>
              </a:rPr>
              <a:t>состав общего курса менеджмент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330066"/>
                </a:solidFill>
                <a:latin typeface="Arial"/>
              </a:rPr>
              <a:t>Темы курс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« Стратегический менеджмент»</a:t>
            </a:r>
            <a:br>
              <a:rPr sz="32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1 Введение в «Стратегическое управлени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1. Стратегическое управление в системе менеджмент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1.Исходные предст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2.Исходные опреде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1.3.Стратегический аспект в управлении организацие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2. Стратегическое управление и конкурентоспособность организац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1. Конкуренция в бизнес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2. Конкурентные преимуществ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3. Базовые конкурентные стратег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4. Цепь создания ценности (Value Chain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2.5. Характеристики эффективной стратег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1.3. Стратегическое планирование и стратегический менеджмент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1. Первичная концепция стратегического управления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2. Переход от стратегического планирования к стратегическому менеджмен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1.3.3. Изменение ментальности: вместо политики «от прошлого — к будущему» — политика «от будущего — к настоящему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2 Стратегический анализ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1. Анализ внеш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1. SWO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2. PEST-анализ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1.3. Многофакторный системный анализ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2. Анализ внутренней среды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1. Значение стратегического анализа внутренней сред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2. SNW-подход к анализу внутренних ресурс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2.3. Модель стратегического состояния организации (стратегический куб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3. Сценарное планирова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1. Первичное представление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3.3. Восемь шагов методик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2.4. Миссия, цели,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1. Определение мисс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2. Цели организ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2.4.3. Стратегические целевые приорите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3 Разработка стратегии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1. Продуктово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маркетингов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1.1. Базовые конкурентные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2. Разработка стратегий отдельных бизнесов и их систем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1. Стратегия организации — система бизнес-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2. Бизнес-стратегия: типовые варианты и ситуац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Классификация стратегий по функциональным направлениям деятельност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3. Система бизнес-стратегий: типовые модел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2.4. Стратегия системы бизнесов и стратегическая синер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3. Разработка стратегий функциональных подсисте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1. Производственная стратег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2. Стратегия управления персонало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3. Финансовая стратегия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3.4. Многообразие функциональных стратег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4.  Теория ресурсной баз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5. Стержневые компетен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3.6. Органичное развитие корпоративной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1. Полифония стратегии организац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2. Разумная достаточность стратеги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7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3.6.3. Пирамида разработки стратеги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4. . </a:t>
            </a:r>
            <a:br>
              <a:rPr sz="3500"/>
            </a:b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Реализация стратегии</a:t>
            </a:r>
            <a:r>
              <a:rPr b="0" lang="ru-RU" sz="3900" spc="-1" strike="noStrike">
                <a:solidFill>
                  <a:srgbClr val="330066"/>
                </a:solidFill>
                <a:latin typeface="Arial"/>
              </a:rPr>
              <a:t>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1. От выполнения долгосрочного плана — к реализации стратег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1 Существенные отлич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1.2. Основные этапы цикла реализаци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2. Стратегические изменен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1. Система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2. Лидирующие стратегические изменения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2.3. Органичность стратегических изменений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4.3. Управление процессом реализации стратегических измен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1. Концептуальные подход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2. Реализация стратегии и получение информаци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4.3.3. Программа конкретных действ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Documents"/>
          <p:cNvSpPr/>
          <p:nvPr/>
        </p:nvSpPr>
        <p:spPr>
          <a:xfrm>
            <a:off x="1332000" y="1341360"/>
            <a:ext cx="5472000" cy="4103640"/>
          </a:xfrm>
          <a:custGeom>
            <a:avLst/>
            <a:gdLst>
              <a:gd name="textAreaLeft" fmla="*/ 416520 w 5472000"/>
              <a:gd name="textAreaRight" fmla="*/ 4185720 w 5472000"/>
              <a:gd name="textAreaTop" fmla="*/ 792360 h 4103640"/>
              <a:gd name="textAreaBottom" fmla="*/ 3289320 h 410364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00ffff">
              <a:alpha val="5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8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330066"/>
                </a:solidFill>
                <a:latin typeface="Arial"/>
              </a:rPr>
              <a:t>Тема 5. Эффективность стратегического управления.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1. Эффективность стратегического менеджмент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1 Сущность стратегической эффективност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1.2. Стратегическая рефлекс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2. Стратегический контролинг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1. Функции стратегического контролинг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2.2. Стратегический и тактический контролинг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3. От стратегии к программе развития организац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1. Схемы переход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3.2. Стратегические указ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4. Конкуренция за будущее как новая парадигма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1. Конкуренция за будущее: стратегический фактор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4.2. Новая парадигма стратегии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5.5. Как поставить стратегический менеджмент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5.5.2. Задачи и функции подразделения стратегического развит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330066"/>
                </a:solidFill>
                <a:latin typeface="Arial"/>
              </a:rPr>
              <a:t>Несколько важных отличий этой дисциплины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адлежность к блоку специализа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ледовательно гораздо большая гибкость, как по содержанию, так и по объему в зависимости от конкретной специал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раздо больший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разброс подход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 дисциплине, как в ее понимании, так и в оценке ее необходим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Меньший объе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Необходимость увяз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другими специальными дисциплинами (в нашем случае Финансовый менеджмент, Исследование систем управления, Теория организации, Организационное поведение, Стратегический менеджмент, Управление качеством, Разработка управленческого решения, Информационные технологии управления, Инновационный менеджмент, Управление персоналом 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 – последний вопрос: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0000"/>
                </a:solidFill>
                <a:latin typeface="Arial"/>
              </a:rPr>
              <a:t>Вопросы модуляризаци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здесь будут решаться по-другому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яд подтем (теория ресурсной базы, сценарное планирование и др.) могут быть как включены, так и выключены из рассмотрения, что позволяет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варьировать объемом курса в более широких пределах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ам курс может быть включен как составная часть вместе с другими курсами в некоторый </a:t>
            </a:r>
            <a:r>
              <a:rPr b="0" lang="ru-RU" sz="2600" spc="-1" strike="noStrike">
                <a:solidFill>
                  <a:srgbClr val="ff0000"/>
                </a:solidFill>
                <a:latin typeface="Arial"/>
              </a:rPr>
              <a:t>общий модуль специализации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	</a:t>
            </a: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0066"/>
                </a:solidFill>
                <a:latin typeface="Arial"/>
              </a:rPr>
              <a:t>Курс «Менеджмент»</a:t>
            </a:r>
            <a:br>
              <a:rPr sz="4800"/>
            </a:b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щие с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Изучается специальностя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500 Бухгалтерский учет, анализ и аудит –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включает описания специальных дисцип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0800  «экономист-менеджер» - </a:t>
            </a:r>
            <a:r>
              <a:rPr b="0" i="1" lang="ru-RU" sz="3000" spc="-1" strike="noStrike">
                <a:solidFill>
                  <a:srgbClr val="330066"/>
                </a:solidFill>
                <a:latin typeface="Arial"/>
              </a:rPr>
              <a:t>отличается методическим подход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061100 - "Менеджмент организации«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направление 521500 “Менеджмент» (Бакалавреат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330066"/>
                </a:solidFill>
                <a:latin typeface="Arial"/>
              </a:rPr>
              <a:t>Стандарт специальности 060500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изучение </a:t>
            </a:r>
            <a:r>
              <a:rPr b="0" lang="ru-RU" sz="3000" spc="-1" strike="noStrike">
                <a:solidFill>
                  <a:srgbClr val="ff0000"/>
                </a:solidFill>
                <a:latin typeface="Arial"/>
              </a:rPr>
              <a:t>основного ядра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предмет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ознакомление со </a:t>
            </a:r>
            <a:r>
              <a:rPr b="0" lang="ru-RU" sz="3000" spc="-1" strike="noStrike">
                <a:solidFill>
                  <a:srgbClr val="008000"/>
                </a:solidFill>
                <a:latin typeface="Arial"/>
              </a:rPr>
              <a:t>специальными темам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: антикризисный, стратегический, ситуационный, финансовый менеджмент,  менеджмент персонала,  управление рисками, антикризисное управление, управление внешнеэкономическими связям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4T13:04:38Z</dcterms:created>
  <dc:creator>sw</dc:creator>
  <dc:description/>
  <dc:language>en-US</dc:language>
  <cp:lastModifiedBy>LEGION</cp:lastModifiedBy>
  <dcterms:modified xsi:type="dcterms:W3CDTF">2016-01-11T10:02:11Z</dcterms:modified>
  <cp:revision>18</cp:revision>
  <dc:subject/>
  <dc:title>«Менеджмент организации»</dc:title>
</cp:coreProperties>
</file>