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BADE-0012-40DD-8EBF-56E4D8F891E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неджмент организ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двух курсов специ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 организа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 двух курсов специ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специальностей 060800  и 061100 (521500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ожи в своей основе,  но различаются методически, отражая разные научные школы разработчиков этих стандартов (ИнжЭконУниверситет, СПб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У им. Орджоникидзе, Москва, соответственн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ы специальностей 060800  и 061100 (52150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хожи в своей основе,  но различаются методически, отражая разные научные школы разработчиков этих стандартов (ИнжЭконУниверситет, СПб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У им. Орджоникидзе, Москва, соответственно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м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ым цветом общие для всех программ поз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леным цветом – темы специ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м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ым цветом общие для всех программ поз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леным цветом – темы специ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060500 Бухгалтерский учет, анализ и ау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управления современной российской макро- и микроэконом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совершенствования организации управле­ния в Росс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значение антикризисного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сущность, цели, значение, технологии, общие и специальные функции менеджмента как вида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менеджмента за рубежом; возможности и пути использования его в Росс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система управления предприяти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организационных структу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й менеджмен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обоснования бизнес-планов предприятий и их мониторинг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­няя и внешняя среда предприят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ционный менеджмент; система информационных коммуникац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ий менеджмен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й менеджмен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менеджмент, его роль в системе современного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персонала, ос­новные качества менеджера, особенности его рабо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делового общения, управление конфликтами, психология менеджмента, кор­поративная культура и организационное поведе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отива­ций, контроль и контроллинг, управление рисками, антикризисное управление, особенности управления внешнеэкономическими связя­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вышения эффективности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060500 Бухгалтерский учет, анализ и ауд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управления современной российской макро- и микроэкономик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совершенствования организации управле­ния в Росс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е значение антикризисного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, сущность, цели, значение, технологии, общие и специальные функции менеджмента как вида деятель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менеджмента за рубежом; возможности и пути использования его в Росс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система управления предприяти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организационных структур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й менеджмент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обоснования бизнес-планов предприятий и их мониторинг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­няя и внешняя среда предприят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й менеджмент; система информационных коммуникац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й менеджмент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туационный менеджмент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менеджмент, его роль в системе современного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персонала, ос­новные качества менеджера, особенности его рабо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 делового общения, управление конфликтами, психология менеджмента, кор­поративная культура и организационное поведе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мотива­ций, контроль и контроллинг, управление рисками, антикризисное управление, особенности управления внешнеэкономическими связя­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060500 Бухгалтерский учет, анализ и ау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060500 Бухгалтерский учет, анализ и ауд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060800  «экономист-менедже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ность и необходимость управления в дея­тельности человека. Менеджмент в системе понятий рыночн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менеджмента: условия и предпосылки возникновения менеджмента, школы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российского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онные процессы в менеджменте. Внеш­няя и внутренняя среда организации. Факторы прямого и косвенн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менеджмента: функции и организацион­ные стру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ы управления: целеполагание и оценка ситуации, принятие управленческих реш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 менеджмента: средства и методы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менеджмента, типология и выбор альтернатив эффективного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и социология управления персоналом и формирование человеческого капитала. Личность менедж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ство и стиль управления. Власть и партнер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динамика и разрешение кон­фликтов. Формальное и неформальное управл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, качество и эффективность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информационного обеспечения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овационный потенциал менеджмента, профессионализация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060800  «экономист-менедже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ность и необходимость управления в дея­тельности человека. Менеджмент в системе понятий рыноч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волюция менеджмента: условия и предпосылки возникновения менеджмента, школы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оссийского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онные процессы в менеджменте. Внеш­няя и внутренняя среда организации. Факторы прямого и косвенного воз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менеджмента: функции и организацион­ные 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ы управления: целеполагание и оценка ситуации, принятие управленческих ре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менеджмента: средства и методы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 менеджмента, типология и выбор альтернатив эффективного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и социология управления персоналом и формирование человеческого капитала. Личность менедже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дерство и стиль управления. Власть и партнерств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овая динамика и разрешение кон­фликтов. Формальное и неформальное управ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, качество и эффективность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нформационного обеспечения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ый потенциал менеджмента, профессионализация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ециальность 060800  «экономист-менедже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ециальность 060800  «экономист-менедже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061100 - "Менеджмент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теория управления. Закономерности управления различными системами. Управление социально-экономическими системами (организациям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е основы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факторы и этика менеджмен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онные процессы в менеджмен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 ситуаций и разработка реш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и состав функций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061100 - "Менеджмент орган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еория управления. Закономерности управления различными системами. Управление социально-экономическими системами (организациям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е основы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офакторы и этика менеджме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онные процессы в менеджмент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 ситуаций и разработка решен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 и состав функций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0611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ие и тактические планы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отношения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организации системы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ация деятельности в менеджмен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и контроль в системе менеджмен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групп и лидерство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человеком и управление групп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: власть и партнерств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менеджмента и имидж (образ) менедже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ликтность в менеджмен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эффективности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0611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е и тактические планы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отношения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организации системы менеджмен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деятельности в менеджмент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ование и контроль в системе менеджме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ка групп и лидерство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: власть и партнерство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ь менеджмента и имидж (образ) менеджер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ликтность в менеджмент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эффективности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ециальность 061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ециальность 061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е 521500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алавр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теория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управления различными систе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социально-экономическими системами (организацие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е школы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менеджмента (планирование, организация, мотивация, контрол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ы системы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ующие процессы в менеджмен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в системе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и менедж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организационными измен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 качеств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521500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калавр менеджмен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еория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управления различными систем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социально-экономическими системами (организацие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е школы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менеджмента (планирование, организация, мотивация, контроль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ы системы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ующие процессы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в системе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и менедже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организационными изменен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 качеств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ка задачи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ть программы пяти к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неджмент»,  «Управление проектами», «Стратегический менеджмент», «Маркетинг» и «Управление персоналом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ть наполнение этих к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ка задачи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ть программы пяти кур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,  «Управление проектами», «Стратегический менеджмент», «Маркетинг» и «Управление персоналом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ть наполнение этих к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рав выделенные част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аем общее для всех специальностей ядро,  которое может стать основой базового модуля курса «Менеджмен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в выделенные част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ем общее для всех специальностей ядро,  которое может стать основой базового модуля курса 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ные нами 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мпонованы в программе курса «Менеджмент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азработка к.э.н., доц. Г.Я.Андреев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м эти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ные нами 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мпонованы в программе курса «Менеджмент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зработка к.э.н., доц. Г.Я.Андреев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ем эти 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ы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енеджмен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Общая теория управления. Закономерности управления различными систе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бернетические основы управления. Понятия «объект» и «субъект» управления, «управляющее воздействие», «обратная связь», «управляемая» и «управляющая» под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управления. Типы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Общая теория управления. Закономерности управления различными систе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бернетические основы управления. Понятия «объект» и «субъект» управления, «управляющее воздействие», «обратная связь», «управляемая» и «управляющая» под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управления. Типы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2. Управление социально-экономическими системами (организациям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как объект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 элементы и характерис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и содержание процесса управления в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управленческого тру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и субъекты управления в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и роли менедже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менеджеров. Требования к менеджер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Управление социально-экономическими системами (организация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как объект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 элементы и характерист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и содержание процесса управления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управленческого тру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и субъекты управления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и роли менедже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менеджеров. Требования к менеджер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3. Методологические основы менеджмента. Инфраструктура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ы к определению сущности понятия «менеджмент». Соотношение с понятием «управление». Цели и задачи менеджмента. Взаимосвязь менеджмента с другими на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, методы и принципы менеджмента. Характеристика объектов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онные процессы в менеджменте. Инфраструктура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Методологические основы менеджмента. Инфраструктура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ы к определению сущности понятия «менеджмент». Соотношение с понятием «управление». Цели и задачи менеджмента. Взаимосвязь менеджмента с другими нау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, методы и принципы менеджмента. Характеристика объектов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онные процессы в менеджменте. Инфраструктура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4.  Этика менеджмента и социальная ответственность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этики менеджмента. Критерии принятия этически сложных реш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определяющие этический выб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социальной ответ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интересованные в деятельности организации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результатов социаль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этической и социальной ответственностью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 Этика менеджмента и социальная ответственность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этики менеджмента. Критерии принятия этически сложных ре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пределяющие этический выб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социальной ответств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ые в деятельности организации групп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езультатов социальной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этической и социальной ответственностью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5. Природа и состав функций менеджмента. Цикл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функций менеджмента, их взаимодейств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функций по уровням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 управления и его ста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рирода и состав функций менеджмента. Цикл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функций менеджмента, их взаимодейств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е функций по уровням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управления и его стад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 Моделирование ситуаций и разработка решений в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, значение и типология решений в менеджмен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управленческим реш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процесс принятия управленческих реш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ы к принятию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облемной ситу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процедуры анализа проблемной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процесса принятия и осуществления управленческого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уждение сотрудников к участию в принятии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Моделирование ситуаций и разработка решений в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, значение и типология решений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 к управленческим решени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процесс принятия управленческих ре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ы к принятию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облемной ситу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процедуры анализа проблемной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процесса принятия и осуществления управленческого реш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буждение сотрудников к участию в принятии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7.  Планирование как функция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, цели и задачи внутрифирменного план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нутрифирменного планирования, их классификация: по целям; предмету; уровню; содержанию; периодам план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ая характеристика стратегических и тактических планов в системе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лан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план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 Планирование как функция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, цели и задачи внутрифирменного план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нутрифирменного планирования, их классификация: по целям; предмету; уровню; содержанию; периодам план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ая характеристика стратегических и тактических планов в системе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лан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пла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результат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е одинаковых (сходных) курсов, читаемых на разных специальностях и разным категориям слуша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дуляризация» курсов: принципы модуляризации, типы модулей, применение к конкретным кур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требований к дистанционной подаче материала, представление курсов в форме, пригодной для дистанционно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онизация» курсов: выработка принципов согласования подходов и кредитовой оценки курсов (модулей, блоков, мейджеров и т.п.) с перспективой взаимозачетов курсов, прослушанных в разных университе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 к результат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ание одинаковых (сходных) курсов, читаемых на разных специальностях и разным категориям слуш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одуляризация» курсов: принципы модуляризации, типы модулей, применение к конкретным курс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ка требований к дистанционной подаче материала, представление курсов в форме, пригодной для дистанционного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олонизация» курсов: выработка принципов согласования подходов и кредитовой оценки курсов (модулей, блоков, мейджеров и т.п.) с перспективой взаимозачетов курсов, прослушанных в разных университе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8. Построение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как процесс, его содержание и на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структуры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(звенья, связи, уровни) и характеристики (сложность, формализация, централизация, механизмы координации) организационной струк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формирования организационных структу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структур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труктур управления организ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структур управления организ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8. Построение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как процесс, его содержание и назна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структуры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(звенья, связи, уровни) и характеристики (сложность, формализация, централизация, механизмы координации) организационной струк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формирования организационных структу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волюция структур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труктур управления организаци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структур управления организаци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9. Организация взаимодействия и делегирование полномочий в системе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егирование, полномочия, ответственность: содержание и роль в обеспечении взаимодействия в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олномоч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ация и децентрализация задач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успешного делег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9. Организация взаимодействия и делегирование полномочий в системе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егирование, полномочия, ответственность: содержание и роль в обеспечении взаимодействия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олномоч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ация и децентрализация задач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успешного делег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0. Мотивация деятельности в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 роль мотивации в управл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анализ теорий мотив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имость содержательных и процессуальных теорий в управлении организ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отивации персонала в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0. Мотивация деятельности в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и роль мотивации в управле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ый анализ теорий мотив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имость содержательных и процессуальных теорий в управлении организаци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мотивации персонала в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1. Контроль и регулирование в системе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и содержание функций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 формы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организации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1. Контроль и регулирование в системе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и содержание функций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 формы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 к организации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2. Коммуникации в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сущность и роль коммуникаций в менеджмен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оцесса коммуникаций: элементы и эта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результатов (эффект) коммуник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ум в процессе коммуник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коммуникационных сете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ционные ро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ционные сти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2. Коммуникации в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, сущность и роль коммуникаций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процесса коммуникаций: элементы и этап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результатов (эффект) коммуник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 в процессе коммуник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коммуникационных сетей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е ро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е сти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3. Групповая динам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и неформальные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зис и развитие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е поведение в групп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сплоч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человеком и управление групп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эффективность работы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3. Групповая динам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групп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и неформальные групп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зис и развитие групп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ое поведение в групп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овая сплочен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эффективность работы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4. Власть и вли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в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идов в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власти в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влияния руководителя на подчинен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управленческого влияния на подчине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4. Власть и влия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вла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идов вла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власти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влияния руководителя на подчиненн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управленческого влияния на подчине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5. Лидерство в систем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лидерства. Составляющие лидерства. Основные подходы к трактовке лиде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 и менеджер, их характеристики и отлич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менеджмента и имидж (образ) менедж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ы к изучению лидерства. Теория лидерских качеств. Концепции лидерского поведения. Концепции ситуационного лидер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 теориях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5. Лидерство в систем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лидерства. Составляющие лидерства. Основные подходы к трактовке лиде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дер и менеджер, их характеристики и отлич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ь менеджмента и имидж (образ) менедж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ы к изучению лидерства. Теория лидерских качеств. Концепции лидерского поведения. Концепции ситуационного лидер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ое в теориях лиде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6. Конфликтность в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ликт и его природа в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конфли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 конфли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ы прерывания конфли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ипы поведения в конфликтной ситу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конфликта в организации и их источ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навыки управления конфликтами различных уров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6. Конфликтность в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ликт и его природа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конфли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конфли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прерывания конфли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поведения в конфликтной ситу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конфликта в организации и их источ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е навыки управления конфликтами различных уров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7. Эффективность в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вышения эффективности менеджмента в организации 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вышения эффективности менеджмента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вышения эффективности менеджмента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7. Эффективность в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 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рограммы двух к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неджмент» и «Стратегический менеджмен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е одинаковых (сходных) курсов, читаемых на разных специальностях и разным категориям слуша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дуляризация» курсов: принципы модуляризации, типы модулей, применение к конкретным кур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программы двух кур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 и «Стратегический 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ание одинаковых (сходных) курсов, читаемых на разных специальностях и разным категориям слуш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одуляризация» курсов: принципы модуляризации, типы модулей, применение к конкретным курс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8. История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и факторы возникновения и развития менеджмента. Истоки возникновения менеджмента. Этапы и школы в истории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образие моделей менеджмента: американский, японский, европейский и др. Влияние национально-исторических факторов на развитие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управления 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система взглядов на менедж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менеджмента: возможное и вероят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8. История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и факторы возникновения и развития менеджмента. Истоки возникновения менеджмента. Этапы и школы в истории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образие моделей менеджмента: американский, японский, европейский и др. Влияние национально-исторических факторов на развитие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управления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система взглядов на менеджм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менеджмента: возможное и вероят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видим, что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ное нами ядро курса «Менеджмент», общее для всех специальностей ИЭиУ полностью  покрывается этой програм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приведенных тем в достаточной степени исчерпывает проблематику классического менеджмента в его традиционном излож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, на наш взгляд, именно этот перечень может быть взят в качестве устойчивого ядра курса «Менеджмент» как для всех специальностей ИЭиУ, так и для различных форм обучения – дневная, заочная, экстернат, дистанционное обу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видим, что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ное нами ядро курса «Менеджмент», общее для всех специальностей ИЭиУ полностью  покрывается этой программ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ень приведенных тем в достаточной степени исчерпывает проблематику классического менеджмента в его традиционном изложе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, на наш взгляд, именно этот перечень может быть взят в качестве устойчивого ядра курса «Менеджмент» как для всех специальностей ИЭиУ, так и для различных форм обучения – дневная, заочная, экстернат, дистанционное обуч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личных специальностей эти центральные части будут различаться объемом выделяемых на них час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специальности «Менеджмент» разным будет соотношение часов на лекции, практические занятия и самостоятельную рабо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объем курса при этом составляет 300 часов для очного обучения, 268 часов для заочного и 250 часов для бакалавре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различных специальностей эти центральные части будут различаться объемом выделяемых на них час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специальности «Менеджмент» разным будет соотношение часов на лекции, практические занятия и самостоятельную рабо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й объем курса при этом составляет 300 часов для очного обучения, 268 часов для заочного и 250 часов для бакалавре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уляр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обсуждение и ознакомление с материалами наших немецких коллег позволяет выделить несколько возможных направлений дви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яр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варительное обсуждение и ознакомление с материалами наших немецких коллег позволяет выделить несколько возможных направлений дви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е на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е – в пределах 250-350 часов – блоки, концентрирующие содержание одной (чаще – фундаментальной)  или нескольких взаимоувязанных и взаимодополняющих (чаще – специальных) дисципл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рганизационно подход удобен для приглашенных профессоров, имеющих возможность вычитать свой курс за 1-2 семестра и отбыть к следующему месту работ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ен для европейской прак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может создавать определенные трудности студентам, либо вынужденных 2-3 года ждать необходимого им курса, либо ехать за этим курсом в другое учебное заведение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ком формате естественно глядятся авторские курсы, нетрадиционные подходы, рассмотрение новых, спорных воп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е на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е – в пределах 250-350 часов – блоки, концентрирующие содержание одной (чаще – фундаментальной)  или нескольких взаимоувязанных и взаимодополняющих (чаще – специальных) дисципл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рганизационно подход удобен для приглашенных профессоров, имеющих возможность вычитать свой курс за 1-2 семестра и отбыть к следующему месту работ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ычен для европейской практи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может создавать определенные трудности студентам, либо вынужденных 2-3 года ждать необходимого им курса, либо ехать за этим курсом в другое учебное заведение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аком формате естественно глядятся авторские курсы, нетрадиционные подходы, рассмотрение новых, спорных вопр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е на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адаптированного для конкретного заказчика содержания курса из нескольких (нескольких десятков)  модулей – т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-то мере этот подход уже реализован в учебном плане специальности 060800 ИЭиУ. Здесь выделена базовая часть – «менеджмент I», общая для всех специализаций и переменная часть «менеджмент II»,  варьируемая для трех специализаций –  строительства, машиностроения и транс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 обеспечивает большую взаимозаменяемость преподавателей и большие удобства для слуша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-е на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адаптированного для конкретного заказчика содержания курса из нескольких (нескольких десятков)  модулей – т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кой-то мере этот подход уже реализован в учебном плане специальности 060800 ИЭиУ. Здесь выделена базовая часть – «менеджмент I», общая для всех специализаций и переменная часть «менеджмент II»,  варьируемая для трех специализаций –  строительства, машиностроения и транс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 обеспечивает большую взаимозаменяемость преподавателей и большие удобства для слушател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м случа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видим достаточно тесную увязку следующих друг за другом тем и практическое отсутствие тем факультативн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напрашивается представление курса «Менеджмент» в виде единого макромодуля полным объемом до 300 часов (для специальности «Менеджмент»), с возможностью сокращения до 100 часов (для других специальностей и специальных программ) за счет второстепенных вопросов в каждой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шем случа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видим достаточно тесную увязку следующих друг за другом тем и практическое отсутствие тем факультативн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напрашивается представление курса «Менеджмент» в виде единого макромодуля полным объемом до 300 часов (для специальности «Менеджмент»), с возможностью сокращения до 100 часов (для других специальностей и специальных программ) за счет второстепенных вопросов в каждой т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курса для дистанционно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ьшой степени зависит от рекомендованной программной оболочки, поэтому вернемся к этому вопросу позже, после выбора такой оболо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 курса для дистанционного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ольшой степени зависит от рекомендованной программной оболочки, поэтому вернемся к этому вопросу позже, после выбора такой оболоч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паниях и на предприятиях современной России переживает стадию зарождения и первоначального разви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помочь российским менеджерам осознанно подойти к решению вопросов, определяющих ближайшие и отдаленные перспективы; гармонично увязывать перспективы с текущей деятельностью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мпаниях и на предприятиях современной России переживает стадию зарождения и первоначального разви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помочь российским менеджерам осознанно подойти к решению вопросов, определяющих ближайшие и отдаленные перспективы; гармонично увязывать перспективы с текущей деятельностью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мет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«Менеджмент» - общепрофессиональная дисциплин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 в учебных планах всех специальностей ИЭи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«Стратегический менеджмент» специальная дисциплин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ьный курс - лишь в учебном плане специальности «Менеджмен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т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«Менеджмент» - общепрофессиональная дисциплин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 в учебных планах всех специальностей ИЭи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«Стратегический менеджмент» специальная дисциплин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й курс - лишь в учебном плане специальности «Менеджмент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«Стратегический 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относится к курсам специализации и его позиция в расстановке курсов специальности «Менеджмент» хорошо видна из рисун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«Стратегический 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относится к курсам специализации и его позиция в расстановке курсов специальности «Менеджмент» хорошо видна из рисунк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ий менеджмент среди курсов специ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й менеджмент среди курсов специ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ей курса явл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студентам представление о стратегическом управлении в системе менеджмента, стратегическом управлении и конкурентоспособности организации, стратегическом планировании и стратегическом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 студентов основам стратегического анализа, в том числе: анализу внешней среды, анализу внутренней среды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тудентов с основами сценарного план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редставление о  миссии, целях, приоритетах коммерческих, некоммерческих и государственны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тудентов с разработкой корпоративной стратегии, стратегий отдельных бизнесов и их системы, а также  стратегий функциональных подсистем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редставление о реализации стратегии и эффективности стратегическ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ей курса явля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студентам представление о стратегическом управлении в системе менеджмента, стратегическом управлении и конкурентоспособности организации, стратегическом планировании и стратегическом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ить студентов основам стратегического анализа, в том числе: анализу внешней среды, анализу внутренней среды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комить студентов с основами сценарного пла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представление о  миссии, целях, приоритетах коммерческих, некоммерческих и государственных организ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комить студентов с разработкой корпоративной стратегии, стратегий отдельных бизнесов и их системы, а также  стратегий функциональных подсистем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представление о реализации стратегии и эффективности стратегического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 с другими предме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данной дисциплины целесообразно начинать после прохождения курсов "Менеджмент”, “Финансовый менеджмент”, “Маркетинг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с другими предме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данной дисциплины целесообразно начинать после прохождения курсов "Менеджмент”, “Финансовый менеджмент”, “Маркетинг”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учебных пла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пециальности 061100 "Стратегический  менеджмент" отнесен к категории специальных экономических дисциплин. Изучается в 7 и 8 семестрах Общий объем курса 130 часов (85 аудиторных). Итоговая форма контроля - экзам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аправления 521500 "Менеджмент",  квалификация - бакалавр менеджмента "Стратегический  менеджмент"  включен в рекомендуемые    УМО    специальные    дисциплины    направления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учебным планом специальности 060800  «экономист-менеджер»",  "Стратегический  менеджмент"  включен в рекомендуемые    УМО    специальные    дисциплины    направлен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учебным планом специальности 060500 Бухгалтерский учет, анализ и аудит  "Стратегический  менеджмент" включен в состав общего курса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учебных план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пециальности 061100 "Стратегический  менеджмент" отнесен к категории специальных экономических дисциплин. Изучается в 7 и 8 семестрах Общий объем курса 130 часов (85 аудиторных). Итоговая форма контроля - экзам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аправления 521500 "Менеджмент",  квалификация - бакалавр менеджмента "Стратегический  менеджмент"  включен в рекомендуемые    УМО    специальные    дисциплины    направления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учебным планом специальности 060800  «экономист-менеджер»",  "Стратегический  менеджмент"  включен в рекомендуемые    УМО    специальные    дисциплины    направлени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учебным планом специальности 060500 Бухгалтерский учет, анализ и аудит  "Стратегический  менеджмент" включен в состав общего курса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ы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 Стратегический 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« Стратегический 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 Введение в «Стратегическ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Стратегическое управление в систем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1.Исходные предст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2.Исходные опред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3.Стратегический аспект в управлении организ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Стратегическое управление и конкурентоспособность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1. Конкуренция в бизне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2. Конкурентные преиму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3. Базовые конкурентные 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4. Цепь создания ценности (Value Chai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5. Характеристики эффективной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Стратегическое планирование и стратегический менедж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1. Первичная концепция стратегическо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2. Переход от стратегического планирования к стратегическому менеджмен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3. Изменение ментальности: вместо политики «от прошлого — к будущему» — политика «от будущего — к настоящем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 Введение в «Стратегическ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 Стратегическое управление в систем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1.Исходные предст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2.Исходные опред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3.Стратегический аспект в управлении организ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 Стратегическое управление и конкурентоспособность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1. Конкуренция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2. Конкурентные преиму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3. Базовые конкурентные страте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4. Цепь создания ценности (Value Ch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5. Характеристики эффективной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 Стратегическое планирование и стратегический менеджм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1. Первичная концепция стратегическ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2. Переход от стратегического планирования к стратегическому менеджмен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3. Изменение ментальности: вместо политики «от прошлого — к будущему» — политика «от будущего — к настоящем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2 Стратегически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Анализ внешн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1. SWOT-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2. PEST-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3. Многофакторный системный анали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Анализ внутренней среды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1. Значение стратегического анализа внутренн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2. SNW-подход к анализу внутренн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3. Модель стратегического состояния организации (стратегический ку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Сценарное план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1. Первичное предст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3. Восемь шагов метод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 Миссия, цели,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1. Определение ми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2. Цели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3. Стратегические целевы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 Стратегически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 Анализ внешне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1. SWOT-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2. PEST-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3. Многофакторный системный анали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 Анализ внутренней среды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1. Значение стратегического анализа внутренне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2. SNW-подход к анализу внутренн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3. Модель стратегического состояния организации (стратегический ку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 Сценарное план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1. Первичное представ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3. Восемь шагов метод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 Миссия, цели, приорит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1. Определение ми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2. Цел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3. Стратегические целевые приорит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3 Разработка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1. Продуктово-маркетинговая страте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1.1. Базовые конкурентные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 Разработка стратегий отдельных бизнесов и их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1. Стратегия организации — система бизнес-страте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2. Бизнес-стратегия: типовые варианты и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3. Классификация стратегий по функциональным направлениям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3. Система бизнес-стратегий: типовые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4. Стратегия системы бизнесов и стратегическая синер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3. Разработка стратегий функциональных под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3.1. Производственная страте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3.2. Стратегия управления персона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3.3. Финансовая страте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3.4. Многообразие функциональных страте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4.  Теория ресурсной б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5. Стержневые компет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6. Органичное развитие корпоративной 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6.1. Полифония стратегии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6.2. Разумная достаточность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6.3. Пирамида разработки 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 Разработка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. Продуктово-маркетинговая страте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.1. Базовые конкурентные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 Разработка стратегий отдельных бизнесов и их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1. Стратегия организации — система бизнес-страте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2. Бизнес-стратегия: типовые варианты и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3. Классификация стратегий по функциональным направлениям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3. Система бизнес-стратегий: типовые мод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4. Стратегия системы бизнесов и стратегическая синер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 Разработка стратегий функциональных под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1. Производственная страте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2. Стратегия управления персона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3. Финансовая стратег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4. Многообразие функциональных страте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4.  Теория ресурсной ба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5. Стержневые компете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 Органичное развитие корпоративной страте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1. Полифония стратегии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2. Разумная достаточность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3. Пирамида разработки страте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4. 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. От выполнения долгосрочного плана — к реализации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.1 Существенные отлич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.2. Основные этапы цикла ре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 Стратегически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1. Система стратегических изме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2. Лидирующие стратегические из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3. Органичность стратегических изме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 Управление процессом реализации стратегических изме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1. Концептуальные под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2. Реализация стратегии и получение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3. Программа конкрет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страте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. От выполнения долгосрочного плана — к реализации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.1 Существенные отлич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.2. Основные этапы цикла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 Стратегическ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1. Система стратегических изме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2. Лидирующие стратегические изме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3. Органичность стратегических измен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 Управление процессом реализации стратегических изме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1. Концептуальные под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2. Реализация стратегии и получение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3. Программа конкрет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5. Эффективность стратегическо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 Эффективность стратегического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1 Сущность стратегической эффекти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2. Стратегическая 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2. Стратегический контрол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2.1. Функции стратегического контрол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2.2. Стратегический и тактический контролин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3. От стратегии к программе развит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3.1. Схемы пере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3.2. Стратегические у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4. Конкуренция за будущее как новая парадигма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4.1. Конкуренция за будущее: стратегический фак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4.2. Новая парадигма 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5. Как поставить стратегический 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5.2. Задачи и функции подразделения стратегическо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Эффективность стратегическ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. Эффективность стратегического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.1 Сущность стратегической эффектив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.2. Стратегическая рефлек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. Стратегический контрол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.1. Функции стратегического контрол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.2. Стратегический и тактический контролин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. От стратегии к программе развития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.1. Схемы пере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.2. Стратегические указ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. Конкуренция за будущее как новая парадигма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.1. Конкуренция за будущее: стратегический факт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.2. Новая парадигма страте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5. Как поставить стратегический 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5.2. Задачи и функции подразделения стратегического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колько важных отличий этой дисципл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адлежность к блоку специализации, следовательно гораздо большая гибкость, как по содержанию, так и по объему в зависимости от конкретной специ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аздо больший разброс подходов к дисциплине, как в ее понимании, так и в оценке ее необходим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ьший объ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увязки с другими специальными дисциплинами (в нашем случае Финансовый менеджмент, Исследование систем управления, Теория организации, Организационное поведение, Стратегический менеджмент, Управление качеством, Разработка управленческого решения, Информационные технологии управления, Инновационный менеджмент, Управление персоналом 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колько важных отличий этой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адлежность к блоку специализации, следовательно гораздо большая гибкость, как по содержанию, так и по объему в зависимости от конкретной специал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аздо больший разброс подходов к дисциплине, как в ее понимании, так и в оценке ее необходим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ьший объ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увязки с другими специальными дисциплинами (в нашем случае Финансовый менеджмент, Исследование систем управления, Теория организации, Организационное поведение, Стратегический менеджмент, Управление качеством, Разработка управленческого решения, Информационные технологии управления, Инновационный менеджмент, Управление персоналом 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– последний 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модуляризации здесь будут решаться по-другом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подтем (теория ресурсной базы, сценарное планирование и др.) могут быть как включены, так и выключены из рассмотрения, что позволяет варьировать объемом курса в более широких предел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 курс может быть включен как составная часть вместе с другими курсами в некоторый общий модуль специ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– последний вопро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модуляризации здесь будут решаться по-другому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яд подтем (теория ресурсной базы, сценарное планирование и др.) могут быть как включены, так и выключены из рассмотрения, что позволяет варьировать объемом курса в более широких предел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 курс может быть включен как составная часть вместе с другими курсами в некоторый общий модуль специал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урс «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бщие с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урс «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бщие с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ся специальност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0500 Бухгалтерский учет, анализ и аудит – включает описания специальных дисципл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0800  «экономист-менеджер» - отличается методическим подхо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1100 - "Менеджмент организации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е 521500 “Менеджмент» (Бакалавреа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ается специальност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60500 Бухгалтерский учет, анализ и аудит – включает описания специальных дисципл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60800  «экономист-менеджер» - отличается методическим подхо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61100 - "Менеджмент организации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521500 “Менеджмент» (Бакалавреат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специальности 060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основного ядра предм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ление со специальными темами: антикризисный, стратегический, ситуационный, финансовый менеджмент,  менеджмент персонала,  управление рисками, антикризисное управление, управление внешнеэкономическими связ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 специальности 060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основного ядра предм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ление со специальными темами: антикризисный, стратегический, ситуационный, финансовый менеджмент,  менеджмент персонала,  управление рисками, антикризисное управление, управление внешнеэкономическими связ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3A1-8C70-4825-B8C2-F2328CC5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4113-1385-44D6-9C07-CD955918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05F1-DD95-4DE9-9670-FD49201C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C85D-2948-4682-AFDD-6DAB3350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78B6-6FFA-422F-84CA-A69AC54A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E779-ADF9-4C93-809C-B3EC1001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F244-9D42-4AC7-B3F6-CB6BD464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5CE0-7139-43E7-9CA7-EB546F6E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BDA3-F8E9-4584-A9FE-F95BA859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8E61-5D8D-42C0-A920-A7AACCD0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6A08-F718-4E39-AD1C-F8DFC44A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A068-578A-47C0-89DD-89EA45CF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0CC4-6F03-41E7-AD95-F7EE8669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5F58-7721-4E05-BF27-45768E77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5F39-95D4-4EB1-AFFF-1BB13216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1E63-8AD3-43F5-AB4E-A9586698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C744-843C-4F29-A226-04F47346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BA6E-71FD-4B63-B71A-078DF323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2131-4B2F-4171-9BF9-B3143E76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2909-84EE-42EF-B4F0-A79471E6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2A7C-19F3-40E5-BC1E-861505A4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97D9-B4B3-4397-B189-B050D412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8CC4-93B4-46F5-9EF1-0A76D7DA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0FEB-A964-4AD3-B7E9-E140F830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121D-2C7A-4C0A-822A-C4DBA0D9DDA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7EA4-F891-4BCF-8DB0-6F35D2CE2F4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«Менеджмент организации»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Представление двух курсов специ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андарты специальностей 060800  и 061100 (521500),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хожи в своей основе,  но различаются методически, отражая разные научные школы разработчиков этих стандартов (ИнжЭконУниверситет, СПб и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АУ им. Орджоникидзе, Москва, соответственно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ыделим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асным цветом общие для всех программ пози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еленым цветом – темы специализ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0500 </a:t>
            </a:r>
            <a:r>
              <a:rPr b="0" i="1" lang="ru-RU" sz="2800" spc="-1" strike="noStrike">
                <a:solidFill>
                  <a:srgbClr val="330066"/>
                </a:solidFill>
                <a:latin typeface="Arial"/>
              </a:rPr>
              <a:t>Бухгалтерский учет, анализ и аудит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Состояние управления современной российской макро- и микроэкономикой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необходимость совершенствования организации управле­ния в Росси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собое значение антикризисного менеджмента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понятие, сущность, цели, значение, технологии, общие и специальные функции менеджмента как вида деятельност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иды менеджмента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8000"/>
                </a:solidFill>
                <a:latin typeface="Arial"/>
              </a:rPr>
              <a:t>опыт менеджмента за рубежом; возможности и пути использования его в Росси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цели и система управления предприятиям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построение организационных структур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организационный менеджмент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етоды обоснования бизнес-планов предприятий и их мониторинг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внутрен­няя и внешняя среда предприятия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коммуникационный менеджмент; система информационных коммуникаций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8000"/>
                </a:solidFill>
                <a:latin typeface="Arial"/>
              </a:rPr>
              <a:t>стратегический менеджмент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8000"/>
                </a:solidFill>
                <a:latin typeface="Arial"/>
              </a:rPr>
              <a:t>ситуационный менеджмент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8000"/>
                </a:solidFill>
                <a:latin typeface="Arial"/>
              </a:rPr>
              <a:t>финансовый менеджмент, его роль в системе современного менеджмента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8000"/>
                </a:solidFill>
                <a:latin typeface="Arial"/>
              </a:rPr>
              <a:t>менеджмент персонала, ос­новные качества менеджера, особенности его работы;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этика делового общения, </a:t>
            </a: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управление конфликтами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 психология менеджмента, кор­поративная культура и </a:t>
            </a: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организационное поведение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система мотива­ций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 контроль и контроллинг, управление рисками, антикризисное управление, особенности управления внешнеэкономическими связя­м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пути повышения эффективности менеджмент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330066"/>
                </a:solidFill>
                <a:latin typeface="Arial"/>
              </a:rPr>
              <a:t>Специальность 060500 </a:t>
            </a:r>
            <a:r>
              <a:rPr b="0" i="1" lang="ru-RU" sz="3200" spc="-1" strike="noStrike">
                <a:solidFill>
                  <a:srgbClr val="330066"/>
                </a:solidFill>
                <a:latin typeface="Arial"/>
              </a:rPr>
              <a:t>Бухгалтерский учет, анализ и аудит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468360" y="1700280"/>
          <a:ext cx="822960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22960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0800  «экономист-менеджер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Потребность и необходимость управления в дея­тельности человека. Менеджмент в системе понятий рыночной экономик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Эволюция менеджмента: условия и предпосылки возникновения менеджмента, школы менеджмент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8000"/>
                </a:solidFill>
                <a:latin typeface="Arial"/>
              </a:rPr>
              <a:t>Особенности российского менеджмен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Интеграционные процессы в менеджменте. Внеш­няя и внутренняя среда организации. Факторы прямого и косвенного воздейств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Системы менеджмента: функции и организацион­ные структур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Процессы управления: целеполагание и оценка ситуации, принятие управленческих решени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еханизмы менеджмента: средства и методы управл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иверсификация менеджмента, типология и выбор альтернатив эффективного управл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Экономика и социология управления персоналом и формирование человеческого капитала. Личность менеджер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Лидерство и стиль управления. Власть и партнерство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Групповая динамика и разрешение кон­фликтов. Формальное и неформальное управлени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сурсы, </a:t>
            </a: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качество и эффективность управл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истема информационного обеспечения управл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Инновационный потенциал менеджмента, профессионализация менеджмен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0800  «экономист-менеджер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1" name="Object 3"/>
          <p:cNvGraphicFramePr/>
          <p:nvPr/>
        </p:nvGraphicFramePr>
        <p:xfrm>
          <a:off x="468360" y="1700280"/>
          <a:ext cx="822960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22960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1100 - "Менеджмент организации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я теория управления. Закономерности управления различными системами. Управление социально-экономическими системами (организациям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тодологические основы менеджмен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раструктура менеджмен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офакторы и этика менеджм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грационные процессы в менеджмент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ирование ситуаций и разработка реше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ирода и состав функций менеджмен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1100</a:t>
            </a:r>
            <a:br>
              <a:rPr sz="3900"/>
            </a:b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(продолжение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тратегические и тактические планы в системе менеджмен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рганизационные отношения в системе менеджмен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ы организации системы менеджмен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отивация деятельности в менеджмент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гулирование и контроль в системе менеджмен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инамика групп и лидерство в системе менеджмен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уководство: власть и партнерств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иль менеджмента и имидж (образ) менедже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фликтность в менеджмент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акторы эффективности менедж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110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468360" y="1700280"/>
          <a:ext cx="822960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22960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Направление 521500 </a:t>
            </a:r>
            <a:br>
              <a:rPr sz="3900"/>
            </a:b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бакалавр менеджмента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Общая теория управл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кономерности управления различными системам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правление социально-экономическими системами (организацией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Концепция менедж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Научные школы менедж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Функции менеджмента (планирование, организация, мотивация, контроль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уктуры системы менедж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Связующие процессы в менеджмент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Человек в системе менедж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оли менеджер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правление организационными изменениям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Эффективность и качество управл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330066"/>
                </a:solidFill>
                <a:uFillTx/>
                <a:latin typeface="Arial"/>
              </a:rPr>
              <a:t>Постановка задачи групп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работать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программы пяти курс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Менеджмент»,  «Управление проектами», «Стратегический менеджмент», «Маркетинг» и «Управление персоналом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работать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наполнение этих курс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брав выделенные части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учаем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бщее для всех специальностей ядро,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которое может стать основой базового модуля курса «Менеджмен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ыделенные нами тем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компонованы в программе курса «Менеджмент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разработка к.э.н., доц. Г.Я.Андреевой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ведем эти те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971640" y="4581360"/>
            <a:ext cx="7775640" cy="1800360"/>
          </a:xfrm>
          <a:custGeom>
            <a:avLst/>
            <a:gdLst>
              <a:gd name="textAreaLeft" fmla="*/ 0 w 7775640"/>
              <a:gd name="textAreaRight" fmla="*/ 7776000 w 777564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Темы курс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1. Общая теория управления. Закономерности управления различными системами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ибернетические основы управления. Понятия «объект» и «субъект» управления, «управляющее воздействие», «обратная связь», «управляемая» и «управляющая» подсисте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ы управления. Типы управ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2. Управление социально-экономическими системами (организациями)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рганизация как объект управл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рганизационные  элементы и характеристи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сто и содержание процесса управления в организ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обенности управленческого труд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ъекты и субъекты управления в организ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ровни управл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дачи и роли менеджер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ипы менеджеров. Требования к менеджер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3. Методологические основы менеджмента. Инфраструктура менеджмента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ходы к определению сущности понятия «менеджмент». Соотношение с понятием «управление». Цели и задачи менеджмента. Взаимосвязь менеджмента с другими наук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ы, методы и принципы менеджмента. Характеристика объектов менеджмен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грационные процессы в менеджменте. Инфраструктура менеджмент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4.  Этика менеджмента и социальная ответственность организации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нятие этики менеджмента. Критерии принятия этически сложных решени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кторы, определяющие этический выбо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нятие социальной ответственн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интересованные в деятельности организации групп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ценка результатов социальной деятельн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правление этической и социальной ответственностью организ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Тема 5. Природа и состав функций менеджмента. Цикл управлени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ы функций менеджмента, их взаимодействи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пределение функций по уровням управл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икл управления и его стад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6. Моделирование ситуаций и разработка решений в менеджменте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держание, значение и типология решений в менеджмент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ребования к управленческим решения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Факторы, влияющие на процесс принятия управленческих решен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ходы к принятию решен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ятие проблемной ситуац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Формальные процедуры анализа проблемной ситу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тапы процесса принятия и осуществления управленческого реш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буждение сотрудников к участию в принятии управленческих решен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7.  Планирование как функция менеджмента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держание, цели и задачи внутрифирменного планиров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ды внутрифирменного планирования, их классификация: по целям; предмету; уровню; содержанию; периодам планиров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равнительная характеристика стратегических и тактических планов в системе менеджмен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нципы планиров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с планиров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330066"/>
                </a:solidFill>
                <a:uFillTx/>
                <a:latin typeface="Arial"/>
              </a:rPr>
              <a:t>Требования к результатам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согласо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динаковых (сходных) курсов, читаемых на разных специальностях и разным категориям слуш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«модуляризация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урсов: принципы модуляризации, типы модулей, применение к конкретным курс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ботка требований к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дистанционной подач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материала, представление курсов в форме, пригодной для дистанционного обуч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«болонизация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урсов: выработка принципов согласования подходов и кредитовой оценки курсов (модулей, блоков, мейджеров и т.п.) с перспективой взаимозачетов курсов, прослушанных в разных университет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8. Построение организации.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рганизация как процесс, его содержание и назнач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ятие структуры управл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лементы (звенья, связи, уровни) и характеристики (сложность, формализация, централизация, механизмы координации) организационной структур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Факторы формирования организационных структур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волюция структур управл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иды структур управления организацие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ценка эффективности структур управления организацие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9. Организация взаимодействия и делегирование полномочий в системе управления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елегирование, полномочия, ответственность: содержание и роль в обеспечении взаимодействия в организ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ы полномоч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нтрализация и децентрализация задач управл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акторы успешного делегиров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0. Мотивация деятельности в менеджменте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и роль мотивации в управлен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равнительный анализ теорий мотив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имость содержательных и процессуальных теорий в управлении организацие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а мотивации персонала в организ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Тема 11. Контроль и регулирование в системе менеджмента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чение и содержание функций контроля и регулирова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ы и формы контроля и регулирова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цесс контроля и регулирова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ребования к организации контрол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2. Коммуникации в менеджменте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нятие, сущность и роль коммуникаций в менеджмент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уктура процесса коммуникаций: элементы и этап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ипы результатов (эффект) коммуник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Шум в процессе коммуник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ипы коммуникационных сетей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муникационные рол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муникационные сти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3. Групповая динамика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нятие групп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альные и неформальные групп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енезис и развитие групп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ормативное поведение в групп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рупповая сплоченност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акторы, влияющие на эффективность работы групп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4. Власть и влияни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нятие вла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сификация видов вла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точники власти в организ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дель влияния руководителя на подчиненног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особы управленческого влияния на подчиненн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5. Лидерство в системе менеджмент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нятие лидерства. Составляющие лидерства. Основные подходы к трактовке лидер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идер и менеджер, их характеристики и отлич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иль менеджмента и имидж (образ) менедже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ходы к изучению лидерства. Теория лидерских качеств. Концепции лидерского поведения. Концепции ситуационного лидерств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вое в теориях лидер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6. Конфликтность в менеджменте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нфликт и его природа в организ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уктура конфлик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икл конфлик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емы прерывания конфлик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ные типы поведения в конфликтной ситу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ровни конфликта в организации и их источни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ктические навыки управления конфликтами различных уровн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7. Эффективность в менеджменте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особы оценки эффективности менеджмента организ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 Способы оценки эффективности менеджмента организ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особы оценки эффективности менеджмента организ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330066"/>
                </a:solidFill>
                <a:uFillTx/>
                <a:latin typeface="Arial"/>
              </a:rPr>
              <a:t>Первый этап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Разработка программы двух курсов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енеджмент» и «Стратегический менеджмен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огласование одинаковых (сходных) курсов, читаемых на разных специальностях и разным категориям слушателе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модуляризация» курсов: принципы модуляризации, типы модулей, применение к конкретным курса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673200" y="1935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8. История менеджмента.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ловия и факторы возникновения и развития менеджмента. Истоки возникновения менеджмента. Этапы и школы в истории менеджмен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нообразие моделей менеджмента: американский, японский, европейский и др. Влияние национально-исторических факторов на развитие менеджмен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управления в Росс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временная система взглядов на менеджмен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спективы менеджмента: возможное и вероятно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ы видим, что 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деленное нами ядро курса «Менеджмент», общее для всех специальностей ИЭиУ полностью  покрывается этой программо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ечень приведенных тем в достаточной степени исчерпывает проблематику классического менеджмента в его традиционном изложен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этому, на наш взгляд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менно этот перечень может быть взят в качестве устойчивого ядра курса «Менеджмент» как для всех специальностей ИЭиУ, так и для различных форм обучения – дневная, заочная, экстернат, дистанционное обучение.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нечно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различных специальносте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эти центральные части будут различаться объемом выделяемых на них часов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 рамках специальности «Менеджмент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азным будет соотношение часов на лекции, практические занятия и самостоятельную работ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бщий объем курс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и этом составляет 300 часов для очного обучения, 268 часов для заочного и 250 часов для бакалавреа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700" spc="-1" strike="noStrike">
                <a:solidFill>
                  <a:srgbClr val="330066"/>
                </a:solidFill>
                <a:latin typeface="Arial"/>
              </a:rPr>
              <a:t>Модуляризация</a:t>
            </a:r>
            <a:endParaRPr b="1" lang="en-US" sz="4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варительное обсуждение и ознакомление с материалами наших немецких коллег </a:t>
            </a: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позволяет выделить несколько возможных направлений движения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1-е направле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Arial"/>
              </a:rPr>
              <a:t>Большие – в пределах 250-350 часов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блоки,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концентрирующие содержание одной (чаще – фундаментальной)  или нескольких взаимоувязанных и взаимодополняющих (чаще – специальных) дисципли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Организационно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дход </a:t>
            </a:r>
            <a:r>
              <a:rPr b="1" lang="ru-RU" sz="2100" spc="-1" strike="noStrike">
                <a:solidFill>
                  <a:srgbClr val="008000"/>
                </a:solidFill>
                <a:latin typeface="Arial"/>
              </a:rPr>
              <a:t>удобен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 для приглашенных профессоров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имеющих возможность вычитать свой курс за 1-2 семестра и отбыть к следующему месту работы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Arial"/>
              </a:rPr>
              <a:t>привычен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 для европейской практик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о </a:t>
            </a:r>
            <a:r>
              <a:rPr b="1" lang="ru-RU" sz="2100" spc="-1" strike="noStrike">
                <a:solidFill>
                  <a:srgbClr val="008000"/>
                </a:solidFill>
                <a:latin typeface="Arial"/>
              </a:rPr>
              <a:t>может создавать определенные трудности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 студента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либо вынужденных 2-3 года ждать необходимого им курса, либо ехать за этим курсом в другое учебное заведение.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таком формате естественно глядятся авторские курсы, нетрадиционные подходы, рассмотрение новых, спорных вопрос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2-е направле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ормирование адаптированного для конкретного заказчика содержания </a:t>
            </a:r>
            <a:r>
              <a:rPr b="0" lang="ru-RU" sz="2500" spc="-1" strike="noStrike">
                <a:solidFill>
                  <a:srgbClr val="008000"/>
                </a:solidFill>
                <a:latin typeface="Arial"/>
              </a:rPr>
              <a:t>курса из нескольких (нескольких десятков)  модулей – тем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 какой-то мере этот подход уже реализован в учебном плане специальности 060800 ИЭиУ. Здесь выделена </a:t>
            </a: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базовая част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– «менеджмент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», общая для всех специализаций и </a:t>
            </a: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переменная част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«менеджмент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»,  варьируемая для трех специализаций –  строительства, машиностроения и транспорт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дход обеспечивает </a:t>
            </a:r>
            <a:r>
              <a:rPr b="0" lang="ru-RU" sz="2500" spc="-1" strike="noStrike">
                <a:solidFill>
                  <a:srgbClr val="008000"/>
                </a:solidFill>
                <a:latin typeface="Arial"/>
              </a:rPr>
              <a:t>большую взаимозаменяемость преподавателей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500" spc="-1" strike="noStrike">
                <a:solidFill>
                  <a:srgbClr val="008000"/>
                </a:solidFill>
                <a:latin typeface="Arial"/>
              </a:rPr>
              <a:t>большие удобства для слушателей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 нашем случае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ы видим достаточно тесную увязку следующих друг за другом тем и практическое отсутствие тем факультативны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ким образом, напрашивается представление курса «Менеджмент»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в виде единого макромодуля полным объемом до 300 час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для специальности «Менеджмент»), с возможностью сокращения до 100 часов (для других специальностей и специальных программ) за счет второстепенных вопросов в каждой тем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30066"/>
                </a:solidFill>
                <a:latin typeface="Arial"/>
              </a:rPr>
              <a:t>Представление курса для дистанционного обучени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большой степени зависит от рекомендованной программной оболочки, поэтому вернемся к этому вопросу позже, после выбора такой оболоч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ocuments"/>
          <p:cNvSpPr/>
          <p:nvPr/>
        </p:nvSpPr>
        <p:spPr>
          <a:xfrm>
            <a:off x="1332000" y="1341360"/>
            <a:ext cx="5472000" cy="4103640"/>
          </a:xfrm>
          <a:custGeom>
            <a:avLst/>
            <a:gdLst>
              <a:gd name="textAreaLeft" fmla="*/ 416520 w 5472000"/>
              <a:gd name="textAreaRight" fmla="*/ 4185720 w 5472000"/>
              <a:gd name="textAreaTop" fmla="*/ 792360 h 4103640"/>
              <a:gd name="textAreaBottom" fmla="*/ 3289320 h 410364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00ffff">
              <a:alpha val="59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атегическое управле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компаниях и на предприятиях современной России переживает стадию зарождения и первоначального развит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жет помочь российским менеджерам осознанно подойти к решению вопросов, определяющих ближайшие и отдаленные перспективы; гармонично увязывать перспективы с текущей деятельностью фир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тметим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урс «Менеджмент» -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общепрофессиональная дисциплин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ставлен в учебных планах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сех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пециальностей ИЭи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урс «Стратегический менеджмент»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специальная дисциплина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дельный курс - лишь в учебном плане специальности «Менеджмент»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Курс «Стратегический менеджмент»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урс относится к курсам специализации и его позиция в расстановке курсов специальности «Менеджмент» хорошо видна из рисунка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атегический менеджмент среди курсов специализа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7200" y="1719360"/>
          <a:ext cx="8255160" cy="5211720"/>
        </p:xfrm>
        <a:graphic>
          <a:graphicData uri="http://schemas.openxmlformats.org/drawingml/2006/table">
            <a:tbl>
              <a:tblPr/>
              <a:tblGrid>
                <a:gridCol w="2053440"/>
                <a:gridCol w="356760"/>
                <a:gridCol w="700920"/>
                <a:gridCol w="702360"/>
                <a:gridCol w="355320"/>
                <a:gridCol w="529920"/>
                <a:gridCol w="461520"/>
                <a:gridCol w="588240"/>
                <a:gridCol w="702720"/>
                <a:gridCol w="393120"/>
                <a:gridCol w="664560"/>
                <a:gridCol w="218880"/>
                <a:gridCol w="527400"/>
              </a:tblGrid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семес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Д 10 Менеджмент 306/1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Д 11 Маркетинг 120/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12 Финансовый менеджмент 120/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1 Исследование систем управления 80/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02 Теория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03 Организационное поведение 80/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04 Стратегический менеджмент 130/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07 Управление качеством 80/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Задачей курса является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ать студентам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представление о стратегическом управлени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 системе менеджмента, стратегическом управлении и конкурентоспособности организации, стратегическом планировании и стратегическом менеджмент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учить студентов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основам стратегического анализ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в том числе: анализу внешней среды, анализу внутренней среды организац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знакомить студентов с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основами сценарного планировани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ать представление о 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миссии, целях, приоритетах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коммерческих, некоммерческих и государственных организац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знакомить студентов с разработкой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корпоративной стратеги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стратегий отдельных бизнесов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и их системы, а также 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стратегий функциональных подсистем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организ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ать представление о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реализаци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стратегии и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эффективност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стратегического управл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вязь с другими предметам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учение данной дисциплины целесообразно начинать после прохождения курсов "Менеджмент”, “Финансовый менеджмент”, “Маркетинг”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гласно учебных планов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специальности 061100 "Стратегический  менеджмент" отнесен к категории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специальных экономических дисципли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Изучается в 7 и 8 семестрах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Общий объем курса 130 часов (85 аудиторных). Итоговая форма контроля - экзаме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направления 521500 "Менеджмент",  квалификация - бакалавр менеджмента "Стратегический  менеджмент"  включен в рекомендуемые    УМО   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специальные    дисциплины    направления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оответствии с учебным планом специальности 060800  «экономист-менеджер»",  "Стратегический  менеджмент"  включен в рекомендуемые    УМО   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специальные    дисциплины    направления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оответствии с учебным планом специальности 060500 Бухгалтерский учет, анализ и аудит  "Стратегический  менеджмент" включен в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состав общего курса менеджмен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0066"/>
                </a:solidFill>
                <a:latin typeface="Arial"/>
              </a:rPr>
              <a:t>Темы курс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« Стратегический менеджмент»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ма 1 Введение в «Стратегическое управлени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.1. Стратегическое управление в системе менеджмен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1.1.Исходные представ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1.2.Исходные опреде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1.3.Стратегический аспект в управлении организацие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.2. Стратегическое управление и конкурентоспособность организ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2.1. Конкуренция в бизнес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2.2. Конкурентные преимущест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2.3. Базовые конкурентные стратег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2.4. Цепь создания ценности (Value Chain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2.5. Характеристики эффективной стратег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.3. Стратегическое планирование и стратегический менеджмен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3.1. Первичная концепция стратегического управ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3.2. Переход от стратегического планирования к стратегическому менеджмент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3.3. Изменение ментальности: вместо политики «от прошлого — к будущему» — политика «от будущего — к настоящему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ма 2 Стратегический анализ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.1. Анализ внешней сре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1.1. SWOT-анализ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1.2. PEST-анализ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1.3. Многофакторный системный анализ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.2. Анализ внутренней среды организ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2.1. Значение стратегического анализа внутренней сре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2.2. SNW-подход к анализу внутренних ресурс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2.3. Модель стратегического состояния организации (стратегический куб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.3. Сценарное планирова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3.1. Первичное представле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3.3. Восемь шагов методик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.4. Миссия, цели, приорите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4.1. Определение мисс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4.2. Цели организ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4.3. Стратегические целевые приорите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ма 3 Разработка стратеги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1. Продуктово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ркетинговая стратег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1.1. Базовые конкурентные стратег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2. Разработка стратегий отдельных бизнесов и их систем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2.1. Стратегия организации — система бизнес-стратег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2.2. Бизнес-стратегия: типовые варианты и ситу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2.3. Классификация стратегий по функциональным направлениям деятельн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2.3. Система бизнес-стратегий: типовые модел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2.4. Стратегия системы бизнесов и стратегическая синерг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3. Разработка стратегий функциональных подсисте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3.1. Производственная стратег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3.2. Стратегия управления персонал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3.3. Финансовая стратег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3.4. Многообразие функциональных стратег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4.  Теория ресурсной баз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5. Стержневые компетенц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6. Органичное развитие корпоративной стратег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6.1. Полифония стратегии организац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6.2. Разумная достаточность стратег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6.3. Пирамида разработки стратег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ма 4. . </a:t>
            </a:r>
            <a:br>
              <a:rPr sz="3500"/>
            </a:b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Реализация стратегии</a:t>
            </a: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4.1. От выполнения долгосрочного плана — к реализации стратег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1.1 Существенные отлич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1.2. Основные этапы цикла реализа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4.2. Стратегические измен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2.1. Система стратегических измен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2.2. Лидирующие стратегические измен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2.3. Органичность стратегических изменен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4.3. Управление процессом реализации стратегических измен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3.1. Концептуальные подход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3.2. Реализация стратегии и получение информ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3.3. Программа конкретных действ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ocuments"/>
          <p:cNvSpPr/>
          <p:nvPr/>
        </p:nvSpPr>
        <p:spPr>
          <a:xfrm>
            <a:off x="1332000" y="1341360"/>
            <a:ext cx="5472000" cy="4103640"/>
          </a:xfrm>
          <a:custGeom>
            <a:avLst/>
            <a:gdLst>
              <a:gd name="textAreaLeft" fmla="*/ 416520 w 5472000"/>
              <a:gd name="textAreaRight" fmla="*/ 4185720 w 5472000"/>
              <a:gd name="textAreaTop" fmla="*/ 792360 h 4103640"/>
              <a:gd name="textAreaBottom" fmla="*/ 3289320 h 410364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00ffff">
              <a:alpha val="59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ма 5. Эффективность стратегического управления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1. Эффективность стратегического менеджмен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1.1 Сущность стратегической эффективн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1.2. Стратегическая рефлекс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2. Стратегический контролинг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2.1. Функции стратегического контролинг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2.2. Стратегический и тактический контролин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3. От стратегии к программе развития организац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3.1. Схемы переход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3.2. Стратегические указ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4. Конкуренция за будущее как новая парадигма стратег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4.1. Конкуренция за будущее: стратегический факто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4.2. Новая парадигма стратег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5. Как поставить стратегический менеджмен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5.2. Задачи и функции подразделения стратегического развит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330066"/>
                </a:solidFill>
                <a:latin typeface="Arial"/>
              </a:rPr>
              <a:t>Несколько важных отличий этой дисциплины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инадлежность к блоку специализ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ледовательно гораздо большая гибкость, как по содержанию, так и по объему в зависимости от конкретной специализ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аздо больши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зброс подход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дисциплине, как в ее понимании, так и в оценке ее необходим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еньший объ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обходимость увяз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другими специальными дисциплинами (в нашем случае Финансовый менеджмент, Исследование систем управления, Теория организации, Организационное поведение, Стратегический менеджмент, Управление качеством, Разработка управленческого решения, Информационные технологии управления, Инновационный менеджмент, Управление персоналом 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 – последний вопрос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Вопросы модуляризаци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здесь будут решаться по-другому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яд подтем (теория ресурсной базы, сценарное планирование и др.) могут быть как включены, так и выключены из рассмотрения, что позволяет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варьировать объемом курса в более широких пределах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м курс может быть включен как составная часть вместе с другими курсами в некоторый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бщий модуль специализации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Курс «Менеджмент»</a:t>
            </a: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ие с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зучается специальностям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060500 Бухгалтерский учет, анализ и аудит – </a:t>
            </a: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включает описания специальных дисципл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060800  «экономист-менеджер» - </a:t>
            </a: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отличается методическим подход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061100 - "Менеджмент организации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правление 521500 “Менеджмент» (Бакалавреат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андарт специальности 06050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учение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основного ядр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редме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знакомление со </a:t>
            </a:r>
            <a:r>
              <a:rPr b="0" lang="ru-RU" sz="3000" spc="-1" strike="noStrike">
                <a:solidFill>
                  <a:srgbClr val="008000"/>
                </a:solidFill>
                <a:latin typeface="Arial"/>
              </a:rPr>
              <a:t>специальными темам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: антикризисный, стратегический, ситуационный, финансовый менеджмент,  менеджмент персонала,  управление рисками, антикризисное управление, управление внешнеэкономическими связя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4T13:04:38Z</dcterms:created>
  <dc:creator>sw</dc:creator>
  <dc:description/>
  <dc:language>en-US</dc:language>
  <cp:lastModifiedBy>LEGION</cp:lastModifiedBy>
  <dcterms:modified xsi:type="dcterms:W3CDTF">2016-01-11T10:02:11Z</dcterms:modified>
  <cp:revision>18</cp:revision>
  <dc:subject/>
  <dc:title>«Менеджмент организации»</dc:title>
</cp:coreProperties>
</file>