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9.jpeg" ContentType="image/jpeg"/>
  <Override PartName="/ppt/media/image8.jpeg" ContentType="image/jpeg"/>
  <Override PartName="/ppt/media/image11.png" ContentType="image/pn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3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7F59C-F297-4385-9832-DD7EBE21F7D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каров Сергей Викторови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.м.н., доцент кафедры общественного здоровья и здравоохранения Иркутского государственного медицинского университе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неджмент в сестринском деле: теория и практ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акаров Сергей Викторович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.м.н., доцент кафедры общественного здоровья и здравоохранения Иркутского государственного медицинского университет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енеджмент в сестринском деле: теория и практик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Правильная организация труда на заводе с устаревшим оборудованием обеспечит лучшие результаты, чем работа современного предприятия с плохой организацией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редерик Тейл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«Правильная организация труда на заводе с устаревшим оборудованием обеспечит лучшие результаты, чем работа современного предприятия с плохой организацией»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Фредерик Тейлор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ая задача – создание универсальных принципов управлен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дминистративная или классическая шко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сновная задача – создание универсальных принципов управления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дминистративная или классическая школ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Точно поставленные цели и идеал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Здравый смыс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Компетентная консуль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Дисциплина в коллектив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 Справедливое отношение к персонал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. Быстрый, надежный, полный, точный и постоянный уч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спетчирование, обеспечивающее четкое оперативное управл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ы управления Гаррингтона Эмерсо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. Точно поставленные цели и идеалы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. Здравый смысл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. Компетентная консультаци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4. Дисциплина в коллективе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5. Справедливое отношение к персоналу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6. Быстрый, надежный, полный, точный и постоянный учет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7.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испетчирование, обеспечивающее четкое оперативное управление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инципы управления Гаррингтона Эмерсон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. Нормы и расписания, позволяющие измерять все недостатки в организации и уменьшать вызванные ими потер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9. Нормализация условий, обеспечивающая такое сочетание времени, условий и себестоимости, при котором достигаются наилучшие результа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0.Нормирование операций, предлагающее установление времени и последовательности, при которых достигаются наилучшие результа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1. Письменные стандартные инструк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2. Вознаграждение за производитель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8. Нормы и расписания, позволяющие измерять все недостатки в организации и уменьшать вызванные ими потер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9. Нормализация условий, обеспечивающая такое сочетание времени, условий и себестоимости, при котором достигаются наилучшие результаты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0.Нормирование операций, предлагающее установление времени и последовательности, при которых достигаются наилучшие результаты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1. Письменные стандартные инструкци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2. Вознаграждение за производительность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Управлять – значит прогнозировать и планировать, организовывать, руководить командой, координировать и контролировать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ри Файо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«Управлять – значит прогнозировать и планировать, организовывать, руководить командой, координировать и контролировать»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нри Файоль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деление труда. Специализация является естественным порядком вещей. Целью разделения труда является выполнение работы, большей по объему и лучшей по качеству, при тех же усилиях. Это достигается за счет сокращения числа целей, на которые должны быть направлены внимание и усил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номочия и ответственность. Полномочия есть право отдавать приказ, а ответственность есть ее составляющая противоположность. Где даются полномочия – там возникает ответствен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сциплина. Дисциплина предполагает послушание в уважение к достигнутым соглашениям между фирмой и ее работниками. Установление этих соглашений, связывающих фирму и работников, из которых возникают дисциплинарные формальности, должно оставаться одной из главных задач руководителей индустрии. Дисциплина также предполагает справедливо применяемые санк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диноначалие. Работник должен получать приказы только от одного непосредственного начальн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динство направления. Каждая группа, действующая в рамках одной цели, должна быть объединена единым планом и иметь одного руководител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ы управления Анри Файол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азделение труда. Специализация является естественным порядком вещей. Целью разделения труда является выполнение работы, большей по объему и лучшей по качеству, при тех же усилиях. Это достигается за счет сокращения числа целей, на которые должны быть направлены внимание и усили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лномочия и ответственность. Полномочия есть право отдавать приказ, а ответственность есть ее составляющая противоположность. Где даются полномочия – там возникает ответственность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исциплина. Дисциплина предполагает послушание в уважение к достигнутым соглашениям между фирмой и ее работниками. Установление этих соглашений, связывающих фирму и работников, из которых возникают дисциплинарные формальности, должно оставаться одной из главных задач руководителей индустрии. Дисциплина также предполагает справедливо применяемые санкци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4.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Единоначалие. Работник должен получать приказы только от одного непосредственного начальник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5.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Единство направления. Каждая группа, действующая в рамках одной цели, должна быть объединена единым планом и иметь одного руководител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инципы управления Анри Файол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чиненность личных интересов общим. Интересы одного работника или группы работников не должны превалировать над интересами компании или организации большего масштаб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знаграждение персонала. Для того, чтобы обеспечить верность и поддержку работников, они должны получать справедливую зарплату за свою служб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трализация. Как и разделение труда, централизация является естественным порядком вещей. Однако, соответствующая степень централизации будет варьироваться в зависимости от конкретных условий. Поэтому возникает вопрос о правильной пропорции между централизацией и децентрализацией. Это проблема определения меры, которая обеспечит лучшие возможные результа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9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калярная цепь. Скалярная цепь – это ряд лиц, стоящих на руководящих должностях, начиная от лица, занимающего самое высокое положение в этой цепочке, – вниз, до руководителя низового звена. Было бы ошибкой отказываться от иерархической системы без определенной необходимости в этом, но было бы еще большей ошибкой поддерживать эту иерархию, когда она наносит ущерб интересам бизне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6.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дчиненность личных интересов общим. Интересы одного работника или группы работников не должны превалировать над интересами компании или организации большего масштаб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7.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ознаграждение персонала. Для того, чтобы обеспечить верность и поддержку работников, они должны получать справедливую зарплату за свою службу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8.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Централизация. Как и разделение труда, централизация является естественным порядком вещей. Однако, соответствующая степень централизации будет варьироваться в зависимости от конкретных условий. Поэтому возникает вопрос о правильной пропорции между централизацией и децентрализацией. Это проблема определения меры, которая обеспечит лучшие возможные результаты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9.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калярная цепь. Скалярная цепь – это ряд лиц, стоящих на руководящих должностях, начиная от лица, занимающего самое высокое положение в этой цепочке, – вниз, до руководителя низового звена. Было бы ошибкой отказываться от иерархической системы без определенной необходимости в этом, но было бы еще большей ошибкой поддерживать эту иерархию, когда она наносит ущерб интересам бизнес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0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рядок. Место – для всего и все на своем мест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1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раведливость. Справедливость – это сочетание доброты и правосуд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2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абильность рабочего места для персонала. Высокая текучесть кадров снижает эффективность организации. Посредственный руководитель, который держится за место, безусловно предпочтительней чем выдающийся, талантливый менеджер, который быстро уходит и не держится за свое мест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3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ициатива. Инициатива означает разработку плана и обеспечение его успешной реализации. Это придает организации силу и энерги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4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рпоративный дух. Союз – это сила. А она является результатом гармонии персона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0.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рядок. Место – для всего и все на своем месте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1.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праведливость. Справедливость – это сочетание доброты и правосуди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2.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табильность рабочего места для персонала. Высокая текучесть кадров снижает эффективность организации. Посредственный руководитель, который держится за место, безусловно предпочтительней чем выдающийся, талантливый менеджер, который быстро уходит и не держится за свое место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3.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нициатива. Инициатива означает разработку плана и обеспечение его успешной реализации. Это придает организации силу и энергию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4.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орпоративный дух. Союз – это сила. А она является результатом гармонии персонал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а школа рассматривает каждую организацию как социальную систему. Эффективно управлять можно только при умелом воздействии на систему социально-психологических фактор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ория Х, Y (по Дуглас Мак-Грегору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углас Мак-Грегор считал, что каждый руководитель в отношениях с подчиненными опирается на теоретические предпосылки, порождающие убежденность в том, что его поведение вызывает со стороны подчиненных определенную реакцию, которую можно предвиде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кола человеческих отнош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Эта школа рассматривает каждую организацию как социальную систему. Эффективно управлять можно только при умелом воздействии на систему социально-психологических факторов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Теория Х, Y (по Дуглас Мак-Грегору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углас Мак-Грегор считал, что каждый руководитель в отношениях с подчиненными опирается на теоретические предпосылки, порождающие убежденность в том, что его поведение вызывает со стороны подчиненных определенную реакцию, которую можно предвидеть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Школа человеческих отношений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гласно теории Х рядовой индивид имеет врожденную неприязнь к труду. Из этой теории вытекает признание необходимости очень жесткой формализации организационной структуры, централизации принятия решен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огласно теории Х рядовой индивид имеет врожденную неприязнь к труду. Из этой теории вытекает признание необходимости очень жесткой формализации организационной структуры, централизации принятия решений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сматриваемые вопрос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нятие «менеджмент» и эволюция подходов к его реализ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колы менеджмен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обенности менеджмента в медицинских организациях и в сестринском дел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ровни, методы и стили управ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ческий цик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ассматриваемые вопросы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нятие «менеджмент» и эволюция подходов к его реализаци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Школы менеджмент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собенности менеджмента в медицинских организациях и в сестринском деле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ровни, методы и стили управлени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правленческий цикл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Людишек надо почаще перебирать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ван Грозны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«Людишек надо почаще перебирать»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ван Грозный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гласно теории Y труд является естественной потребностью человека. Поэтому теория У предполагает меньшую степень формализации, децентрализацию управления, значительную самостоятельность исполнителей, поощрение инициатив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теории У основной упор делается  на поощр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огласно теории Y труд является естественной потребностью человека. Поэтому теория У предполагает меньшую степень формализации, децентрализацию управления, значительную самостоятельность исполнителей, поощрение инициативы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теории У основной упор делается  на поощрения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Умение общаться с людьми – такой же покупаемый за деньги товар, как сахар или кофе. И я готов платить за это умение больше, чем за какой-либо другой товар в этом мире»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жон Рокфелле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«Умение общаться с людьми – такой же покупаемый за деньги товар, как сахар или кофе. И я готов платить за это умение больше, чем за какой-либо другой товар в этом мире»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жон Рокфеллер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а – моделирование, а также использование системного и ситуационного  подхода в управлен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 определении целей организации, построении ее структуры и анализа деятельности менеджер должен владеть методами системного анализа, которые условно можно разделить на две большие групп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по содержанию: вербальные, графические, экспертные, математическ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по цели: декомпозиции, композиции, упрощения систем, оценки структурной адекватности, оценки взаимодействия элементов, оценки устойчивости системы во времени и пространств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тематическая школа управ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снова – моделирование, а также использование системного и ситуационного  подхода в управлении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и определении целей организации, построении ее структуры и анализа деятельности менеджер должен владеть методами системного анализа, которые условно можно разделить на две большие группы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. по содержанию: вербальные, графические, экспертные, математические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. по цели: декомпозиции, композиции, упрощения систем, оценки структурной адекватности, оценки взаимодействия элементов, оценки устойчивости системы во времени и пространстве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атематическая школа управлени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Кто много читает – умнее не становится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о Цзэду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«Кто много читает – умнее не становится»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ао Цзэдун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1933 г. французский математик и консультант по управлению В. Грейкюнас предложил в качестве критерия, определяющего норму управляемости, считать количество взаимосвязей в организации. Увеличение численности персонала неизбежно сопровождается многократным ростом числа и сложности контактов, возникающих в процессе управленческой деятель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основе расчетов было доказано, что количество непосредственно подчиненных у одного руководителя не должно превышать шести челове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1933 г. французский математик и консультант по управлению В. Грейкюнас предложил в качестве критерия, определяющего норму управляемости, считать количество взаимосвязей в организации. Увеличение численности персонала неизбежно сопровождается многократным ростом числа и сложности контактов, возникающих в процессе управленческой деятельности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а основе расчетов было доказано, что количество непосредственно подчиненных у одного руководителя не должно превышать шести человек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Лучше иметь десять человек под рукой, чем десять тысяч – в отдалении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ингизха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«Лучше иметь десять человек под рукой, чем десять тысяч – в отдалении»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Чингизхан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воды В. Грейкюнаса являются основанием для уменьшения числа коммуникаций за счет предоставления подчиненным большей самостоятель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бы менеджер высшего уровня не был перегружен решением оперативных и тактических задач и имел возможность заниматься стратегическими вопросами организации, среднее значение нормы управляемости должно быть 6 ± 2 человек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ыводы В. Грейкюнаса являются основанием для уменьшения числа коммуникаций за счет предоставления подчиненным большей самостоятельности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Чтобы менеджер высшего уровня не был перегружен решением оперативных и тактических задач и имел возможность заниматься стратегическими вопросами организации, среднее значение нормы управляемости должно быть 6 ± 2 человека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«Кадры решают всё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Стали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«Кадры решают всё»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талин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здравоохранением в связи со специфичностью объекта делает управление им чрезвычайно сложны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 основным особенностям управления здравоохранением относят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обую ответственность принимаемых решений, от которых зависит жизнь и здоровье люд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удность, а иногда и невозможность предсказания отдаленных последствий принимаемых решен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удность, а иногда и невозможность исправления неверных решен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ользование компьютерных технологий способно существенно повысить эффективность управления и функционирование систем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правление здравоохранением в связи со специфичностью объекта делает управление им чрезвычайно сложным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 основным особенностям управления здравоохранением относят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собую ответственность принимаемых решений, от которых зависит жизнь и здоровье людей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Трудность, а иногда и невозможность предсказания отдаленных последствий принимаемых решений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Трудность, а иногда и невозможность исправления неверных решений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спользование компьютерных технологий способно существенно повысить эффективность управления и функционирование системы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неджмент (от анг. management – управление, руководство, правление) – это совокупность принципов, методов, средств и форм управления предприятием (учреждением, организацией), ориентированная на повышение эффективности их деятельности и способствующая удовлетворению общественных потребносте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енеджмент (от анг. management – управление, руководство, правление) – это совокупность принципов, методов, средств и форм управления предприятием (учреждением, организацией), ориентированная на повышение эффективности их деятельности и способствующая удовлетворению общественных потребностей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атегический уровень – характеризуется функцией прогноза и планирова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ктический уровень – предполагает разработку программы действия для достижения поставленной цели, оптимальное распределение ресурс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еративный уровень – позволяет обеспечить эффективное достижение поставленных целей и включает регулирование, учет, контроль, анализ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ровни управ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тратегический уровень – характеризуется функцией прогноза и планирования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Тактический уровень – предполагает разработку программы действия для достижения поставленной цели, оптимальное распределение ресурсов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перативный уровень – позволяет обеспечить эффективное достижение поставленных целей и включает регулирование, учет, контроль, анализ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ровни управлени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Командно-административные – авторитарное управление на основе распоряжений, приказов, уставов и т.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Экономико-математические – используют для стимулирования деятельности персонала путем воздействия на заработную плат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Социально-психологические – ориентированы на изменение мотивации деятельности сотрудников и позволяют повысить у них степень удовлетворенности выполняемыми функция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ы управ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. Командно-административные – авторитарное управление на основе распоряжений, приказов, уставов и т.д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. Экономико-математические – используют для стимулирования деятельности персонала путем воздействия на заработную плату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. Социально-психологические – ориентированы на изменение мотивации деятельности сотрудников и позволяют повысить у них степень удовлетворенности выполняемыми функциями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етоды управлени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мандно-административные методы управления  представляют собой совокупность способов по осуществлению властного (принудительно-распорядительного) воздейств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ни основаны на праве управляющей подсистемы (органа управления или руководителя) принимать управленческие решения  виде приказов, распоряжений, инструкций и обязательном их выполнении управляемой подсистемо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омандно-административные методы управления  представляют собой совокупность способов по осуществлению властного (принудительно-распорядительного) воздействия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ни основаны на праве управляющей подсистемы (органа управления или руководителя) принимать управленческие решения  виде приказов, распоряжений, инструкций и обязательном их выполнении управляемой подсистемой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особы административного воздействи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абилизирующие или регламентирующие методы  устанавливают  определенные  правила, точные предписания к действию, рамки деятельности (положения, нормы нагрузки, нормативы, штатное расписание ЛПУ и др.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порядительные методы направлены на решение конкретных задач в ситуациях, которые не предусмотрены установленными и действующими положениями и правил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ществуют две формы распорядительного метода: устная и документальна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сциплинарные методы воздействия включают не только строгое  выполнение плановой, производственной и финансовой дисциплины, но и  установление ответственности: личной и коллективной, моральной и материальной, служебной и гражданско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пособы административного воздействия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табилизирующие или регламентирующие методы  устанавливают  определенные  правила, точные предписания к действию, рамки деятельности (положения, нормы нагрузки, нормативы, штатное расписание ЛПУ и др.)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аспорядительные методы направлены на решение конкретных задач в ситуациях, которые не предусмотрены установленными и действующими положениями и правилами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уществуют две формы распорядительного метода: устная и документальная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исциплинарные методы воздействия включают не только строгое  выполнение плановой, производственной и финансовой дисциплины, но и  установление ответственности: личной и коллективной, моральной и материальной, служебной и гражданской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номико-математические методы – это совокупность способов по осуществлению воздействия с помощью экономических категор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Экономико-математические методы – это совокупность способов по осуществлению воздействия с помощью экономических категорий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циально- психологические методы включают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ямые мето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) внушение (целенаправленное воздействие путем влияния на психику человек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) убеждение (аргументирование с помощью логических средств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) подражание (воздействие на основе личного пример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) вовлечение (воздействие путем использования гражданских чувств, социально- психологических мотивов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) принуждение (повышение морально- общественной значимости предстоящей работы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свенные методы  различаются формами опосредованного  воздействи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) условиями тру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) элементами системы управления: положениями, должностными инструкциями, организационной структурой, формами контроля и стимулирова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) путем создания соответствующего социально- психологического климата в коллектив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оциально- психологические методы включают: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ямые методы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) внушение (целенаправленное воздействие путем влияния на психику человека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б) убеждение (аргументирование с помощью логических средств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) подражание (воздействие на основе личного примера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) вовлечение (воздействие путем использования гражданских чувств, социально- психологических мотивов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) принуждение (повышение морально- общественной значимости предстоящей работы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освенные методы  различаются формами опосредованного  воздействия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) условиями труд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б) элементами системы управления: положениями, должностными инструкциями, организационной структурой, формами контроля и стимулирования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) путем создания соответствующего социально- психологического климата в коллективе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иль управления – это система сложившихся отношений между руководителем и коллективом по поводу  принятия и реализации решен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Авторитарный (автократический) – характеризуется минимальной контактностью руководителя с коллективом, жесткостью в выработке и реализации решен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Либеральный – полная противоположность авторитарного  стиля. Руководитель каждое решение согласовывает с коллективом, идет на бесконечные уступки  формальным и неформальным лидерам и группам. По существу коллектив управляет руководителе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Демократический тип управления или система группового участия в управлении – основан на активном привлечении подчиненных как к  определению целей организации и подразделений, так и к контролю за их достижения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тиль управления – это система сложившихся отношений между руководителем и коллективом по поводу  принятия и реализации решений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. Авторитарный (автократический) – характеризуется минимальной контактностью руководителя с коллективом, жесткостью в выработке и реализации решений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. Либеральный – полная противоположность авторитарного  стиля. Руководитель каждое решение согласовывает с коллективом, идет на бесконечные уступки  формальным и неформальным лидерам и группам. По существу коллектив управляет руководителем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. Демократический тип управления или система группового участия в управлении – основан на активном привлечении подчиненных как к  определению целей организации и подразделений, так и к контролю за их достижениями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Управленческий цик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правленческий цикл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икл эффективного управ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ухарта – Деминг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ыл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ал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Цикл эффективного управлени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Шухарта – Деминг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Было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тало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олтер Шухарт (1891 – 1967) – всемирно известный американский ученый и консультант по теории управ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1924 году предложил метод выявления отступлений от нормы и тенденций возникновения ошибок до появления некачественного продукта (применение контрольных карт), который произвели революцию в методах управ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 многом благодаря наработкам Шухарта была реализована статистическая концепция Шесть сигм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местно с Э. Демингом предложил модель эффективного управления («цикл Шухарта-Деминга»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олтер Шухарт (1891 – 1967) – всемирно известный американский ученый и консультант по теории управления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1924 году предложил метод выявления отступлений от нормы и тенденций возникновения ошибок до появления некачественного продукта (применение контрольных карт), который произвели революцию в методах управления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о многом благодаря наработкам Шухарта была реализована статистическая концепция Шесть сигма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овместно с Э. Демингом предложил модель эффективного управления («цикл Шухарта-Деминга»)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неджмент – это умение заставить других людей выполнять ту работу, которую в случае неуспеха придется выполнять тебе самом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енеджмент – это умение заставить других людей выполнять ту работу, которую в случае неуспеха придется выполнять тебе самому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двард Деминг (1900 – 1993) – американский учёный, статистик и консультант по теории управления качеством. Наибольшую известность Деминг приобрел за свои инновационные предложения о реорганизации предприятий, широко используемые в Японии и других странах под названием «бережливое производство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 высокое качество продуктов японской промышленности в значительной степени ответственен именно он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д окончанием второй мировой войны статистический контроль качества применялся в Японии очень мало. В конце 40-х годов Деминг обучал японцев статистическим методам. Деминг был первым из тех, кого теперь называют «американскими гуру качества», посетивших Япони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 Демингом последовали Д. Джуран и А. Фейгенбау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менно они подтолкнули Японию к внедрению современных методов исследования потребительского рын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Эдвард Деминг (1900 – 1993) – американский учёный, статистик и консультант по теории управления качеством. Наибольшую известность Деминг приобрел за свои инновационные предложения о реорганизации предприятий, широко используемые в Японии и других странах под названием «бережливое производство»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За высокое качество продуктов японской промышленности в значительной степени ответственен именно он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еред окончанием второй мировой войны статистический контроль качества применялся в Японии очень мало. В конце 40-х годов Деминг обучал японцев статистическим методам. Деминг был первым из тех, кого теперь называют «американскими гуру качества», посетивших Японию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За Демингом последовали Д. Джуран и А. Фейгенбаум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менно они подтолкнули Японию к внедрению современных методов исследования потребительского рынка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града выдается в виде диплома и серебряной медали с профилем Э. Деминг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знак признания заслуг Э. Деминга в 1951 г. в Японии была учреждена награда его имени, присуждаемая с тех пор ежегодно компаниям за выдающиеся успехи в деле повышения качества и отдельным лицам за существенный вклад в теорию и практику управления качеством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аграда выдается в виде диплома и серебряной медали с профилем Э. Деминга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знак признания заслуг Э. Деминга в 1951 г. в Японии была учреждена награда его имени, присуждаемая с тех пор ежегодно компаниям за выдающиеся успехи в деле повышения качества и отдельным лицам за существенный вклад в теорию и практику управления качеством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Модель управления качеств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одель управления качеством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ланирование включает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Первая часть управленческого цик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сбор, хранение, обработку, анализ информаци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Вторая часть управленческого цикла (разработка альтернативных решений, выбор и принятие оптимального решения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ы планирования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алитическ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рмативны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юджетны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 соотношений и пропор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сперимента и моделиро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 системного и ситуационного подх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номический анализ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ланирование включает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. Первая часть управленческого цикл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(сбор, хранение, обработку, анализ информации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. Вторая часть управленческого цикла (разработка альтернативных решений, выбор и принятие оптимального решения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етоды планирования: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налитический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ормативный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Бюджетный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етод соотношений и пропорций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Эксперимента и моделировани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етод системного и ситуационного подход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Экономический анализ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выполнения направлена на создание условий для реализации принятых управленческих решений, выполнения планов и программ, обеспечение для этого финансовых, материально-технических, информационных и других ресурсо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верка (контроль) – позволяет осуществлять обратную связь,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йствие (руководство) – это мотивация сотрудников для реализации управленческих решений, оно завершает цикл управ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рганизация выполнения направлена на создание условий для реализации принятых управленческих решений, выполнения планов и программ, обеспечение для этого финансовых, материально-технических, информационных и других ресурсов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оверка (контроль) – позволяет осуществлять обратную связь,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ействие (руководство) – это мотивация сотрудников для реализации управленческих решений, оно завершает цикл управления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ким образом, в понятие менеджмент включается искусство управления интеллектуальными, финансовыми, сырьевыми и материальными ресурсами в целях обеспечения наиболее эффективной производственной деятель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современного управления характерны децентрализация и сосредоточение большей ответственности на низких уровнях управления, и, прежде всего, на рабочих места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Таким образом, в понятие менеджмент включается искусство управления интеллектуальными, финансовыми, сырьевыми и материальными ресурсами в целях обеспечения наиболее эффективной производственной деятельности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ля современного управления характерны децентрализация и сосредоточение большей ответственности на низких уровнях управления, и, прежде всего, на рабочих местах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Благодарю за внимани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Благодарю за внимание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йтинг представителей различных профессий (по 100-балльной шкале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ейтинг представителей различных профессий (по 100-балльной шкале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Каждая кухарка может управлять государством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ени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«Каждая кухарка может управлять государством»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Ленин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пешное управление организацией требует наличия у менеджера следующих навыков и способностей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Способность управлять соб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Разумные личные цен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Четкие личные це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Упор на постоянный личный рос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 Навык решать пробле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. Изобретательность и способность к инновация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. Высокая способность влиять на окружающи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. Способность руководи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0. Умение обучать и развивать подчиненны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1. Способность формировать и развивать эффективные рабочие групп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2. Знание эффективных управленческих подход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спешное управление организацией требует наличия у менеджера следующих навыков и способностей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. Способность управлять собой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. Разумные личные ценност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. Четкие личные цел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4. Упор на постоянный личный рост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5. Навык решать проблемы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6. Изобретательность и способность к инновациям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7. Высокая способность влиять на окружающих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8. Способность руководить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0. Умение обучать и развивать подчиненных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1. Способность формировать и развивать эффективные рабочие группы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2. Знание эффективных управленческих подходов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Школа научного управления (1885-1930 гг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Административная или классическая школа (1920-1950 гг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Школа человеческих отношений (1930-1950 гг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Математическая школа управления (с 50-х годов XX век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колы менеджмен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. Школа научного управления (1885-1930 гг.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. Административная или классическая школа (1920-1950 гг.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. Школа человеческих отношений (1930-1950 гг.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4. Математическая школа управления (с 50-х годов XX века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Школы менеджмент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принцип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) разработка формальной структуры организ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) рациональная организация тру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) сотрудничество управляющего и рабочег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) разграничение исполнительных и управленческих функ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кола научного управ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сновные принципы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) разработка формальной структуры организаци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) рациональная организация труд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) сотрудничество управляющего и рабочего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4) разграничение исполнительных и управленческих функций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Школа научного управлени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26767-ABCB-4EAF-A76B-3F9EA6C0B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9F43D-8727-4011-B5E2-ADA36FBB2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86A78-E09F-4288-B409-F4661BD54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15F86-9C78-4218-B547-D9C259DB5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6B20C-8EDB-4547-AF1D-4622395C1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DBB98-A8DC-46FA-9F9C-30D207A3F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2CC92-E794-43A2-836C-5D5B6FD88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35D33-A031-4C46-864F-0F9AF8670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A82C8-4FCC-4F2E-9AD2-CFB51F0CF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158B6-7E87-4D21-8406-66C9D3B41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67FE2-D978-49E2-9FFA-0ECEB208A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830F9-EEDC-4D2F-A50F-1F3CC44E1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26A16-F381-41C4-89A5-FB1207964147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152280" y="4648320"/>
            <a:ext cx="881712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Макаров Сергей Викторович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6ff33"/>
                </a:solidFill>
                <a:latin typeface="Arial"/>
              </a:rPr>
              <a:t>к.м.н., доцент кафедры общественного здоровья и здравоохранения Иркутского государственного медицинского университет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324000" y="1413000"/>
            <a:ext cx="86598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ffff"/>
                </a:solidFill>
                <a:latin typeface="Tahoma"/>
              </a:rPr>
              <a:t>Менеджмент в сестринском деле: теория и практик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Line 13"/>
          <p:cNvSpPr/>
          <p:nvPr/>
        </p:nvSpPr>
        <p:spPr>
          <a:xfrm>
            <a:off x="228600" y="990720"/>
            <a:ext cx="86868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228600" y="4114800"/>
            <a:ext cx="86868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2"/>
          <p:cNvSpPr/>
          <p:nvPr/>
        </p:nvSpPr>
        <p:spPr>
          <a:xfrm>
            <a:off x="0" y="4721760"/>
            <a:ext cx="9144000" cy="200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3160" indent="457200">
              <a:spcBef>
                <a:spcPts val="12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300" spc="-1" strike="noStrike">
                <a:solidFill>
                  <a:srgbClr val="ffff00"/>
                </a:solidFill>
                <a:latin typeface="Tahoma"/>
              </a:rPr>
              <a:t>«Правильная организация труда на заводе с устаревшим оборудованием обеспечит лучшие результаты, чем работа современного предприятия с плохой организацией»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173160" indent="457200">
              <a:spcBef>
                <a:spcPts val="12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300" spc="-1" strike="noStrike">
                <a:solidFill>
                  <a:srgbClr val="ffff00"/>
                </a:solidFill>
                <a:latin typeface="Tahoma"/>
              </a:rPr>
              <a:t>                                                           </a:t>
            </a:r>
            <a:r>
              <a:rPr b="1" i="1" lang="ru-RU" sz="2300" spc="-1" strike="noStrike">
                <a:solidFill>
                  <a:srgbClr val="ffff00"/>
                </a:solidFill>
                <a:latin typeface="Tahoma"/>
              </a:rPr>
              <a:t>Фредерик Тейлор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5" name="Picture 6" descr="т"/>
          <p:cNvPicPr/>
          <p:nvPr/>
        </p:nvPicPr>
        <p:blipFill>
          <a:blip r:embed="rId2"/>
          <a:stretch/>
        </p:blipFill>
        <p:spPr>
          <a:xfrm>
            <a:off x="2987640" y="404640"/>
            <a:ext cx="3046320" cy="4248360"/>
          </a:xfrm>
          <a:prstGeom prst="rect">
            <a:avLst/>
          </a:prstGeom>
          <a:ln w="0">
            <a:noFill/>
          </a:ln>
        </p:spPr>
      </p:pic>
      <p:sp>
        <p:nvSpPr>
          <p:cNvPr id="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394920" y="2923920"/>
            <a:ext cx="849780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6000"/>
          </a:bodyPr>
          <a:p>
            <a:pPr>
              <a:lnSpc>
                <a:spcPct val="14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Основная задача – создание универсальных принципов управления.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4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Rectangle 4"/>
          <p:cNvSpPr/>
          <p:nvPr/>
        </p:nvSpPr>
        <p:spPr>
          <a:xfrm>
            <a:off x="0" y="133992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3160" indent="6120"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ffff"/>
                </a:solidFill>
                <a:latin typeface="Arial"/>
              </a:rPr>
              <a:t>Административная или классическая школ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178920" y="907560"/>
            <a:ext cx="914580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1720" indent="-395280">
              <a:lnSpc>
                <a:spcPct val="115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1. Точно поставленные </a:t>
            </a:r>
            <a:r>
              <a:rPr b="1" lang="ru-RU" sz="2600" spc="-1" strike="noStrike">
                <a:solidFill>
                  <a:srgbClr val="ffff99"/>
                </a:solidFill>
                <a:latin typeface="Arial"/>
              </a:rPr>
              <a:t>цели и идеалы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531720" indent="-395280">
              <a:lnSpc>
                <a:spcPct val="115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1" lang="ru-RU" sz="2600" spc="-1" strike="noStrike">
                <a:solidFill>
                  <a:srgbClr val="ffff99"/>
                </a:solidFill>
                <a:latin typeface="Arial"/>
              </a:rPr>
              <a:t>Здравый смысл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531720" indent="-395280">
              <a:lnSpc>
                <a:spcPct val="115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3. Компетентная </a:t>
            </a:r>
            <a:r>
              <a:rPr b="1" lang="ru-RU" sz="2600" spc="-1" strike="noStrike">
                <a:solidFill>
                  <a:srgbClr val="ffff99"/>
                </a:solidFill>
                <a:latin typeface="Arial"/>
              </a:rPr>
              <a:t>консультация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531720" indent="-395280">
              <a:lnSpc>
                <a:spcPct val="115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4. </a:t>
            </a:r>
            <a:r>
              <a:rPr b="1" lang="ru-RU" sz="2600" spc="-1" strike="noStrike">
                <a:solidFill>
                  <a:srgbClr val="ffff99"/>
                </a:solidFill>
                <a:latin typeface="Arial"/>
              </a:rPr>
              <a:t>Дисциплина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 в коллективе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531720" indent="-395280">
              <a:lnSpc>
                <a:spcPct val="115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5. </a:t>
            </a:r>
            <a:r>
              <a:rPr b="1" lang="ru-RU" sz="2600" spc="-1" strike="noStrike">
                <a:solidFill>
                  <a:srgbClr val="ffff99"/>
                </a:solidFill>
                <a:latin typeface="Arial"/>
              </a:rPr>
              <a:t>Справедливое отношение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 к персоналу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531720" indent="-395280">
              <a:lnSpc>
                <a:spcPct val="115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6. Быстрый, надежный, полный, точный и постоянный </a:t>
            </a:r>
            <a:r>
              <a:rPr b="1" lang="ru-RU" sz="2600" spc="-1" strike="noStrike">
                <a:solidFill>
                  <a:srgbClr val="ffff99"/>
                </a:solidFill>
                <a:latin typeface="Arial"/>
              </a:rPr>
              <a:t>учет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531720" indent="-395280">
              <a:lnSpc>
                <a:spcPct val="115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7.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600" spc="-1" strike="noStrike">
                <a:solidFill>
                  <a:srgbClr val="ffff99"/>
                </a:solidFill>
                <a:latin typeface="Arial"/>
              </a:rPr>
              <a:t>Диспетчирование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, обеспечивающее четкое оперативное управление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Rectangle 3"/>
          <p:cNvSpPr/>
          <p:nvPr/>
        </p:nvSpPr>
        <p:spPr>
          <a:xfrm>
            <a:off x="0" y="327600"/>
            <a:ext cx="9144000" cy="4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3160" indent="6120"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ffff"/>
                </a:solidFill>
                <a:latin typeface="Arial"/>
              </a:rPr>
              <a:t>Принципы управления Гаррингтона Эмерсона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79280" y="189000"/>
            <a:ext cx="896472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115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8. </a:t>
            </a:r>
            <a:r>
              <a:rPr b="1" lang="ru-RU" sz="2600" spc="-1" strike="noStrike">
                <a:solidFill>
                  <a:srgbClr val="ffff99"/>
                </a:solidFill>
                <a:latin typeface="Arial"/>
              </a:rPr>
              <a:t>Нормы и расписания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, позволяющие измерять все недостатки в организации и уменьшать вызванные ими потери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547560" indent="-411120">
              <a:lnSpc>
                <a:spcPct val="115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9. </a:t>
            </a:r>
            <a:r>
              <a:rPr b="1" lang="ru-RU" sz="2600" spc="-1" strike="noStrike">
                <a:solidFill>
                  <a:srgbClr val="ffff99"/>
                </a:solidFill>
                <a:latin typeface="Arial"/>
              </a:rPr>
              <a:t>Нормализация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600" spc="-1" strike="noStrike">
                <a:solidFill>
                  <a:srgbClr val="ffff99"/>
                </a:solidFill>
                <a:latin typeface="Arial"/>
              </a:rPr>
              <a:t>условий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, обеспечивающая такое сочетание времени, условий и себестоимости, при котором достигаются наилучшие результаты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547560" indent="-411120">
              <a:lnSpc>
                <a:spcPct val="115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99"/>
                </a:solidFill>
                <a:latin typeface="Arial"/>
              </a:rPr>
              <a:t>10.Нормирование операций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, предлагающее установление времени и последовательности, при которых достигаются наилучшие результаты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547560" indent="-411120">
              <a:lnSpc>
                <a:spcPct val="115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11. Письменные стандартные </a:t>
            </a:r>
            <a:r>
              <a:rPr b="1" lang="ru-RU" sz="2600" spc="-1" strike="noStrike">
                <a:solidFill>
                  <a:srgbClr val="ffff99"/>
                </a:solidFill>
                <a:latin typeface="Arial"/>
              </a:rPr>
              <a:t>инструкции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547560" indent="-411120">
              <a:lnSpc>
                <a:spcPct val="115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12. </a:t>
            </a:r>
            <a:r>
              <a:rPr b="1" lang="ru-RU" sz="2600" spc="-1" strike="noStrike">
                <a:solidFill>
                  <a:srgbClr val="ffff99"/>
                </a:solidFill>
                <a:latin typeface="Arial"/>
              </a:rPr>
              <a:t>Вознаграждение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 за производительность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3" descr="200px-Fonds_henri_fayol"/>
          <p:cNvPicPr/>
          <p:nvPr/>
        </p:nvPicPr>
        <p:blipFill>
          <a:blip r:embed="rId2"/>
          <a:stretch/>
        </p:blipFill>
        <p:spPr>
          <a:xfrm>
            <a:off x="2916360" y="404640"/>
            <a:ext cx="3333600" cy="439272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6"/>
          <p:cNvSpPr/>
          <p:nvPr/>
        </p:nvSpPr>
        <p:spPr>
          <a:xfrm>
            <a:off x="0" y="4897800"/>
            <a:ext cx="9036000" cy="16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3160" indent="457200">
              <a:spcBef>
                <a:spcPts val="12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300" spc="-1" strike="noStrike">
                <a:solidFill>
                  <a:srgbClr val="ffff00"/>
                </a:solidFill>
                <a:latin typeface="Tahoma"/>
              </a:rPr>
              <a:t>«Управлять – значит прогнозировать и планировать, организовывать, руководить командой, координировать и контролировать»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173160" indent="457200">
              <a:spcBef>
                <a:spcPts val="12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300" spc="-1" strike="noStrike">
                <a:solidFill>
                  <a:srgbClr val="ffff00"/>
                </a:solidFill>
                <a:latin typeface="Tahoma"/>
              </a:rPr>
              <a:t>                                                                       </a:t>
            </a:r>
            <a:r>
              <a:rPr b="1" i="1" lang="ru-RU" sz="2300" spc="-1" strike="noStrike">
                <a:solidFill>
                  <a:srgbClr val="ffff00"/>
                </a:solidFill>
                <a:latin typeface="Tahoma"/>
              </a:rPr>
              <a:t>Анри Файоль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0" y="691920"/>
            <a:ext cx="9144000" cy="61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1360" indent="-304920">
              <a:lnSpc>
                <a:spcPct val="95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ahoma"/>
              </a:rPr>
              <a:t>1.</a:t>
            </a:r>
            <a:r>
              <a:rPr b="1" lang="ru-RU" sz="1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1900" spc="-1" strike="noStrike">
                <a:solidFill>
                  <a:srgbClr val="ffff99"/>
                </a:solidFill>
                <a:latin typeface="Tahoma"/>
              </a:rPr>
              <a:t>Разделение труда.</a:t>
            </a:r>
            <a:r>
              <a:rPr b="1" lang="ru-RU" sz="1900" spc="-1" strike="noStrike">
                <a:solidFill>
                  <a:srgbClr val="ffffff"/>
                </a:solidFill>
                <a:latin typeface="Tahoma"/>
              </a:rPr>
              <a:t> Специализация является естественным порядком вещей. Целью разделения труда является выполнение работы, большей по объему и лучшей по качеству, при тех же усилиях. Это достигается за счет сокращения числа целей, на которые должны быть направлены внимание и усилия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441360" indent="-304920">
              <a:lnSpc>
                <a:spcPct val="95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ahoma"/>
              </a:rPr>
              <a:t>2.</a:t>
            </a:r>
            <a:r>
              <a:rPr b="1" lang="ru-RU" sz="1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1900" spc="-1" strike="noStrike">
                <a:solidFill>
                  <a:srgbClr val="ffff99"/>
                </a:solidFill>
                <a:latin typeface="Tahoma"/>
              </a:rPr>
              <a:t>Полномочия и ответственность.</a:t>
            </a:r>
            <a:r>
              <a:rPr b="1" lang="ru-RU" sz="1900" spc="-1" strike="noStrike">
                <a:solidFill>
                  <a:srgbClr val="ffffff"/>
                </a:solidFill>
                <a:latin typeface="Tahoma"/>
              </a:rPr>
              <a:t> Полномочия есть право отдавать приказ, а ответственность есть ее составляющая противоположность. Где даются полномочия – там возникает ответственность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441360" indent="-304920">
              <a:lnSpc>
                <a:spcPct val="95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ahoma"/>
              </a:rPr>
              <a:t>3.</a:t>
            </a:r>
            <a:r>
              <a:rPr b="1" lang="ru-RU" sz="1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1900" spc="-1" strike="noStrike">
                <a:solidFill>
                  <a:srgbClr val="ffff99"/>
                </a:solidFill>
                <a:latin typeface="Tahoma"/>
              </a:rPr>
              <a:t>Дисциплина.</a:t>
            </a:r>
            <a:r>
              <a:rPr b="1" lang="ru-RU" sz="1900" spc="-1" strike="noStrike">
                <a:solidFill>
                  <a:srgbClr val="ffffff"/>
                </a:solidFill>
                <a:latin typeface="Tahoma"/>
              </a:rPr>
              <a:t> Дисциплина предполагает послушание в уважение к достигнутым соглашениям между фирмой и ее работниками. Установление этих соглашений, связывающих фирму и работников, из которых возникают дисциплинарные формальности, должно оставаться одной из главных задач руководителей индустрии. Дисциплина также предполагает справедливо применяемые санкции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441360" indent="-304920">
              <a:lnSpc>
                <a:spcPct val="95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ahoma"/>
              </a:rPr>
              <a:t>4.</a:t>
            </a:r>
            <a:r>
              <a:rPr b="1" lang="ru-RU" sz="1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1900" spc="-1" strike="noStrike">
                <a:solidFill>
                  <a:srgbClr val="ffff99"/>
                </a:solidFill>
                <a:latin typeface="Tahoma"/>
              </a:rPr>
              <a:t>Единоначалие.</a:t>
            </a:r>
            <a:r>
              <a:rPr b="1" lang="ru-RU" sz="1900" spc="-1" strike="noStrike">
                <a:solidFill>
                  <a:srgbClr val="ffffff"/>
                </a:solidFill>
                <a:latin typeface="Tahoma"/>
              </a:rPr>
              <a:t> Работник должен получать приказы только от одного непосредственного начальника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441360" indent="-304920">
              <a:lnSpc>
                <a:spcPct val="95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ahoma"/>
              </a:rPr>
              <a:t>5.</a:t>
            </a:r>
            <a:r>
              <a:rPr b="1" lang="ru-RU" sz="1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1900" spc="-1" strike="noStrike">
                <a:solidFill>
                  <a:srgbClr val="ffff99"/>
                </a:solidFill>
                <a:latin typeface="Tahoma"/>
              </a:rPr>
              <a:t>Единство направления</a:t>
            </a:r>
            <a:r>
              <a:rPr b="1" lang="ru-RU" sz="1900" spc="-1" strike="noStrike">
                <a:solidFill>
                  <a:srgbClr val="ffffff"/>
                </a:solidFill>
                <a:latin typeface="Tahoma"/>
              </a:rPr>
              <a:t>. Каждая группа, действующая в рамках одной цели, должна быть объединена единым планом и иметь одного руководителя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Rectangle 3"/>
          <p:cNvSpPr/>
          <p:nvPr/>
        </p:nvSpPr>
        <p:spPr>
          <a:xfrm>
            <a:off x="0" y="153720"/>
            <a:ext cx="9144000" cy="45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3160" indent="6120"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ffff"/>
                </a:solidFill>
                <a:latin typeface="Arial"/>
              </a:rPr>
              <a:t>Принципы управления Анри Файол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0" y="333360"/>
            <a:ext cx="914400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ahoma"/>
              </a:rPr>
              <a:t>6.</a:t>
            </a:r>
            <a:r>
              <a:rPr b="1" lang="ru-RU" sz="1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1900" spc="-1" strike="noStrike">
                <a:solidFill>
                  <a:srgbClr val="ffff99"/>
                </a:solidFill>
                <a:latin typeface="Tahoma"/>
              </a:rPr>
              <a:t>Подчиненность личных интересов общим.</a:t>
            </a:r>
            <a:r>
              <a:rPr b="1" lang="ru-RU" sz="1900" spc="-1" strike="noStrike">
                <a:solidFill>
                  <a:srgbClr val="ffffff"/>
                </a:solidFill>
                <a:latin typeface="Tahoma"/>
              </a:rPr>
              <a:t> Интересы одного работника или группы работников не должны превалировать над интересами компании или организации большего масштаба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547560" indent="-411120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ahoma"/>
              </a:rPr>
              <a:t>7.</a:t>
            </a:r>
            <a:r>
              <a:rPr b="1" lang="ru-RU" sz="1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1900" spc="-1" strike="noStrike">
                <a:solidFill>
                  <a:srgbClr val="ffff99"/>
                </a:solidFill>
                <a:latin typeface="Tahoma"/>
              </a:rPr>
              <a:t>Вознаграждение персонала.</a:t>
            </a:r>
            <a:r>
              <a:rPr b="1" lang="ru-RU" sz="1900" spc="-1" strike="noStrike">
                <a:solidFill>
                  <a:srgbClr val="ffffff"/>
                </a:solidFill>
                <a:latin typeface="Tahoma"/>
              </a:rPr>
              <a:t> Для того, чтобы обеспечить верность и поддержку работников, они должны получать справедливую зарплату за свою службу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547560" indent="-411120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ahoma"/>
              </a:rPr>
              <a:t>8.</a:t>
            </a:r>
            <a:r>
              <a:rPr b="1" lang="ru-RU" sz="1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1900" spc="-1" strike="noStrike">
                <a:solidFill>
                  <a:srgbClr val="ffff99"/>
                </a:solidFill>
                <a:latin typeface="Tahoma"/>
              </a:rPr>
              <a:t>Централизация.</a:t>
            </a:r>
            <a:r>
              <a:rPr b="1" lang="ru-RU" sz="1900" spc="-1" strike="noStrike">
                <a:solidFill>
                  <a:srgbClr val="ffffff"/>
                </a:solidFill>
                <a:latin typeface="Tahoma"/>
              </a:rPr>
              <a:t> Как и разделение труда, централизация является естественным порядком вещей. Однако, соответствующая степень централизации будет варьироваться в зависимости от конкретных условий. Поэтому возникает вопрос о правильной пропорции между централизацией и децентрализацией. Это проблема определения меры, которая обеспечит лучшие возможные результаты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547560" indent="-411120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ahoma"/>
              </a:rPr>
              <a:t>9.</a:t>
            </a:r>
            <a:r>
              <a:rPr b="1" lang="ru-RU" sz="1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1900" spc="-1" strike="noStrike">
                <a:solidFill>
                  <a:srgbClr val="ffff99"/>
                </a:solidFill>
                <a:latin typeface="Tahoma"/>
              </a:rPr>
              <a:t>Скалярная цепь.</a:t>
            </a:r>
            <a:r>
              <a:rPr b="1" lang="ru-RU" sz="1900" spc="-1" strike="noStrike">
                <a:solidFill>
                  <a:srgbClr val="ffffff"/>
                </a:solidFill>
                <a:latin typeface="Tahoma"/>
              </a:rPr>
              <a:t> Скалярная цепь – это ряд лиц, стоящих на руководящих должностях, начиная от лица, занимающего самое высокое положение в этой цепочке, – вниз, до руководителя низового звена. Было бы ошибкой отказываться от иерархической системы без определенной необходимости в этом, но было бы еще большей ошибкой поддерживать эту иерархию, когда она наносит ущерб интересам бизнеса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0" y="836640"/>
            <a:ext cx="896472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3880" indent="-48744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10.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2000" spc="-1" strike="noStrike">
                <a:solidFill>
                  <a:srgbClr val="ffff99"/>
                </a:solidFill>
                <a:latin typeface="Tahoma"/>
              </a:rPr>
              <a:t>Порядок.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Место – для всего и все на своем мест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23880" indent="-48744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11.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2000" spc="-1" strike="noStrike">
                <a:solidFill>
                  <a:srgbClr val="ffff99"/>
                </a:solidFill>
                <a:latin typeface="Tahoma"/>
              </a:rPr>
              <a:t>Справедливость.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Справедливость – это сочетание доброты и правосуди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23880" indent="-48744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12.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2000" spc="-1" strike="noStrike">
                <a:solidFill>
                  <a:srgbClr val="ffff99"/>
                </a:solidFill>
                <a:latin typeface="Tahoma"/>
              </a:rPr>
              <a:t>Стабильность рабочего места для персонала.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Высокая текучесть кадров снижает эффективность организации. Посредственный руководитель, который держится за место, безусловно предпочтительней чем выдающийся, талантливый менеджер, который быстро уходит и не держится за свое место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23880" indent="-48744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13.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2000" spc="-1" strike="noStrike">
                <a:solidFill>
                  <a:srgbClr val="ffff99"/>
                </a:solidFill>
                <a:latin typeface="Tahoma"/>
              </a:rPr>
              <a:t>Инициатива.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Инициатива означает разработку плана и обеспечение его успешной реализации. Это придает организации силу и энергию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23880" indent="-48744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14.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2000" spc="-1" strike="noStrike">
                <a:solidFill>
                  <a:srgbClr val="ffff99"/>
                </a:solidFill>
                <a:latin typeface="Tahoma"/>
              </a:rPr>
              <a:t>Корпоративный дух.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Союз – это сила. А она является результатом гармонии персонал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23880" indent="-487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108000" y="1123560"/>
            <a:ext cx="9036000" cy="54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7480" indent="6300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Эта школа рассматривает каждую организацию как социальную систему. Эффективно управлять можно только при умелом воздействии на систему социально-психологических факторов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87480" indent="63000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87480" indent="6300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99"/>
                </a:solidFill>
                <a:latin typeface="Arial"/>
              </a:rPr>
              <a:t>     </a:t>
            </a:r>
            <a:r>
              <a:rPr b="1" lang="ru-RU" sz="2600" spc="-1" strike="noStrike">
                <a:solidFill>
                  <a:srgbClr val="00ff00"/>
                </a:solidFill>
                <a:latin typeface="Arial"/>
              </a:rPr>
              <a:t>Теория Х, </a:t>
            </a:r>
            <a:r>
              <a:rPr b="1" lang="en-US" sz="2600" spc="-1" strike="noStrike">
                <a:solidFill>
                  <a:srgbClr val="00ff00"/>
                </a:solidFill>
                <a:latin typeface="Arial"/>
              </a:rPr>
              <a:t>Y</a:t>
            </a:r>
            <a:r>
              <a:rPr b="1" lang="en-US" sz="2600" spc="-1" strike="noStrike">
                <a:solidFill>
                  <a:srgbClr val="00ff00"/>
                </a:solidFill>
                <a:latin typeface="Lucida Sans"/>
              </a:rPr>
              <a:t> (</a:t>
            </a:r>
            <a:r>
              <a:rPr b="1" lang="ru-RU" sz="2600" spc="-1" strike="noStrike">
                <a:solidFill>
                  <a:srgbClr val="00ff00"/>
                </a:solidFill>
                <a:latin typeface="Arial"/>
              </a:rPr>
              <a:t>по Дуглас Мак-Грегору</a:t>
            </a:r>
            <a:r>
              <a:rPr b="1" lang="en-US" sz="2600" spc="-1" strike="noStrike">
                <a:solidFill>
                  <a:srgbClr val="00ff00"/>
                </a:solidFill>
                <a:latin typeface="Lucida Sans"/>
              </a:rPr>
              <a:t>)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87480" indent="6300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Дуглас Мак-Грегор считал, что каждый руководитель в отношениях с подчиненными опирается на теоретические предпосылки, порождающие убежденность в том, что его поведение вызывает со стороны подчиненных определенную реакцию, которую можно предвидеть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0" y="404280"/>
            <a:ext cx="9144000" cy="5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3160" indent="6120"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ffff"/>
                </a:solidFill>
                <a:latin typeface="Arial"/>
              </a:rPr>
              <a:t>Школа человеческих отношений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395280" y="1700280"/>
            <a:ext cx="8748720" cy="484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7480" indent="536400">
              <a:lnSpc>
                <a:spcPct val="13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Согласно </a:t>
            </a:r>
            <a:r>
              <a:rPr b="1" lang="ru-RU" sz="2600" spc="-1" strike="noStrike">
                <a:solidFill>
                  <a:srgbClr val="00ff00"/>
                </a:solidFill>
                <a:latin typeface="Arial"/>
              </a:rPr>
              <a:t>теории Х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 рядовой индивид имеет врожденную неприязнь к труду. Из этой теории вытекает признание необходимости очень жесткой формализации организационной структуры, централизации принятия решений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79280" y="-360"/>
            <a:ext cx="878544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5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ffff"/>
                </a:solidFill>
                <a:latin typeface="Arial"/>
              </a:rPr>
              <a:t>Рассматриваемые вопросы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2001"/>
              </a:spcBef>
              <a:buClr>
                <a:srgbClr val="ffff99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Понятие «менеджмент» и эволюция подходов к его реализац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2001"/>
              </a:spcBef>
              <a:buClr>
                <a:srgbClr val="ffff99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Школы менеджмент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2001"/>
              </a:spcBef>
              <a:buClr>
                <a:srgbClr val="ffff99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Особенности менеджмента в медицинских организациях и в сестринском дел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2001"/>
              </a:spcBef>
              <a:buClr>
                <a:srgbClr val="ffff99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Уровни, методы и стили управле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2001"/>
              </a:spcBef>
              <a:buClr>
                <a:srgbClr val="ffff99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Управленческий цик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2"/>
          <p:cNvSpPr/>
          <p:nvPr/>
        </p:nvSpPr>
        <p:spPr>
          <a:xfrm>
            <a:off x="395280" y="5188680"/>
            <a:ext cx="8640720" cy="10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3160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ffff00"/>
                </a:solidFill>
                <a:latin typeface="Tahoma"/>
              </a:rPr>
              <a:t>«Людишек надо почаще перебирать»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173160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ffff00"/>
                </a:solidFill>
                <a:latin typeface="Tahoma"/>
              </a:rPr>
              <a:t>                                                           </a:t>
            </a:r>
            <a:r>
              <a:rPr b="1" i="1" lang="ru-RU" sz="2500" spc="-1" strike="noStrike">
                <a:solidFill>
                  <a:srgbClr val="ffff00"/>
                </a:solidFill>
                <a:latin typeface="Tahoma"/>
              </a:rPr>
              <a:t>Иван Грозный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Picture 4" descr="481"/>
          <p:cNvPicPr/>
          <p:nvPr/>
        </p:nvPicPr>
        <p:blipFill>
          <a:blip r:embed="rId2"/>
          <a:stretch/>
        </p:blipFill>
        <p:spPr>
          <a:xfrm>
            <a:off x="2843280" y="620640"/>
            <a:ext cx="3432240" cy="4248360"/>
          </a:xfrm>
          <a:prstGeom prst="rect">
            <a:avLst/>
          </a:prstGeom>
          <a:ln w="0">
            <a:noFill/>
          </a:ln>
        </p:spPr>
      </p:pic>
      <p:sp>
        <p:nvSpPr>
          <p:cNvPr id="1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79280" y="1052280"/>
            <a:ext cx="8785440" cy="549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7480" indent="536400">
              <a:lnSpc>
                <a:spcPct val="13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Согласно </a:t>
            </a:r>
            <a:r>
              <a:rPr b="1" lang="ru-RU" sz="2600" spc="-1" strike="noStrike">
                <a:solidFill>
                  <a:srgbClr val="00ff00"/>
                </a:solidFill>
                <a:latin typeface="Arial"/>
              </a:rPr>
              <a:t>теории </a:t>
            </a:r>
            <a:r>
              <a:rPr b="1" lang="en-US" sz="2600" spc="-1" strike="noStrike">
                <a:solidFill>
                  <a:srgbClr val="00ff00"/>
                </a:solidFill>
                <a:latin typeface="Arial"/>
              </a:rPr>
              <a:t>Y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 труд является естественной потребностью человека. Поэтому теория У предполагает меньшую степень формализации, децентрализацию управления, значительную самостоятельность исполнителей, поощрение инициативы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87480" indent="536400">
              <a:lnSpc>
                <a:spcPct val="13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В теории У основной упор делается  на поощрения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2"/>
          <p:cNvSpPr/>
          <p:nvPr/>
        </p:nvSpPr>
        <p:spPr>
          <a:xfrm>
            <a:off x="0" y="4617360"/>
            <a:ext cx="9036000" cy="21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3160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ffff00"/>
                </a:solidFill>
                <a:latin typeface="Tahoma"/>
              </a:rPr>
              <a:t>«Умение общаться с людьми – такой же покупаемый за деньги товар, как сахар или кофе. И я готов платить за это умение больше, чем за какой-либо другой товар в этом мире» 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173160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ffff00"/>
                </a:solidFill>
                <a:latin typeface="Tahoma"/>
              </a:rPr>
              <a:t>                                                         </a:t>
            </a:r>
            <a:r>
              <a:rPr b="1" i="1" lang="ru-RU" sz="2500" spc="-1" strike="noStrike">
                <a:solidFill>
                  <a:srgbClr val="ffff00"/>
                </a:solidFill>
                <a:latin typeface="Tahoma"/>
              </a:rPr>
              <a:t>Джон Рокфеллер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6" name="Picture 4" descr="12"/>
          <p:cNvPicPr/>
          <p:nvPr/>
        </p:nvPicPr>
        <p:blipFill>
          <a:blip r:embed="rId2"/>
          <a:stretch/>
        </p:blipFill>
        <p:spPr>
          <a:xfrm>
            <a:off x="2916360" y="476280"/>
            <a:ext cx="3252600" cy="4032360"/>
          </a:xfrm>
          <a:prstGeom prst="rect">
            <a:avLst/>
          </a:prstGeom>
          <a:ln w="0">
            <a:noFill/>
          </a:ln>
        </p:spPr>
      </p:pic>
      <p:sp>
        <p:nvSpPr>
          <p:cNvPr id="1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250560" y="907920"/>
            <a:ext cx="889308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7480">
              <a:lnSpc>
                <a:spcPct val="90000"/>
              </a:lnSpc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снова – моделирование, а также использование системного и ситуационного  подхода в управлени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87480">
              <a:lnSpc>
                <a:spcPct val="90000"/>
              </a:lnSpc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и определении целей организации, построении ее структуры и анализа деятельности менеджер должен владеть методами системного анализа, которые условно можно разделить на две большие группы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87480">
              <a:lnSpc>
                <a:spcPct val="90000"/>
              </a:lnSpc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1" lang="ru-RU" sz="2400" spc="-1" strike="noStrike">
                <a:solidFill>
                  <a:srgbClr val="ffff99"/>
                </a:solidFill>
                <a:latin typeface="Arial"/>
              </a:rPr>
              <a:t>по содержанию: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вербальные, графические, экспертные, математически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87480">
              <a:lnSpc>
                <a:spcPct val="90000"/>
              </a:lnSpc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1" lang="ru-RU" sz="2400" spc="-1" strike="noStrike">
                <a:solidFill>
                  <a:srgbClr val="ffff99"/>
                </a:solidFill>
                <a:latin typeface="Arial"/>
              </a:rPr>
              <a:t>по цели: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декомпозиции, композиции, упрощения систем, оценки структурной адекватности, оценки взаимодействия элементов, оценки устойчивости системы во времени и пространств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Rectangle 4"/>
          <p:cNvSpPr/>
          <p:nvPr/>
        </p:nvSpPr>
        <p:spPr>
          <a:xfrm>
            <a:off x="0" y="259560"/>
            <a:ext cx="9144000" cy="5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3160" indent="6120"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ffff"/>
                </a:solidFill>
                <a:latin typeface="Arial"/>
              </a:rPr>
              <a:t>Математическая школа управления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2"/>
          <p:cNvSpPr/>
          <p:nvPr/>
        </p:nvSpPr>
        <p:spPr>
          <a:xfrm>
            <a:off x="466560" y="5188680"/>
            <a:ext cx="8569440" cy="10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3160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ffff00"/>
                </a:solidFill>
                <a:latin typeface="Tahoma"/>
              </a:rPr>
              <a:t>«Кто много читает – умнее не становится»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173160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300" spc="-1" strike="noStrike">
                <a:solidFill>
                  <a:srgbClr val="ffff00"/>
                </a:solidFill>
                <a:latin typeface="Tahoma"/>
              </a:rPr>
              <a:t>                                                                     </a:t>
            </a:r>
            <a:r>
              <a:rPr b="1" i="1" lang="ru-RU" sz="2300" spc="-1" strike="noStrike">
                <a:solidFill>
                  <a:srgbClr val="ffff00"/>
                </a:solidFill>
                <a:latin typeface="Tahoma"/>
              </a:rPr>
              <a:t>М</a:t>
            </a:r>
            <a:r>
              <a:rPr b="1" i="1" lang="ru-RU" sz="2500" spc="-1" strike="noStrike">
                <a:solidFill>
                  <a:srgbClr val="ffff00"/>
                </a:solidFill>
                <a:latin typeface="Tahoma"/>
              </a:rPr>
              <a:t>ао Цзэдун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2" name="Picture 4" descr="280px-Mao_Zedong_portrait"/>
          <p:cNvPicPr/>
          <p:nvPr/>
        </p:nvPicPr>
        <p:blipFill>
          <a:blip r:embed="rId2"/>
          <a:stretch/>
        </p:blipFill>
        <p:spPr>
          <a:xfrm>
            <a:off x="2843280" y="620640"/>
            <a:ext cx="3319560" cy="4392720"/>
          </a:xfrm>
          <a:prstGeom prst="rect">
            <a:avLst/>
          </a:prstGeom>
          <a:ln w="0">
            <a:noFill/>
          </a:ln>
        </p:spPr>
      </p:pic>
      <p:sp>
        <p:nvSpPr>
          <p:cNvPr id="11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324000" y="475920"/>
            <a:ext cx="8820000" cy="638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5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ahoma"/>
              </a:rPr>
              <a:t>В </a:t>
            </a:r>
            <a:r>
              <a:rPr b="1" lang="ru-RU" sz="2600" spc="-1" strike="noStrike">
                <a:solidFill>
                  <a:srgbClr val="ff9933"/>
                </a:solidFill>
                <a:latin typeface="Tahoma"/>
              </a:rPr>
              <a:t>1933</a:t>
            </a:r>
            <a:r>
              <a:rPr b="1" lang="ru-RU" sz="2600" spc="-1" strike="noStrike">
                <a:solidFill>
                  <a:srgbClr val="ffffff"/>
                </a:solidFill>
                <a:latin typeface="Tahoma"/>
              </a:rPr>
              <a:t> г. французский математик и консультант по управлению </a:t>
            </a:r>
            <a:r>
              <a:rPr b="1" lang="ru-RU" sz="2600" spc="-1" strike="noStrike">
                <a:solidFill>
                  <a:srgbClr val="66ffff"/>
                </a:solidFill>
                <a:latin typeface="Tahoma"/>
              </a:rPr>
              <a:t>В. Грейкюнас</a:t>
            </a:r>
            <a:r>
              <a:rPr b="1" lang="ru-RU" sz="2600" spc="-1" strike="noStrike">
                <a:solidFill>
                  <a:srgbClr val="ffffff"/>
                </a:solidFill>
                <a:latin typeface="Tahoma"/>
              </a:rPr>
              <a:t> предложил в качестве критерия, определяющего норму управляемости, считать количество взаимосвязей в организации. Увеличение численности персонала неизбежно сопровождается многократным ростом числа и сложности контактов, возникающих в процессе управленческой деятельности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На основе расчетов было доказано, что количество непосредственно подчиненных у одного руководителя не должно превышать </a:t>
            </a:r>
            <a:r>
              <a:rPr b="1" lang="ru-RU" sz="2800" spc="-1" strike="noStrike">
                <a:solidFill>
                  <a:srgbClr val="ffff66"/>
                </a:solidFill>
                <a:latin typeface="Tahoma"/>
              </a:rPr>
              <a:t>шести человек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2"/>
          <p:cNvSpPr/>
          <p:nvPr/>
        </p:nvSpPr>
        <p:spPr>
          <a:xfrm>
            <a:off x="0" y="5020920"/>
            <a:ext cx="9036000" cy="136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3160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ffff00"/>
                </a:solidFill>
                <a:latin typeface="Tahoma"/>
              </a:rPr>
              <a:t>«Лучше иметь десять человек под рукой, чем десять тысяч – в отдалении»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173160">
              <a:spcBef>
                <a:spcPts val="12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300" spc="-1" strike="noStrike">
                <a:solidFill>
                  <a:srgbClr val="ffff00"/>
                </a:solidFill>
                <a:latin typeface="Tahoma"/>
              </a:rPr>
              <a:t>                                                                           </a:t>
            </a:r>
            <a:r>
              <a:rPr b="1" i="1" lang="ru-RU" sz="2300" spc="-1" strike="noStrike">
                <a:solidFill>
                  <a:srgbClr val="ffff00"/>
                </a:solidFill>
                <a:latin typeface="Tahoma"/>
              </a:rPr>
              <a:t>Чингизхан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7" name="Picture 4" descr="483"/>
          <p:cNvPicPr/>
          <p:nvPr/>
        </p:nvPicPr>
        <p:blipFill>
          <a:blip r:embed="rId2"/>
          <a:stretch/>
        </p:blipFill>
        <p:spPr>
          <a:xfrm>
            <a:off x="2843280" y="692280"/>
            <a:ext cx="3373200" cy="3960720"/>
          </a:xfrm>
          <a:prstGeom prst="rect">
            <a:avLst/>
          </a:prstGeom>
          <a:ln w="0">
            <a:noFill/>
          </a:ln>
        </p:spPr>
      </p:pic>
      <p:sp>
        <p:nvSpPr>
          <p:cNvPr id="11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324000" y="1123560"/>
            <a:ext cx="8820000" cy="45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Выводы В. Грейкюнаса являются основанием для уменьшения числа коммуникаций за счет предоставления подчиненным большей самостоятельност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Чтобы менеджер высшего уровня не был перегружен решением оперативных и тактических задач и имел возможность заниматься стратегическими вопросами организации, среднее значение нормы управляемости должно быть </a:t>
            </a:r>
            <a:r>
              <a:rPr b="1" lang="ru-RU" sz="2800" spc="-1" strike="noStrike">
                <a:solidFill>
                  <a:srgbClr val="ff9900"/>
                </a:solidFill>
                <a:latin typeface="Tahoma"/>
              </a:rPr>
              <a:t>6 ± 2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человека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2"/>
          <p:cNvSpPr/>
          <p:nvPr/>
        </p:nvSpPr>
        <p:spPr>
          <a:xfrm>
            <a:off x="2484360" y="5212800"/>
            <a:ext cx="6551640" cy="98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3160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ffff00"/>
                </a:solidFill>
                <a:latin typeface="Tahoma"/>
              </a:rPr>
              <a:t>«Кадры решают всё»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173160">
              <a:spcBef>
                <a:spcPts val="12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300" spc="-1" strike="noStrike">
                <a:solidFill>
                  <a:srgbClr val="ffff00"/>
                </a:solidFill>
                <a:latin typeface="Tahoma"/>
              </a:rPr>
              <a:t>                             </a:t>
            </a:r>
            <a:r>
              <a:rPr b="1" i="1" lang="ru-RU" sz="2300" spc="-1" strike="noStrike">
                <a:solidFill>
                  <a:srgbClr val="ffff00"/>
                </a:solidFill>
                <a:latin typeface="Tahoma"/>
              </a:rPr>
              <a:t>Сталин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2" name="Picture 4" descr="ст"/>
          <p:cNvPicPr/>
          <p:nvPr/>
        </p:nvPicPr>
        <p:blipFill>
          <a:blip r:embed="rId2"/>
          <a:stretch/>
        </p:blipFill>
        <p:spPr>
          <a:xfrm>
            <a:off x="2771640" y="476280"/>
            <a:ext cx="3521160" cy="4680000"/>
          </a:xfrm>
          <a:prstGeom prst="rect">
            <a:avLst/>
          </a:prstGeom>
          <a:ln w="0">
            <a:noFill/>
          </a:ln>
        </p:spPr>
      </p:pic>
      <p:sp>
        <p:nvSpPr>
          <p:cNvPr id="1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Прямоугольник 3"/>
          <p:cNvSpPr/>
          <p:nvPr/>
        </p:nvSpPr>
        <p:spPr>
          <a:xfrm>
            <a:off x="179280" y="189000"/>
            <a:ext cx="8964720" cy="665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  <a:ea typeface="Arial"/>
              </a:rPr>
              <a:t>Управление здравоохранением в связи со специфичностью объекта делает управление им чрезвычайно сложным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  <a:ea typeface="Arial"/>
              </a:rPr>
              <a:t>К основным </a:t>
            </a:r>
            <a:r>
              <a:rPr b="1" lang="ru-RU" sz="2600" spc="-1" strike="noStrike">
                <a:solidFill>
                  <a:srgbClr val="ffff99"/>
                </a:solidFill>
                <a:latin typeface="Arial"/>
                <a:ea typeface="Arial"/>
              </a:rPr>
              <a:t>особенностям управления здравоохранением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  <a:ea typeface="Arial"/>
              </a:rPr>
              <a:t> относят: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indent="35712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  <a:ea typeface="Arial"/>
              </a:rPr>
              <a:t>Особую ответственность принимаемых решений, от которых зависит жизнь и здоровье людей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indent="35712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  <a:ea typeface="Arial"/>
              </a:rPr>
              <a:t>Трудность, а иногда и невозможность предсказания отдаленных последствий принимаемых решений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indent="35712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  <a:ea typeface="Arial"/>
              </a:rPr>
              <a:t>Трудность, а иногда и невозможность исправления неверных решений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  <a:ea typeface="Arial"/>
              </a:rPr>
              <a:t>Использование </a:t>
            </a:r>
            <a:r>
              <a:rPr b="1" lang="ru-RU" sz="2600" spc="-1" strike="noStrike">
                <a:solidFill>
                  <a:srgbClr val="ff9933"/>
                </a:solidFill>
                <a:latin typeface="Arial"/>
                <a:ea typeface="Arial"/>
              </a:rPr>
              <a:t>компьютерных технологий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  <a:ea typeface="Arial"/>
              </a:rPr>
              <a:t> способно существенно повысить эффективность управления и функционирование системы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ru-RU" sz="3200" spc="-1" strike="noStrike">
                <a:solidFill>
                  <a:srgbClr val="ffff99"/>
                </a:solidFill>
                <a:latin typeface="Arial"/>
              </a:rPr>
              <a:t>Менеджмент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(от анг. </a:t>
            </a:r>
            <a:r>
              <a:rPr b="1" i="1" lang="en-US" sz="3200" spc="-1" strike="noStrike">
                <a:solidFill>
                  <a:srgbClr val="ffffff"/>
                </a:solidFill>
                <a:latin typeface="Lucida Sans"/>
              </a:rPr>
              <a:t>management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– управление, руководство, правление) – это совокупность принципов, методов, средств и форм управления предприятием (учреждением, организацией), ориентированная на повышение эффективности их деятельности и способствующая удовлетворению общественных потребностей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178920" y="836280"/>
            <a:ext cx="857268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95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3000" spc="-1" strike="noStrike">
                <a:solidFill>
                  <a:srgbClr val="ffff99"/>
                </a:solidFill>
                <a:latin typeface="Arial"/>
              </a:rPr>
              <a:t>Стратегический уровень</a:t>
            </a: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 – характеризуется функцией прогноза и планирования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547560" indent="-411120">
              <a:lnSpc>
                <a:spcPct val="95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3000" spc="-1" strike="noStrike">
                <a:solidFill>
                  <a:srgbClr val="ffff99"/>
                </a:solidFill>
                <a:latin typeface="Arial"/>
              </a:rPr>
              <a:t>Тактический уровень</a:t>
            </a: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 – предполагает разработку программы действия для достижения поставленной цели, оптимальное распределение ресурсов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547560" indent="-411120">
              <a:lnSpc>
                <a:spcPct val="95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3000" spc="-1" strike="noStrike">
                <a:solidFill>
                  <a:srgbClr val="ffff99"/>
                </a:solidFill>
                <a:latin typeface="Arial"/>
              </a:rPr>
              <a:t>Оперативный уровень</a:t>
            </a: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 – позволяет обеспечить эффективное достижение поставленных целей и включает регулирование, учет, контроль, анализ.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547560" indent="-411120">
              <a:lnSpc>
                <a:spcPct val="80000"/>
              </a:lnSpc>
              <a:spcBef>
                <a:spcPts val="7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Rectangle 3"/>
          <p:cNvSpPr/>
          <p:nvPr/>
        </p:nvSpPr>
        <p:spPr>
          <a:xfrm>
            <a:off x="0" y="187920"/>
            <a:ext cx="914400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3160" indent="6120"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ffff"/>
                </a:solidFill>
                <a:latin typeface="Arial"/>
              </a:rPr>
              <a:t>Уровни управления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0" y="907560"/>
            <a:ext cx="9144000" cy="534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6040" indent="-222480">
              <a:lnSpc>
                <a:spcPct val="9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ru-RU" sz="3000" spc="-1" strike="noStrike">
                <a:solidFill>
                  <a:srgbClr val="ffffff"/>
                </a:solidFill>
                <a:latin typeface="Arial"/>
                <a:ea typeface="Arial"/>
              </a:rPr>
              <a:t>1. </a:t>
            </a:r>
            <a:r>
              <a:rPr b="1" lang="ru-RU" sz="3000" spc="-1" strike="noStrike">
                <a:solidFill>
                  <a:srgbClr val="ffff99"/>
                </a:solidFill>
                <a:latin typeface="Arial"/>
                <a:ea typeface="Arial"/>
              </a:rPr>
              <a:t>Командно-административные</a:t>
            </a:r>
            <a:r>
              <a:rPr b="1" lang="ru-RU" sz="3000" spc="-1" strike="noStrike">
                <a:solidFill>
                  <a:srgbClr val="ffffff"/>
                </a:solidFill>
                <a:latin typeface="Arial"/>
                <a:ea typeface="Arial"/>
              </a:rPr>
              <a:t> – авторитарное управление на основе распоряжений, приказов, уставов и т.д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56040" indent="-222480">
              <a:lnSpc>
                <a:spcPct val="9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ru-RU" sz="3000" spc="-1" strike="noStrike">
                <a:solidFill>
                  <a:srgbClr val="ffffff"/>
                </a:solidFill>
                <a:latin typeface="Arial"/>
                <a:ea typeface="Arial"/>
              </a:rPr>
              <a:t>2. </a:t>
            </a:r>
            <a:r>
              <a:rPr b="1" lang="ru-RU" sz="3000" spc="-1" strike="noStrike">
                <a:solidFill>
                  <a:srgbClr val="ffff99"/>
                </a:solidFill>
                <a:latin typeface="Arial"/>
                <a:ea typeface="Arial"/>
              </a:rPr>
              <a:t>Экономико-математические</a:t>
            </a:r>
            <a:r>
              <a:rPr b="1" lang="ru-RU" sz="3000" spc="-1" strike="noStrike">
                <a:solidFill>
                  <a:srgbClr val="ffffff"/>
                </a:solidFill>
                <a:latin typeface="Arial"/>
                <a:ea typeface="Arial"/>
              </a:rPr>
              <a:t> – используют для стимулирования деятельности персонала путем воздействия на заработную плату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56040" indent="-222480">
              <a:lnSpc>
                <a:spcPct val="9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ru-RU" sz="3000" spc="-1" strike="noStrike">
                <a:solidFill>
                  <a:srgbClr val="ffffff"/>
                </a:solidFill>
                <a:latin typeface="Arial"/>
                <a:ea typeface="Arial"/>
              </a:rPr>
              <a:t>3. </a:t>
            </a:r>
            <a:r>
              <a:rPr b="1" lang="ru-RU" sz="3000" spc="-1" strike="noStrike">
                <a:solidFill>
                  <a:srgbClr val="ffff99"/>
                </a:solidFill>
                <a:latin typeface="Arial"/>
                <a:ea typeface="Arial"/>
              </a:rPr>
              <a:t>Социально-психологические</a:t>
            </a:r>
            <a:r>
              <a:rPr b="1" lang="ru-RU" sz="3000" spc="-1" strike="noStrike">
                <a:solidFill>
                  <a:srgbClr val="ffffff"/>
                </a:solidFill>
                <a:latin typeface="Arial"/>
                <a:ea typeface="Arial"/>
              </a:rPr>
              <a:t> – ориентированы на изменение мотивации деятельности сотрудников и позволяют повысить у них степень удовлетворенности выполняемыми функциями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Rectangle 4"/>
          <p:cNvSpPr/>
          <p:nvPr/>
        </p:nvSpPr>
        <p:spPr>
          <a:xfrm>
            <a:off x="0" y="187920"/>
            <a:ext cx="914400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3160" indent="6120"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ffff"/>
                </a:solidFill>
                <a:latin typeface="Arial"/>
              </a:rPr>
              <a:t>Методы управления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324000" y="333360"/>
            <a:ext cx="8496000" cy="623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0360" indent="63036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99"/>
                </a:solidFill>
                <a:latin typeface="Arial"/>
                <a:ea typeface="Arial"/>
              </a:rPr>
              <a:t>Командно-административные методы</a:t>
            </a:r>
            <a:r>
              <a:rPr b="1" lang="ru-RU" sz="3000" spc="-1" strike="noStrike">
                <a:solidFill>
                  <a:srgbClr val="ffffff"/>
                </a:solidFill>
                <a:latin typeface="Arial"/>
                <a:ea typeface="Arial"/>
              </a:rPr>
              <a:t> управления  представляют собой совокупность способов по осуществлению властного (принудительно-распорядительного) воздействия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90360" indent="63036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  <a:ea typeface="Arial"/>
              </a:rPr>
              <a:t>Они основаны на праве управляющей подсистемы (органа управления или руководителя) принимать управленческие решения  виде приказов, распоряжений, инструкций и обязательном их выполнении управляемой подсистемой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179280" y="189000"/>
            <a:ext cx="896472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36400" indent="-402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ru-RU" sz="2800" spc="-1" strike="noStrike">
                <a:solidFill>
                  <a:srgbClr val="00ffff"/>
                </a:solidFill>
                <a:latin typeface="Arial"/>
                <a:ea typeface="Arial"/>
              </a:rPr>
              <a:t>Способы административного воздействия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6400" indent="-40284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ffff"/>
                </a:solidFill>
                <a:latin typeface="Arial"/>
                <a:ea typeface="Arial"/>
              </a:rPr>
              <a:t>1.</a:t>
            </a:r>
            <a:r>
              <a:rPr b="1" lang="ru-RU" sz="25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ru-RU" sz="2500" spc="-1" strike="noStrike">
                <a:solidFill>
                  <a:srgbClr val="ffff99"/>
                </a:solidFill>
                <a:latin typeface="Arial"/>
                <a:ea typeface="Arial"/>
              </a:rPr>
              <a:t>Стабилизирующие</a:t>
            </a:r>
            <a:r>
              <a:rPr b="1" lang="ru-RU" sz="2500" spc="-1" strike="noStrike">
                <a:solidFill>
                  <a:srgbClr val="ffffff"/>
                </a:solidFill>
                <a:latin typeface="Arial"/>
                <a:ea typeface="Arial"/>
              </a:rPr>
              <a:t> или </a:t>
            </a:r>
            <a:r>
              <a:rPr b="1" lang="ru-RU" sz="2500" spc="-1" strike="noStrike">
                <a:solidFill>
                  <a:srgbClr val="ffff99"/>
                </a:solidFill>
                <a:latin typeface="Arial"/>
                <a:ea typeface="Arial"/>
              </a:rPr>
              <a:t>регламентирующие</a:t>
            </a:r>
            <a:r>
              <a:rPr b="1" lang="ru-RU" sz="2500" spc="-1" strike="noStrike">
                <a:solidFill>
                  <a:srgbClr val="ffffff"/>
                </a:solidFill>
                <a:latin typeface="Arial"/>
                <a:ea typeface="Arial"/>
              </a:rPr>
              <a:t> методы  устанавливают  определенные  правила, точные предписания к действию, рамки деятельности (положения, нормы нагрузки, нормативы, штатное расписание ЛПУ и др.)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536400" indent="-40284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ffff"/>
                </a:solidFill>
                <a:latin typeface="Arial"/>
                <a:ea typeface="Arial"/>
              </a:rPr>
              <a:t>2.</a:t>
            </a:r>
            <a:r>
              <a:rPr b="1" lang="ru-RU" sz="25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ru-RU" sz="2500" spc="-1" strike="noStrike">
                <a:solidFill>
                  <a:srgbClr val="ffff99"/>
                </a:solidFill>
                <a:latin typeface="Arial"/>
                <a:ea typeface="Arial"/>
              </a:rPr>
              <a:t>Распорядительные</a:t>
            </a:r>
            <a:r>
              <a:rPr b="1" lang="ru-RU" sz="2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ru-RU" sz="2500" spc="-1" strike="noStrike">
                <a:solidFill>
                  <a:srgbClr val="ffff99"/>
                </a:solidFill>
                <a:latin typeface="Arial"/>
                <a:ea typeface="Arial"/>
              </a:rPr>
              <a:t>методы</a:t>
            </a:r>
            <a:r>
              <a:rPr b="1" lang="ru-RU" sz="2500" spc="-1" strike="noStrike">
                <a:solidFill>
                  <a:srgbClr val="ffffff"/>
                </a:solidFill>
                <a:latin typeface="Arial"/>
                <a:ea typeface="Arial"/>
              </a:rPr>
              <a:t> направлены на решение конкретных задач в ситуациях, которые не предусмотрены установленными и действующими положениями и правилами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536400" indent="-40284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1" lang="ru-RU" sz="2500" spc="-1" strike="noStrike">
                <a:solidFill>
                  <a:srgbClr val="ffffff"/>
                </a:solidFill>
                <a:latin typeface="Arial"/>
                <a:ea typeface="Arial"/>
              </a:rPr>
              <a:t>Существуют две формы распорядительного метода: устная и документальная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536400" indent="-40284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ffff"/>
                </a:solidFill>
                <a:latin typeface="Arial"/>
                <a:ea typeface="Arial"/>
              </a:rPr>
              <a:t>3.</a:t>
            </a:r>
            <a:r>
              <a:rPr b="1" lang="ru-RU" sz="25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ru-RU" sz="2500" spc="-1" strike="noStrike">
                <a:solidFill>
                  <a:srgbClr val="ffff99"/>
                </a:solidFill>
                <a:latin typeface="Arial"/>
                <a:ea typeface="Arial"/>
              </a:rPr>
              <a:t>Дисциплинарные методы</a:t>
            </a:r>
            <a:r>
              <a:rPr b="1" lang="ru-RU" sz="2500" spc="-1" strike="noStrike">
                <a:solidFill>
                  <a:srgbClr val="ffffff"/>
                </a:solidFill>
                <a:latin typeface="Arial"/>
                <a:ea typeface="Arial"/>
              </a:rPr>
              <a:t> воздействия включают не только строгое  выполнение плановой, производственной и финансовой дисциплины, но и  установление ответственности: личной и коллективной, моральной и материальной, служебной и гражданской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325440" y="1412640"/>
            <a:ext cx="881856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5400" indent="41040">
              <a:lnSpc>
                <a:spcPct val="14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99"/>
                </a:solidFill>
                <a:latin typeface="Arial"/>
                <a:ea typeface="Arial"/>
              </a:rPr>
              <a:t>Экономико-математические методы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  <a:ea typeface="Arial"/>
              </a:rPr>
              <a:t> – это совокупность способов по осуществлению воздействия с помощью экономических категорий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95400" indent="41040">
              <a:lnSpc>
                <a:spcPct val="14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0" y="188640"/>
            <a:ext cx="9144000" cy="614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16596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ff99"/>
                </a:solidFill>
                <a:latin typeface="Arial"/>
                <a:ea typeface="Arial"/>
              </a:rPr>
              <a:t>     </a:t>
            </a:r>
            <a:r>
              <a:rPr b="1" lang="ru-RU" sz="2500" spc="-1" strike="noStrike">
                <a:solidFill>
                  <a:srgbClr val="ffff99"/>
                </a:solidFill>
                <a:latin typeface="Arial"/>
                <a:ea typeface="Arial"/>
              </a:rPr>
              <a:t>Социально- психологические методы</a:t>
            </a:r>
            <a:r>
              <a:rPr b="1" lang="ru-RU" sz="2500" spc="-1" strike="noStrike">
                <a:solidFill>
                  <a:srgbClr val="ffffff"/>
                </a:solidFill>
                <a:latin typeface="Arial"/>
                <a:ea typeface="Arial"/>
              </a:rPr>
              <a:t> включают:</a:t>
            </a:r>
            <a:r>
              <a:rPr b="1" lang="ru-RU" sz="23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165960">
              <a:lnSpc>
                <a:spcPct val="8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Tahoma"/>
            </a:endParaRPr>
          </a:p>
          <a:p>
            <a:pPr marL="16596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ru-RU" sz="23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1" i="1" lang="ru-RU" sz="2300" spc="-1" strike="noStrike">
                <a:solidFill>
                  <a:srgbClr val="ff9933"/>
                </a:solidFill>
                <a:latin typeface="Arial"/>
                <a:ea typeface="Arial"/>
              </a:rPr>
              <a:t>Прямые методы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16596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fffff"/>
                </a:solidFill>
                <a:latin typeface="Arial"/>
                <a:ea typeface="Arial"/>
              </a:rPr>
              <a:t>а) внушение (целенаправленное воздействие путем влияния на психику человека)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16596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fffff"/>
                </a:solidFill>
                <a:latin typeface="Arial"/>
                <a:ea typeface="Arial"/>
              </a:rPr>
              <a:t>б) убеждение (аргументирование с помощью логических средств)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16596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fffff"/>
                </a:solidFill>
                <a:latin typeface="Arial"/>
                <a:ea typeface="Arial"/>
              </a:rPr>
              <a:t>в) подражание (воздействие на основе личного примера)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16596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fffff"/>
                </a:solidFill>
                <a:latin typeface="Arial"/>
                <a:ea typeface="Arial"/>
              </a:rPr>
              <a:t>г) вовлечение (воздействие путем использования гражданских чувств, социально- психологических мотивов)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16596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fffff"/>
                </a:solidFill>
                <a:latin typeface="Arial"/>
                <a:ea typeface="Arial"/>
              </a:rPr>
              <a:t>д) принуждение (повышение морально- общественной значимости предстоящей работы)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165960">
              <a:lnSpc>
                <a:spcPct val="8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Tahoma"/>
            </a:endParaRPr>
          </a:p>
          <a:p>
            <a:pPr marL="16596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ru-RU" sz="23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1" i="1" lang="ru-RU" sz="2300" spc="-1" strike="noStrike">
                <a:solidFill>
                  <a:srgbClr val="ff9933"/>
                </a:solidFill>
                <a:latin typeface="Arial"/>
                <a:ea typeface="Arial"/>
              </a:rPr>
              <a:t>Косвенные методы</a:t>
            </a:r>
            <a:r>
              <a:rPr b="1" lang="ru-RU" sz="2300" spc="-1" strike="noStrike">
                <a:solidFill>
                  <a:srgbClr val="ffffff"/>
                </a:solidFill>
                <a:latin typeface="Arial"/>
                <a:ea typeface="Arial"/>
              </a:rPr>
              <a:t>  различаются формами опосредованного  воздействия: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16596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fffff"/>
                </a:solidFill>
                <a:latin typeface="Arial"/>
                <a:ea typeface="Arial"/>
              </a:rPr>
              <a:t>а) условиями труда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16596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fffff"/>
                </a:solidFill>
                <a:latin typeface="Arial"/>
                <a:ea typeface="Arial"/>
              </a:rPr>
              <a:t>б) элементами системы управления: положениями, должностными инструкциями, организационной структурой, формами контроля и стимулирования.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16596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fffff"/>
                </a:solidFill>
                <a:latin typeface="Arial"/>
                <a:ea typeface="Arial"/>
              </a:rPr>
              <a:t>в) путем создания соответствующего социально- психологического климата в коллективе.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7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Arial"/>
                <a:ea typeface="Arial"/>
              </a:rPr>
              <a:t>       </a:t>
            </a:r>
            <a:r>
              <a:rPr b="1" lang="ru-RU" sz="2400" spc="-1" strike="noStrike">
                <a:solidFill>
                  <a:srgbClr val="ffff99"/>
                </a:solidFill>
                <a:latin typeface="Arial"/>
                <a:ea typeface="Arial"/>
              </a:rPr>
              <a:t>Стиль управления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 – это система сложившихся отношений между руководителем и коллективом по поводу  принятия и реализации решени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874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87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1. </a:t>
            </a:r>
            <a:r>
              <a:rPr b="1" lang="ru-RU" sz="2400" spc="-1" strike="noStrike">
                <a:solidFill>
                  <a:srgbClr val="ff9933"/>
                </a:solidFill>
                <a:latin typeface="Arial"/>
                <a:ea typeface="Arial"/>
              </a:rPr>
              <a:t>Авторитарный (автократический)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 – характеризуется минимальной контактностью руководителя с коллективом, жесткостью в выработке и реализации решени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874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87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2. </a:t>
            </a:r>
            <a:r>
              <a:rPr b="1" lang="ru-RU" sz="2400" spc="-1" strike="noStrike">
                <a:solidFill>
                  <a:srgbClr val="ff9933"/>
                </a:solidFill>
                <a:latin typeface="Arial"/>
                <a:ea typeface="Arial"/>
              </a:rPr>
              <a:t>Либеральный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 – полная противоположность авторитарного  стиля. Руководитель каждое решение согласовывает с коллективом, идет на бесконечные уступки  формальным и неформальным лидерам и группам. По существу коллектив управляет руководителе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87480">
              <a:lnSpc>
                <a:spcPct val="90000"/>
              </a:lnSpc>
              <a:spcBef>
                <a:spcPts val="3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87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3. </a:t>
            </a:r>
            <a:r>
              <a:rPr b="1" lang="ru-RU" sz="2400" spc="-1" strike="noStrike">
                <a:solidFill>
                  <a:srgbClr val="ff9933"/>
                </a:solidFill>
                <a:latin typeface="Arial"/>
                <a:ea typeface="Arial"/>
              </a:rPr>
              <a:t>Демократический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 тип управления или система группового участия в управлении – основан на активном привлечении подчиненных как к  определению целей организации и подразделений, так и к контролю за их достижениям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Group 2"/>
          <p:cNvGrpSpPr/>
          <p:nvPr/>
        </p:nvGrpSpPr>
        <p:grpSpPr>
          <a:xfrm>
            <a:off x="971640" y="1413000"/>
            <a:ext cx="6913440" cy="5113080"/>
            <a:chOff x="971640" y="1413000"/>
            <a:chExt cx="6913440" cy="5113080"/>
          </a:xfrm>
        </p:grpSpPr>
        <p:grpSp>
          <p:nvGrpSpPr>
            <p:cNvPr id="143" name="Group 3"/>
            <p:cNvGrpSpPr/>
            <p:nvPr/>
          </p:nvGrpSpPr>
          <p:grpSpPr>
            <a:xfrm>
              <a:off x="971640" y="1413000"/>
              <a:ext cx="6913440" cy="5113080"/>
              <a:chOff x="971640" y="1413000"/>
              <a:chExt cx="6913440" cy="5113080"/>
            </a:xfrm>
          </p:grpSpPr>
          <p:sp>
            <p:nvSpPr>
              <p:cNvPr id="144" name="Line 4"/>
              <p:cNvSpPr/>
              <p:nvPr/>
            </p:nvSpPr>
            <p:spPr>
              <a:xfrm>
                <a:off x="4643280" y="1413000"/>
                <a:ext cx="0" cy="25923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5" name="Line 5"/>
              <p:cNvSpPr/>
              <p:nvPr/>
            </p:nvSpPr>
            <p:spPr>
              <a:xfrm flipH="1">
                <a:off x="2195280" y="4005360"/>
                <a:ext cx="2448000" cy="18000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6" name="Line 6"/>
              <p:cNvSpPr/>
              <p:nvPr/>
            </p:nvSpPr>
            <p:spPr>
              <a:xfrm>
                <a:off x="4643280" y="4005360"/>
                <a:ext cx="2808360" cy="18730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7" name="Freeform 7"/>
              <p:cNvSpPr/>
              <p:nvPr/>
            </p:nvSpPr>
            <p:spPr>
              <a:xfrm>
                <a:off x="2423880" y="1434960"/>
                <a:ext cx="4373640" cy="4546800"/>
              </a:xfrm>
              <a:custGeom>
                <a:avLst/>
                <a:gdLst>
                  <a:gd name="textAreaLeft" fmla="*/ 0 w 4373640"/>
                  <a:gd name="textAreaRight" fmla="*/ 4374000 w 4373640"/>
                  <a:gd name="textAreaTop" fmla="*/ 0 h 4546800"/>
                  <a:gd name="textAreaBottom" fmla="*/ 4547160 h 4546800"/>
                </a:gdLst>
                <a:ahLst/>
                <a:rect l="textAreaLeft" t="textAreaTop" r="textAreaRight" b="textAreaBottom"/>
                <a:pathLst>
                  <a:path w="2755" h="2864">
                    <a:moveTo>
                      <a:pt x="1391" y="1632"/>
                    </a:moveTo>
                    <a:cubicBezTo>
                      <a:pt x="1416" y="1585"/>
                      <a:pt x="1442" y="1540"/>
                      <a:pt x="1485" y="1523"/>
                    </a:cubicBezTo>
                    <a:cubicBezTo>
                      <a:pt x="1528" y="1507"/>
                      <a:pt x="1601" y="1498"/>
                      <a:pt x="1648" y="1532"/>
                    </a:cubicBezTo>
                    <a:cubicBezTo>
                      <a:pt x="1695" y="1566"/>
                      <a:pt x="1775" y="1649"/>
                      <a:pt x="1764" y="1727"/>
                    </a:cubicBezTo>
                    <a:cubicBezTo>
                      <a:pt x="1753" y="1805"/>
                      <a:pt x="1673" y="1961"/>
                      <a:pt x="1584" y="1998"/>
                    </a:cubicBezTo>
                    <a:cubicBezTo>
                      <a:pt x="1495" y="2035"/>
                      <a:pt x="1317" y="2016"/>
                      <a:pt x="1232" y="1948"/>
                    </a:cubicBezTo>
                    <a:cubicBezTo>
                      <a:pt x="1147" y="1880"/>
                      <a:pt x="1064" y="1700"/>
                      <a:pt x="1073" y="1588"/>
                    </a:cubicBezTo>
                    <a:cubicBezTo>
                      <a:pt x="1082" y="1476"/>
                      <a:pt x="1185" y="1337"/>
                      <a:pt x="1284" y="1273"/>
                    </a:cubicBezTo>
                    <a:cubicBezTo>
                      <a:pt x="1383" y="1209"/>
                      <a:pt x="1545" y="1180"/>
                      <a:pt x="1665" y="1205"/>
                    </a:cubicBezTo>
                    <a:cubicBezTo>
                      <a:pt x="1786" y="1230"/>
                      <a:pt x="1934" y="1312"/>
                      <a:pt x="2006" y="1424"/>
                    </a:cubicBezTo>
                    <a:cubicBezTo>
                      <a:pt x="2078" y="1536"/>
                      <a:pt x="2131" y="1732"/>
                      <a:pt x="2096" y="1876"/>
                    </a:cubicBezTo>
                    <a:cubicBezTo>
                      <a:pt x="2061" y="2020"/>
                      <a:pt x="1936" y="2207"/>
                      <a:pt x="1793" y="2286"/>
                    </a:cubicBezTo>
                    <a:cubicBezTo>
                      <a:pt x="1650" y="2365"/>
                      <a:pt x="1404" y="2395"/>
                      <a:pt x="1239" y="2351"/>
                    </a:cubicBezTo>
                    <a:cubicBezTo>
                      <a:pt x="1074" y="2307"/>
                      <a:pt x="900" y="2190"/>
                      <a:pt x="800" y="2020"/>
                    </a:cubicBezTo>
                    <a:cubicBezTo>
                      <a:pt x="700" y="1850"/>
                      <a:pt x="616" y="1528"/>
                      <a:pt x="641" y="1328"/>
                    </a:cubicBezTo>
                    <a:cubicBezTo>
                      <a:pt x="666" y="1128"/>
                      <a:pt x="784" y="932"/>
                      <a:pt x="951" y="817"/>
                    </a:cubicBezTo>
                    <a:cubicBezTo>
                      <a:pt x="1118" y="702"/>
                      <a:pt x="1426" y="598"/>
                      <a:pt x="1645" y="638"/>
                    </a:cubicBezTo>
                    <a:cubicBezTo>
                      <a:pt x="1864" y="678"/>
                      <a:pt x="2117" y="861"/>
                      <a:pt x="2265" y="1060"/>
                    </a:cubicBezTo>
                    <a:cubicBezTo>
                      <a:pt x="2413" y="1259"/>
                      <a:pt x="2552" y="1579"/>
                      <a:pt x="2535" y="1832"/>
                    </a:cubicBezTo>
                    <a:cubicBezTo>
                      <a:pt x="2518" y="2085"/>
                      <a:pt x="2363" y="2414"/>
                      <a:pt x="2160" y="2581"/>
                    </a:cubicBezTo>
                    <a:cubicBezTo>
                      <a:pt x="1957" y="2748"/>
                      <a:pt x="1612" y="2864"/>
                      <a:pt x="1316" y="2837"/>
                    </a:cubicBezTo>
                    <a:cubicBezTo>
                      <a:pt x="1020" y="2810"/>
                      <a:pt x="599" y="2663"/>
                      <a:pt x="382" y="2416"/>
                    </a:cubicBezTo>
                    <a:cubicBezTo>
                      <a:pt x="165" y="2169"/>
                      <a:pt x="0" y="1687"/>
                      <a:pt x="15" y="1357"/>
                    </a:cubicBezTo>
                    <a:cubicBezTo>
                      <a:pt x="30" y="1027"/>
                      <a:pt x="263" y="653"/>
                      <a:pt x="470" y="437"/>
                    </a:cubicBezTo>
                    <a:cubicBezTo>
                      <a:pt x="677" y="221"/>
                      <a:pt x="1023" y="122"/>
                      <a:pt x="1260" y="61"/>
                    </a:cubicBezTo>
                    <a:cubicBezTo>
                      <a:pt x="1497" y="0"/>
                      <a:pt x="1698" y="20"/>
                      <a:pt x="1891" y="70"/>
                    </a:cubicBezTo>
                    <a:cubicBezTo>
                      <a:pt x="2084" y="120"/>
                      <a:pt x="2273" y="235"/>
                      <a:pt x="2417" y="364"/>
                    </a:cubicBezTo>
                    <a:cubicBezTo>
                      <a:pt x="2561" y="493"/>
                      <a:pt x="2685" y="746"/>
                      <a:pt x="2755" y="846"/>
                    </a:cubicBezTo>
                  </a:path>
                </a:pathLst>
              </a:custGeom>
              <a:noFill/>
              <a:ln w="25560">
                <a:solidFill>
                  <a:srgbClr val="ffffff"/>
                </a:solidFill>
                <a:round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8" name="AutoShape 8"/>
              <p:cNvSpPr/>
              <p:nvPr/>
            </p:nvSpPr>
            <p:spPr>
              <a:xfrm>
                <a:off x="4572000" y="2781360"/>
                <a:ext cx="3313080" cy="865080"/>
              </a:xfrm>
              <a:prstGeom prst="wedgeEllipseCallout">
                <a:avLst>
                  <a:gd name="adj1" fmla="val -43481"/>
                  <a:gd name="adj2" fmla="val 75689"/>
                </a:avLst>
              </a:prstGeom>
              <a:blipFill rotWithShape="0">
                <a:blip r:embed="rId2"/>
                <a:srcRect/>
                <a:stretch/>
              </a:blip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Times New Roman"/>
                    <a:ea typeface="Arial"/>
                  </a:rPr>
                  <a:t>1. Информационное обеспечение</a:t>
                </a: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9" name="AutoShape 9"/>
              <p:cNvSpPr/>
              <p:nvPr/>
            </p:nvSpPr>
            <p:spPr>
              <a:xfrm>
                <a:off x="3130560" y="5518080"/>
                <a:ext cx="2736720" cy="1008000"/>
              </a:xfrm>
              <a:prstGeom prst="wedgeEllipseCallout">
                <a:avLst>
                  <a:gd name="adj1" fmla="val 28481"/>
                  <a:gd name="adj2" fmla="val -90314"/>
                </a:avLst>
              </a:prstGeom>
              <a:blipFill rotWithShape="0">
                <a:blip r:embed="rId3"/>
                <a:srcRect/>
                <a:stretch/>
              </a:blip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Times New Roman"/>
                    <a:ea typeface="Arial"/>
                  </a:rPr>
                  <a:t>2. Принятие решений</a:t>
                </a: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0" name="AutoShape 10"/>
              <p:cNvSpPr/>
              <p:nvPr/>
            </p:nvSpPr>
            <p:spPr>
              <a:xfrm>
                <a:off x="971640" y="1413000"/>
                <a:ext cx="3240000" cy="1008000"/>
              </a:xfrm>
              <a:prstGeom prst="wedgeEllipseCallout">
                <a:avLst>
                  <a:gd name="adj1" fmla="val 34222"/>
                  <a:gd name="adj2" fmla="val 84958"/>
                </a:avLst>
              </a:prstGeom>
              <a:blipFill rotWithShape="0">
                <a:blip r:embed="rId4"/>
                <a:srcRect/>
                <a:stretch/>
              </a:blip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Times New Roman"/>
                    <a:ea typeface="Arial"/>
                  </a:rPr>
                  <a:t>3. Реализация принятых решений</a:t>
                </a: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151" name="Line 11"/>
            <p:cNvSpPr/>
            <p:nvPr/>
          </p:nvSpPr>
          <p:spPr>
            <a:xfrm flipH="1">
              <a:off x="6238440" y="4726080"/>
              <a:ext cx="144360" cy="2887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2" name="Line 12"/>
            <p:cNvSpPr/>
            <p:nvPr/>
          </p:nvSpPr>
          <p:spPr>
            <a:xfrm flipH="1">
              <a:off x="5650920" y="4487760"/>
              <a:ext cx="71640" cy="21600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3" name="Line 13"/>
            <p:cNvSpPr/>
            <p:nvPr/>
          </p:nvSpPr>
          <p:spPr>
            <a:xfrm flipH="1">
              <a:off x="5157720" y="4165560"/>
              <a:ext cx="71280" cy="21600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4" name="Line 14"/>
            <p:cNvSpPr/>
            <p:nvPr/>
          </p:nvSpPr>
          <p:spPr>
            <a:xfrm flipH="1" flipV="1">
              <a:off x="2987280" y="5229000"/>
              <a:ext cx="144360" cy="14436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5" name="Line 15"/>
            <p:cNvSpPr/>
            <p:nvPr/>
          </p:nvSpPr>
          <p:spPr>
            <a:xfrm flipH="1" flipV="1">
              <a:off x="3695400" y="4676400"/>
              <a:ext cx="144360" cy="14436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6" name="Line 16"/>
            <p:cNvSpPr/>
            <p:nvPr/>
          </p:nvSpPr>
          <p:spPr>
            <a:xfrm flipH="1" flipV="1">
              <a:off x="4211280" y="4294080"/>
              <a:ext cx="142920" cy="21600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7" name="Line 17"/>
            <p:cNvSpPr/>
            <p:nvPr/>
          </p:nvSpPr>
          <p:spPr>
            <a:xfrm>
              <a:off x="4487760" y="1519200"/>
              <a:ext cx="14436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8" name="Line 18"/>
            <p:cNvSpPr/>
            <p:nvPr/>
          </p:nvSpPr>
          <p:spPr>
            <a:xfrm flipV="1">
              <a:off x="4427640" y="2443320"/>
              <a:ext cx="215640" cy="727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9" name="Line 19"/>
            <p:cNvSpPr/>
            <p:nvPr/>
          </p:nvSpPr>
          <p:spPr>
            <a:xfrm flipV="1">
              <a:off x="4498920" y="3357720"/>
              <a:ext cx="144360" cy="712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60" name="Прямоугольник 21"/>
          <p:cNvSpPr/>
          <p:nvPr/>
        </p:nvSpPr>
        <p:spPr>
          <a:xfrm>
            <a:off x="0" y="2602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ffff"/>
                </a:solidFill>
                <a:latin typeface="Arial"/>
                <a:ea typeface="Arial"/>
              </a:rPr>
              <a:t>Управленческий цикл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2"/>
          <p:cNvSpPr/>
          <p:nvPr/>
        </p:nvSpPr>
        <p:spPr>
          <a:xfrm>
            <a:off x="0" y="59760"/>
            <a:ext cx="9144000" cy="8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3160" indent="6120"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00ffff"/>
                </a:solidFill>
                <a:latin typeface="Arial"/>
              </a:rPr>
              <a:t>Цикл эффективного управления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  <a:p>
            <a:pPr marL="173160" indent="6120"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00ffff"/>
                </a:solidFill>
                <a:latin typeface="Arial"/>
              </a:rPr>
              <a:t>Шухарта – Деминга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3" name="Picture 3" descr="1"/>
          <p:cNvPicPr/>
          <p:nvPr/>
        </p:nvPicPr>
        <p:blipFill>
          <a:blip r:embed="rId2"/>
          <a:stretch/>
        </p:blipFill>
        <p:spPr>
          <a:xfrm>
            <a:off x="2050920" y="981000"/>
            <a:ext cx="5418360" cy="5648400"/>
          </a:xfrm>
          <a:prstGeom prst="rect">
            <a:avLst/>
          </a:prstGeom>
          <a:ln w="0">
            <a:noFill/>
          </a:ln>
        </p:spPr>
      </p:pic>
      <p:sp>
        <p:nvSpPr>
          <p:cNvPr id="164" name="Rectangle 4"/>
          <p:cNvSpPr/>
          <p:nvPr/>
        </p:nvSpPr>
        <p:spPr>
          <a:xfrm>
            <a:off x="3492360" y="1914840"/>
            <a:ext cx="19447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3160" indent="612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Был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Rectangle 5"/>
          <p:cNvSpPr/>
          <p:nvPr/>
        </p:nvSpPr>
        <p:spPr>
          <a:xfrm>
            <a:off x="3565440" y="5858280"/>
            <a:ext cx="19447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3160" indent="612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Стал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shuhart"/>
          <p:cNvPicPr/>
          <p:nvPr/>
        </p:nvPicPr>
        <p:blipFill>
          <a:blip r:embed="rId2"/>
          <a:stretch/>
        </p:blipFill>
        <p:spPr>
          <a:xfrm>
            <a:off x="250920" y="333360"/>
            <a:ext cx="3025800" cy="4464000"/>
          </a:xfrm>
          <a:prstGeom prst="rect">
            <a:avLst/>
          </a:prstGeom>
          <a:ln w="0">
            <a:noFill/>
          </a:ln>
        </p:spPr>
      </p:pic>
      <p:sp>
        <p:nvSpPr>
          <p:cNvPr id="168" name="Rectangle 4"/>
          <p:cNvSpPr/>
          <p:nvPr/>
        </p:nvSpPr>
        <p:spPr>
          <a:xfrm>
            <a:off x="3276720" y="694800"/>
            <a:ext cx="5867280" cy="36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31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ff00"/>
                </a:solidFill>
                <a:latin typeface="Tahoma"/>
              </a:rPr>
              <a:t>Уолтер Шухарт</a:t>
            </a:r>
            <a:r>
              <a:rPr b="1" lang="ru-RU" sz="2100" spc="-1" strike="noStrike">
                <a:solidFill>
                  <a:srgbClr val="ffffff"/>
                </a:solidFill>
                <a:latin typeface="Tahoma"/>
              </a:rPr>
              <a:t> (1891 – 1967) – всемирно известный американский ученый и консультант по теории управления.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1731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ffff"/>
                </a:solidFill>
                <a:latin typeface="Tahoma"/>
              </a:rPr>
              <a:t>В 1924 году предложил метод выявления отступлений от нормы и тенденций возникновения ошибок до появления некачественного продукта (применение контрольных карт), который произвели революцию в методах управления.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Rectangle 5"/>
          <p:cNvSpPr/>
          <p:nvPr/>
        </p:nvSpPr>
        <p:spPr>
          <a:xfrm>
            <a:off x="0" y="4941360"/>
            <a:ext cx="9144000" cy="13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31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ffff"/>
                </a:solidFill>
                <a:latin typeface="Tahoma"/>
              </a:rPr>
              <a:t>Во многом благодаря наработкам Шухарта была реализована статистическая концепция </a:t>
            </a:r>
            <a:r>
              <a:rPr b="1" lang="ru-RU" sz="2100" spc="-1" strike="noStrike">
                <a:solidFill>
                  <a:srgbClr val="ff9933"/>
                </a:solidFill>
                <a:latin typeface="Tahoma"/>
              </a:rPr>
              <a:t>Шесть сигма</a:t>
            </a:r>
            <a:r>
              <a:rPr b="1" lang="ru-RU" sz="21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1731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Tahoma"/>
            </a:endParaRPr>
          </a:p>
          <a:p>
            <a:pPr marL="1731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ffff"/>
                </a:solidFill>
                <a:latin typeface="Tahoma"/>
              </a:rPr>
              <a:t>Совместно с Э. Демингом предложил модель эффективного управления («</a:t>
            </a:r>
            <a:r>
              <a:rPr b="1" lang="ru-RU" sz="2100" spc="-1" strike="noStrike">
                <a:solidFill>
                  <a:srgbClr val="ffff00"/>
                </a:solidFill>
                <a:latin typeface="Tahoma"/>
              </a:rPr>
              <a:t>цикл Шухарта-Деминга</a:t>
            </a:r>
            <a:r>
              <a:rPr b="1" lang="ru-RU" sz="2100" spc="-1" strike="noStrike">
                <a:solidFill>
                  <a:srgbClr val="ffffff"/>
                </a:solidFill>
                <a:latin typeface="Tahoma"/>
              </a:rPr>
              <a:t>»).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0" y="1699920"/>
            <a:ext cx="9144000" cy="51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ru-RU" sz="3200" spc="-1" strike="noStrike">
                <a:solidFill>
                  <a:srgbClr val="ffff99"/>
                </a:solidFill>
                <a:latin typeface="Arial"/>
              </a:rPr>
              <a:t>Менеджмент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– это умение заставить других людей выполнять ту работу, которую в случае неуспеха придется выполнять тебе самому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2"/>
          <p:cNvSpPr/>
          <p:nvPr/>
        </p:nvSpPr>
        <p:spPr>
          <a:xfrm>
            <a:off x="3851280" y="195120"/>
            <a:ext cx="5292720" cy="35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3160" indent="93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00"/>
                </a:solidFill>
                <a:latin typeface="Tahoma"/>
              </a:rPr>
              <a:t>Эдвард Деминг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(1900 – 1993) – американский учёный, статистик и консультант по теории управления качеством. Наибольшую известность Деминг приобрел за свои инновационные предложения о реорганизации предприятий, широко используемые в Японии и других странах под названием «</a:t>
            </a:r>
            <a:r>
              <a:rPr b="1" lang="ru-RU" sz="1800" spc="-1" strike="noStrike">
                <a:solidFill>
                  <a:srgbClr val="ffff00"/>
                </a:solidFill>
                <a:latin typeface="Tahoma"/>
              </a:rPr>
              <a:t>бережливое производство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»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173160" indent="93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За высокое качество продуктов японской промышленности в значительной степени ответственен именно он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2" name="Picture 3" descr="deming_w_edwards_200"/>
          <p:cNvPicPr/>
          <p:nvPr/>
        </p:nvPicPr>
        <p:blipFill>
          <a:blip r:embed="rId2"/>
          <a:stretch/>
        </p:blipFill>
        <p:spPr>
          <a:xfrm>
            <a:off x="196920" y="189000"/>
            <a:ext cx="3663720" cy="4176720"/>
          </a:xfrm>
          <a:prstGeom prst="rect">
            <a:avLst/>
          </a:prstGeom>
          <a:ln w="0">
            <a:noFill/>
          </a:ln>
        </p:spPr>
      </p:pic>
      <p:sp>
        <p:nvSpPr>
          <p:cNvPr id="173" name="Rectangle 4"/>
          <p:cNvSpPr/>
          <p:nvPr/>
        </p:nvSpPr>
        <p:spPr>
          <a:xfrm>
            <a:off x="108000" y="4437360"/>
            <a:ext cx="8713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3160" indent="9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Перед окончанием второй мировой войны статистический контроль качества применялся в Японии очень мало.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В конце 40-х годов Деминг обучал японцев статистическим методам. Деминг был первым из тех, кого теперь называют «</a:t>
            </a:r>
            <a:r>
              <a:rPr b="1" lang="ru-RU" sz="1800" spc="-1" strike="noStrike">
                <a:solidFill>
                  <a:srgbClr val="ff9933"/>
                </a:solidFill>
                <a:latin typeface="Tahoma"/>
              </a:rPr>
              <a:t>американскими гуру качества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», посетивших Японию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173160" indent="9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За Демингом последовали Д. Джуран и А. Фейгенбаум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173160" indent="9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Именно они подтолкнули Японию к внедрению современных методов исследования потребительского рынк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2"/>
          <p:cNvSpPr/>
          <p:nvPr/>
        </p:nvSpPr>
        <p:spPr>
          <a:xfrm>
            <a:off x="0" y="5732640"/>
            <a:ext cx="914400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3160" indent="612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Награда выдается в виде диплома и серебряной медали с профилем Э. Деминга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6" name="Picture 3" descr="Medal_JUSE"/>
          <p:cNvPicPr/>
          <p:nvPr/>
        </p:nvPicPr>
        <p:blipFill>
          <a:blip r:embed="rId2"/>
          <a:stretch/>
        </p:blipFill>
        <p:spPr>
          <a:xfrm>
            <a:off x="2627280" y="1773360"/>
            <a:ext cx="3828960" cy="3809880"/>
          </a:xfrm>
          <a:prstGeom prst="rect">
            <a:avLst/>
          </a:prstGeom>
          <a:ln w="0">
            <a:noFill/>
          </a:ln>
        </p:spPr>
      </p:pic>
      <p:sp>
        <p:nvSpPr>
          <p:cNvPr id="177" name="Rectangle 4"/>
          <p:cNvSpPr/>
          <p:nvPr/>
        </p:nvSpPr>
        <p:spPr>
          <a:xfrm>
            <a:off x="0" y="113400"/>
            <a:ext cx="9144000" cy="15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3160" indent="612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В знак признания заслуг Э. Деминга в </a:t>
            </a:r>
            <a:r>
              <a:rPr b="1" lang="ru-RU" sz="2200" spc="-1" strike="noStrike">
                <a:solidFill>
                  <a:srgbClr val="ff9933"/>
                </a:solidFill>
                <a:latin typeface="Arial"/>
              </a:rPr>
              <a:t>1951 </a:t>
            </a: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г. в Японии была учреждена награда его имени, присуждаемая с тех пор ежегодно компаниям за выдающиеся успехи в деле повышения качества и отдельным лицам за существенный вклад в теорию и практику управления качеством.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img_0"/>
          <p:cNvPicPr/>
          <p:nvPr/>
        </p:nvPicPr>
        <p:blipFill>
          <a:blip r:embed="rId2"/>
          <a:stretch/>
        </p:blipFill>
        <p:spPr>
          <a:xfrm>
            <a:off x="971640" y="765000"/>
            <a:ext cx="7272360" cy="5929560"/>
          </a:xfrm>
          <a:prstGeom prst="rect">
            <a:avLst/>
          </a:prstGeom>
          <a:ln w="0">
            <a:noFill/>
          </a:ln>
        </p:spPr>
      </p:pic>
      <p:sp>
        <p:nvSpPr>
          <p:cNvPr id="180" name="Rectangle 3"/>
          <p:cNvSpPr/>
          <p:nvPr/>
        </p:nvSpPr>
        <p:spPr>
          <a:xfrm>
            <a:off x="0" y="0"/>
            <a:ext cx="914400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3160" indent="612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00ffff"/>
                </a:solidFill>
                <a:latin typeface="Arial"/>
              </a:rPr>
              <a:t>Модель управления качеством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179280" y="333360"/>
            <a:ext cx="896472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74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1" lang="ru-RU" sz="2600" spc="-1" strike="noStrike">
                <a:solidFill>
                  <a:srgbClr val="ffff99"/>
                </a:solidFill>
                <a:latin typeface="Arial"/>
                <a:ea typeface="Arial"/>
              </a:rPr>
              <a:t>Планирование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  <a:ea typeface="Arial"/>
              </a:rPr>
              <a:t> включает: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874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874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  <a:ea typeface="Arial"/>
              </a:rPr>
              <a:t>1. Первая часть управленческого цикла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874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  <a:ea typeface="Arial"/>
              </a:rPr>
              <a:t>(сбор, хранение, обработку, анализ информации)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874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874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  <a:ea typeface="Arial"/>
              </a:rPr>
              <a:t>2. Вторая часть управленческого цикла (разработка альтернативных решений, выбор и принятие оптимального решения)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87480">
              <a:lnSpc>
                <a:spcPct val="80000"/>
              </a:lnSpc>
              <a:spcBef>
                <a:spcPts val="2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874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1" lang="ru-RU" sz="2600" spc="-1" strike="noStrike">
                <a:solidFill>
                  <a:srgbClr val="ffff99"/>
                </a:solidFill>
                <a:latin typeface="Arial"/>
                <a:ea typeface="Arial"/>
              </a:rPr>
              <a:t>Методы планирования: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874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  <a:ea typeface="Arial"/>
              </a:rPr>
              <a:t>Аналитический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874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  <a:ea typeface="Arial"/>
              </a:rPr>
              <a:t>Нормативный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874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  <a:ea typeface="Arial"/>
              </a:rPr>
              <a:t>Бюджетный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874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  <a:ea typeface="Arial"/>
              </a:rPr>
              <a:t>Метод соотношений и пропорций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874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  <a:ea typeface="Arial"/>
              </a:rPr>
              <a:t>Эксперимента и моделирования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874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  <a:ea typeface="Arial"/>
              </a:rPr>
              <a:t>Метод системного и ситуационного подхода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874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  <a:ea typeface="Arial"/>
              </a:rPr>
              <a:t>Экономический анализ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87480">
              <a:lnSpc>
                <a:spcPct val="80000"/>
              </a:lnSpc>
              <a:spcBef>
                <a:spcPts val="6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250560" y="260280"/>
            <a:ext cx="8893080" cy="61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5400"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ru-RU" sz="3000" spc="-1" strike="noStrike">
                <a:solidFill>
                  <a:srgbClr val="ffff99"/>
                </a:solidFill>
                <a:latin typeface="Arial"/>
                <a:ea typeface="Arial"/>
              </a:rPr>
              <a:t>Организация выполнения</a:t>
            </a:r>
            <a:r>
              <a:rPr b="1" lang="ru-RU" sz="3000" spc="-1" strike="noStrike">
                <a:solidFill>
                  <a:srgbClr val="ffffff"/>
                </a:solidFill>
                <a:latin typeface="Arial"/>
                <a:ea typeface="Arial"/>
              </a:rPr>
              <a:t> направлена на создание условий для реализации принятых управленческих решений, выполнения планов и программ, обеспечение для этого финансовых, материально-технических, информационных и других ресурсов.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95400">
              <a:lnSpc>
                <a:spcPct val="100000"/>
              </a:lnSpc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1" lang="ru-RU" sz="3000" spc="-1" strike="noStrike">
                <a:solidFill>
                  <a:srgbClr val="ffff99"/>
                </a:solidFill>
                <a:latin typeface="Arial"/>
                <a:ea typeface="Arial"/>
              </a:rPr>
              <a:t>Проверка (контроль)</a:t>
            </a:r>
            <a:r>
              <a:rPr b="1" lang="ru-RU" sz="3000" spc="-1" strike="noStrike">
                <a:solidFill>
                  <a:srgbClr val="ffffff"/>
                </a:solidFill>
                <a:latin typeface="Arial"/>
                <a:ea typeface="Arial"/>
              </a:rPr>
              <a:t> – позволяет осуществлять обратную связь,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95400">
              <a:lnSpc>
                <a:spcPct val="100000"/>
              </a:lnSpc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1" lang="ru-RU" sz="3000" spc="-1" strike="noStrike">
                <a:solidFill>
                  <a:srgbClr val="ffff99"/>
                </a:solidFill>
                <a:latin typeface="Arial"/>
                <a:ea typeface="Arial"/>
              </a:rPr>
              <a:t>Действие (руководство)</a:t>
            </a:r>
            <a:r>
              <a:rPr b="1" lang="ru-RU" sz="3000" spc="-1" strike="noStrike">
                <a:solidFill>
                  <a:srgbClr val="ffffff"/>
                </a:solidFill>
                <a:latin typeface="Arial"/>
                <a:ea typeface="Arial"/>
              </a:rPr>
              <a:t> – это мотивация сотрудников для реализации управленческих решений, оно завершает цикл управления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250560" y="333000"/>
            <a:ext cx="8643960" cy="545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88560" indent="491400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аким образом, в понятие </a:t>
            </a:r>
            <a:r>
              <a:rPr b="1" lang="ru-RU" sz="3200" spc="-1" strike="noStrike">
                <a:solidFill>
                  <a:srgbClr val="ffff99"/>
                </a:solidFill>
                <a:latin typeface="Arial"/>
              </a:rPr>
              <a:t>менеджмент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включается искусство управления интеллектуальными, финансовыми, сырьевыми и материальными ресурсами в целях обеспечения наиболее эффективной производственной деятельност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88560" indent="491400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88560" indent="491400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ля </a:t>
            </a:r>
            <a:r>
              <a:rPr b="1" lang="ru-RU" sz="3200" spc="-1" strike="noStrike">
                <a:solidFill>
                  <a:srgbClr val="ff9933"/>
                </a:solidFill>
                <a:latin typeface="Arial"/>
              </a:rPr>
              <a:t>современного управления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характерны децентрализация и сосредоточение большей ответственности на низких уровнях управления, и, прежде всего, на рабочих местах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 Box 6"/>
          <p:cNvSpPr/>
          <p:nvPr/>
        </p:nvSpPr>
        <p:spPr>
          <a:xfrm>
            <a:off x="611280" y="2637000"/>
            <a:ext cx="8136000" cy="794880"/>
          </a:xfrm>
          <a:prstGeom prst="rect">
            <a:avLst/>
          </a:prstGeom>
          <a:noFill/>
          <a:ln w="0">
            <a:noFill/>
          </a:ln>
          <a:effectLst>
            <a:outerShdw dist="92520" dir="20637765" blurRad="0" rotWithShape="0">
              <a:srgbClr val="0033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600" spc="-1" strike="noStrike">
                <a:solidFill>
                  <a:srgbClr val="ffff99"/>
                </a:solidFill>
                <a:latin typeface="Tahoma"/>
              </a:rPr>
              <a:t>Благодарю за внимание!</a:t>
            </a:r>
            <a:endParaRPr b="0" lang="en-US" sz="4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6560" y="1890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ffff"/>
                </a:solidFill>
                <a:latin typeface="Tahoma"/>
              </a:rPr>
              <a:t>Рейтинг представителей различных профессий (по 100-балльной шкале)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395280" y="1484280"/>
          <a:ext cx="8229600" cy="5199120"/>
        </p:xfrm>
        <a:graphic>
          <a:graphicData uri="http://schemas.openxmlformats.org/drawingml/2006/table">
            <a:tbl>
              <a:tblPr/>
              <a:tblGrid>
                <a:gridCol w="2809800"/>
                <a:gridCol w="2676600"/>
                <a:gridCol w="2743200"/>
              </a:tblGrid>
              <a:tr h="579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9933"/>
                          </a:solidFill>
                          <a:latin typeface="Tahoma"/>
                        </a:rPr>
                        <a:t>Профессия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99ff33"/>
                          </a:solidFill>
                          <a:latin typeface="Tahoma"/>
                        </a:rPr>
                        <a:t>США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ff99"/>
                          </a:solidFill>
                          <a:latin typeface="Tahoma"/>
                        </a:rPr>
                        <a:t>Россия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учены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    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рач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     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бизнесмен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     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юрист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     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банкир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     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08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мед. сестр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     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реступные авторитет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     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роститутк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.0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2"/>
          <p:cNvSpPr/>
          <p:nvPr/>
        </p:nvSpPr>
        <p:spPr>
          <a:xfrm>
            <a:off x="0" y="5212800"/>
            <a:ext cx="9036000" cy="98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3160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ffff00"/>
                </a:solidFill>
                <a:latin typeface="Tahoma"/>
              </a:rPr>
              <a:t>«Каждая кухарка может управлять государством»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173160">
              <a:spcBef>
                <a:spcPts val="12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300" spc="-1" strike="noStrike">
                <a:solidFill>
                  <a:srgbClr val="ffff00"/>
                </a:solidFill>
                <a:latin typeface="Tahoma"/>
              </a:rPr>
              <a:t>                                                                                       </a:t>
            </a:r>
            <a:r>
              <a:rPr b="1" i="1" lang="ru-RU" sz="2300" spc="-1" strike="noStrike">
                <a:solidFill>
                  <a:srgbClr val="ffff00"/>
                </a:solidFill>
                <a:latin typeface="Tahoma"/>
              </a:rPr>
              <a:t>Ленин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3" name="Picture 5" descr="280px-Leninportrait"/>
          <p:cNvPicPr/>
          <p:nvPr/>
        </p:nvPicPr>
        <p:blipFill>
          <a:blip r:embed="rId2"/>
          <a:stretch/>
        </p:blipFill>
        <p:spPr>
          <a:xfrm>
            <a:off x="2771640" y="333360"/>
            <a:ext cx="3140280" cy="4608360"/>
          </a:xfrm>
          <a:prstGeom prst="rect">
            <a:avLst/>
          </a:prstGeom>
          <a:ln w="0">
            <a:noFill/>
          </a:ln>
        </p:spPr>
      </p:pic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0" y="189000"/>
            <a:ext cx="914400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2160" indent="53316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Успешное управление организацией требует наличия у </a:t>
            </a:r>
            <a:r>
              <a:rPr b="1" lang="ru-RU" sz="2600" spc="-1" strike="noStrike">
                <a:solidFill>
                  <a:srgbClr val="00ff00"/>
                </a:solidFill>
                <a:latin typeface="Arial"/>
              </a:rPr>
              <a:t>менеджера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 следующих навыков и способностей: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Содержимое 2"/>
          <p:cNvSpPr/>
          <p:nvPr/>
        </p:nvSpPr>
        <p:spPr>
          <a:xfrm>
            <a:off x="0" y="1413000"/>
            <a:ext cx="9144000" cy="54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47560" indent="-411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1. Способность </a:t>
            </a:r>
            <a:r>
              <a:rPr b="1" lang="ru-RU" sz="2600" spc="-1" strike="noStrike">
                <a:solidFill>
                  <a:srgbClr val="ffff99"/>
                </a:solidFill>
                <a:latin typeface="Arial"/>
              </a:rPr>
              <a:t>управлять собой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2. Разумные </a:t>
            </a:r>
            <a:r>
              <a:rPr b="1" lang="ru-RU" sz="2600" spc="-1" strike="noStrike">
                <a:solidFill>
                  <a:srgbClr val="ffff99"/>
                </a:solidFill>
                <a:latin typeface="Arial"/>
              </a:rPr>
              <a:t>личные ценности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3. Четкие </a:t>
            </a:r>
            <a:r>
              <a:rPr b="1" lang="ru-RU" sz="2600" spc="-1" strike="noStrike">
                <a:solidFill>
                  <a:srgbClr val="ffff99"/>
                </a:solidFill>
                <a:latin typeface="Arial"/>
              </a:rPr>
              <a:t>личные цели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4. Упор на постоянный </a:t>
            </a:r>
            <a:r>
              <a:rPr b="1" lang="ru-RU" sz="2600" spc="-1" strike="noStrike">
                <a:solidFill>
                  <a:srgbClr val="ffff99"/>
                </a:solidFill>
                <a:latin typeface="Arial"/>
              </a:rPr>
              <a:t>личный рост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5. Навык решать </a:t>
            </a:r>
            <a:r>
              <a:rPr b="1" lang="ru-RU" sz="2600" spc="-1" strike="noStrike">
                <a:solidFill>
                  <a:srgbClr val="ffff99"/>
                </a:solidFill>
                <a:latin typeface="Arial"/>
              </a:rPr>
              <a:t>проблемы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6. Изобретательность и способность к </a:t>
            </a:r>
            <a:r>
              <a:rPr b="1" lang="ru-RU" sz="2600" spc="-1" strike="noStrike">
                <a:solidFill>
                  <a:srgbClr val="ffff99"/>
                </a:solidFill>
                <a:latin typeface="Arial"/>
              </a:rPr>
              <a:t>инновациям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7. Высокая способность </a:t>
            </a:r>
            <a:r>
              <a:rPr b="1" lang="ru-RU" sz="2600" spc="-1" strike="noStrike">
                <a:solidFill>
                  <a:srgbClr val="ffff99"/>
                </a:solidFill>
                <a:latin typeface="Arial"/>
              </a:rPr>
              <a:t>влиять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 на окружающих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8. </a:t>
            </a:r>
            <a:r>
              <a:rPr b="1" lang="ru-RU" sz="2600" spc="-1" strike="noStrike">
                <a:solidFill>
                  <a:srgbClr val="ffff99"/>
                </a:solidFill>
                <a:latin typeface="Arial"/>
              </a:rPr>
              <a:t>Способность руководить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10. Умение </a:t>
            </a:r>
            <a:r>
              <a:rPr b="1" lang="ru-RU" sz="2600" spc="-1" strike="noStrike">
                <a:solidFill>
                  <a:srgbClr val="ffff99"/>
                </a:solidFill>
                <a:latin typeface="Arial"/>
              </a:rPr>
              <a:t>обучать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1" lang="ru-RU" sz="2600" spc="-1" strike="noStrike">
                <a:solidFill>
                  <a:srgbClr val="ffff99"/>
                </a:solidFill>
                <a:latin typeface="Arial"/>
              </a:rPr>
              <a:t>развивать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 подчиненных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11. Способность формировать и развивать эффективные </a:t>
            </a:r>
            <a:r>
              <a:rPr b="1" lang="ru-RU" sz="2600" spc="-1" strike="noStrike">
                <a:solidFill>
                  <a:srgbClr val="ffff99"/>
                </a:solidFill>
                <a:latin typeface="Arial"/>
              </a:rPr>
              <a:t>рабочие группы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12. Знание эффективных </a:t>
            </a:r>
            <a:r>
              <a:rPr b="1" lang="ru-RU" sz="2600" spc="-1" strike="noStrike">
                <a:solidFill>
                  <a:srgbClr val="ffff99"/>
                </a:solidFill>
                <a:latin typeface="Arial"/>
              </a:rPr>
              <a:t>управленческих подходов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356760" y="1285560"/>
            <a:ext cx="857268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1. Школа научного управления (1885-1930 гг.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47560" indent="-4111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2. Административная или классическая школа (1920-1950 гг.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47560" indent="-4111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3. Школа человеческих отношений (1930-1950 гг.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47560" indent="-4111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4. Математическая школа управления (с 50-х годов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XX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века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Rectangle 3"/>
          <p:cNvSpPr/>
          <p:nvPr/>
        </p:nvSpPr>
        <p:spPr>
          <a:xfrm>
            <a:off x="0" y="22320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3160" indent="612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ffff"/>
                </a:solidFill>
                <a:latin typeface="Arial"/>
              </a:rPr>
              <a:t>Школы менеджмент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0" y="1483920"/>
            <a:ext cx="914400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Основные принципы: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547560" indent="-411120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1) разработка формальной структуры организации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547560" indent="-411120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2) рациональная организация труда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547560" indent="-411120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3) сотрудничество управляющего и рабочего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547560" indent="-411120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4) разграничение исполнительных и управленческих функций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Rectangle 4"/>
          <p:cNvSpPr/>
          <p:nvPr/>
        </p:nvSpPr>
        <p:spPr>
          <a:xfrm>
            <a:off x="0" y="4042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3160" indent="612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ffff"/>
                </a:solidFill>
                <a:latin typeface="Arial"/>
              </a:rPr>
              <a:t>Школа научного управления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1T06:21:07Z</dcterms:created>
  <dc:creator>Olga Chernykh</dc:creator>
  <dc:description/>
  <dc:language>en-US</dc:language>
  <cp:lastModifiedBy>LEGION</cp:lastModifiedBy>
  <dcterms:modified xsi:type="dcterms:W3CDTF">2016-01-11T10:02:19Z</dcterms:modified>
  <cp:revision>409</cp:revision>
  <dc:subject/>
  <dc:title>Менеджмент в сестринском деле: теория и практика</dc:title>
</cp:coreProperties>
</file>