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2909-A7E6-4F85-A21A-A373A54ED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B79-EE90-48B2-9C91-34AC1E96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7BF-E14A-4714-A3F9-99349151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B17-FE80-4FF8-900F-0EF5E006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0AB-FE84-4F61-8071-C2F2141E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49F-5CCB-4195-B7E3-2C8E446F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BB1-C525-4685-B09F-E054A2A7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C40-FE87-4152-BA6D-A6996155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537-D8AD-4C4E-891F-FBBDF0DF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991-9026-41F9-84EB-98AD769B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9A1-91E2-4B9F-B45C-8C7140B1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65D-A7E7-43C8-B0F3-F6DB57C7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D99-30EB-449B-987A-2E956E21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6DD5-C6FB-4BFA-B7F8-390FB8E54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3760"/>
            <a:ext cx="856908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Информация и        коммуникация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              в управлении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3363840"/>
            <a:ext cx="590544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АФЕДРА «ФИНАНСЫ И МЕНЕДЖМЕ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Ст. преп. Канафина А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803920"/>
            <a:ext cx="8605800" cy="65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4"/>
          <p:cNvGraphicFramePr/>
          <p:nvPr/>
        </p:nvGraphicFramePr>
        <p:xfrm>
          <a:off x="4788000" y="3441600"/>
          <a:ext cx="3930480" cy="30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3441600"/>
                    <a:ext cx="39304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1042920" y="1268280"/>
            <a:ext cx="7274160" cy="3241440"/>
            <a:chOff x="1042920" y="1268280"/>
            <a:chExt cx="7274160" cy="3241440"/>
          </a:xfrm>
        </p:grpSpPr>
        <p:sp>
          <p:nvSpPr>
            <p:cNvPr id="82" name="Rectangle 4"/>
            <p:cNvSpPr/>
            <p:nvPr/>
          </p:nvSpPr>
          <p:spPr>
            <a:xfrm>
              <a:off x="1835280" y="1268280"/>
              <a:ext cx="5688000" cy="324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анал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6"/>
            <p:cNvSpPr/>
            <p:nvPr/>
          </p:nvSpPr>
          <p:spPr>
            <a:xfrm>
              <a:off x="2916360" y="2563560"/>
              <a:ext cx="352728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ообщени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>
              <a:off x="10429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"/>
            <p:cNvSpPr/>
            <p:nvPr/>
          </p:nvSpPr>
          <p:spPr>
            <a:xfrm>
              <a:off x="75247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элемент – это сам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ое передается от источника другому человеку или другим люд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н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среда, через которую передается сообщ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т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ем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ловек или группа людей, принимающие со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здание сообщ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дир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ть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ере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твёрта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шифров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ямые и обратные связ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с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конечный этап коммуникацион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дели коммун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ирокое распростра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лучила линейная модель, разработанная американским социологом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Г. Лассуэлл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включающая 5 элемен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Кто? (передаёт сообщение) – коммуник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Что? (передаётся) – сооб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Как? (осуществляется передача) – ка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Кому? (направлено сообщение) – ауди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 С каким эффектом? –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дел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еннона-Уив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2276640"/>
            <a:ext cx="194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284720" y="2276640"/>
            <a:ext cx="793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451640" y="2205000"/>
            <a:ext cx="11541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411280" y="2276640"/>
            <a:ext cx="1440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067280" y="3716280"/>
            <a:ext cx="144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651640" y="2205000"/>
            <a:ext cx="13698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19564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85128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076720" y="27082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702000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471636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Понятие, значение и классификация инфор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Коммуникационный процесс, его понятие и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Информационные технологии в управленческ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Флю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2412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51280" y="278136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124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780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50872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7308720" y="124128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7308720" y="436572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58000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385128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219564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468360" y="4365720"/>
            <a:ext cx="1511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90800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3492360" y="1700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6877080" y="17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 flipH="1">
            <a:off x="694800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H="1">
            <a:off x="52192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3564000" y="472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 flipH="1"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 flipV="1">
            <a:off x="1116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4500720" y="213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 flipV="1">
            <a:off x="4500720" y="3645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8028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иркулярная модель Шрама-Осг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780000" y="981000"/>
            <a:ext cx="172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780000" y="4724280"/>
            <a:ext cx="1728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68360" y="184464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299736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39640" y="422100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227640" y="414972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227640" y="299736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6227640" y="191628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161928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619280" y="5300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5508720" y="5300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759636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1476360" y="148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476360" y="148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5508720" y="1484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7596360" y="1484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ммуникативные бар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словия восприятия информ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395280" y="1557360"/>
            <a:ext cx="8207280" cy="4578480"/>
            <a:chOff x="395280" y="1557360"/>
            <a:chExt cx="8207280" cy="4578480"/>
          </a:xfrm>
        </p:grpSpPr>
        <p:sp>
          <p:nvSpPr>
            <p:cNvPr id="178" name="AutoShape 5"/>
            <p:cNvSpPr/>
            <p:nvPr/>
          </p:nvSpPr>
          <p:spPr>
            <a:xfrm>
              <a:off x="395280" y="1557360"/>
              <a:ext cx="8207280" cy="457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552600" y="1918440"/>
              <a:ext cx="1736280" cy="108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ЕШ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УТРЕН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2604240" y="1918440"/>
              <a:ext cx="4895640" cy="9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БОР                                                                                                  ПЕРЕДАЧА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3393360" y="2400120"/>
              <a:ext cx="2841840" cy="12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3078360" y="2882880"/>
              <a:ext cx="394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2288880" y="240012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2288880" y="252144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1026720" y="2279880"/>
              <a:ext cx="110448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710280" y="2159640"/>
              <a:ext cx="141948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сточники информаци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260424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>
              <a:off x="686628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"/>
            <p:cNvSpPr/>
            <p:nvPr/>
          </p:nvSpPr>
          <p:spPr>
            <a:xfrm>
              <a:off x="3393360" y="2882880"/>
              <a:ext cx="94572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ервичная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обработка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7"/>
            <p:cNvSpPr/>
            <p:nvPr/>
          </p:nvSpPr>
          <p:spPr>
            <a:xfrm>
              <a:off x="5287680" y="2882880"/>
              <a:ext cx="9489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8"/>
            <p:cNvSpPr/>
            <p:nvPr/>
          </p:nvSpPr>
          <p:spPr>
            <a:xfrm>
              <a:off x="4340520" y="2882880"/>
              <a:ext cx="9471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ображ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7340400" y="2400120"/>
              <a:ext cx="1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 flipH="1">
              <a:off x="6076440" y="2400120"/>
              <a:ext cx="14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2604240" y="2400120"/>
              <a:ext cx="94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2"/>
            <p:cNvSpPr/>
            <p:nvPr/>
          </p:nvSpPr>
          <p:spPr>
            <a:xfrm>
              <a:off x="7182720" y="3244320"/>
              <a:ext cx="126216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игнал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осител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7483320" y="2533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7813080" y="25214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>
              <a:off x="7182720" y="3485520"/>
              <a:ext cx="12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7970760" y="2038680"/>
              <a:ext cx="316080" cy="108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7"/>
            <p:cNvSpPr/>
            <p:nvPr/>
          </p:nvSpPr>
          <p:spPr>
            <a:xfrm>
              <a:off x="2763000" y="4208400"/>
              <a:ext cx="4897080" cy="9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ЫДАЧА                                                                                          ПРИЕМ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8"/>
            <p:cNvSpPr/>
            <p:nvPr/>
          </p:nvSpPr>
          <p:spPr>
            <a:xfrm>
              <a:off x="3867480" y="4690080"/>
              <a:ext cx="2842920" cy="84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9"/>
            <p:cNvSpPr/>
            <p:nvPr/>
          </p:nvSpPr>
          <p:spPr>
            <a:xfrm>
              <a:off x="2763000" y="4690080"/>
              <a:ext cx="11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0"/>
            <p:cNvSpPr/>
            <p:nvPr/>
          </p:nvSpPr>
          <p:spPr>
            <a:xfrm>
              <a:off x="6708600" y="4690080"/>
              <a:ext cx="9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1"/>
            <p:cNvSpPr/>
            <p:nvPr/>
          </p:nvSpPr>
          <p:spPr>
            <a:xfrm>
              <a:off x="7970760" y="384696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2"/>
            <p:cNvSpPr/>
            <p:nvPr/>
          </p:nvSpPr>
          <p:spPr>
            <a:xfrm flipH="1">
              <a:off x="7655400" y="493128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3"/>
            <p:cNvSpPr/>
            <p:nvPr/>
          </p:nvSpPr>
          <p:spPr>
            <a:xfrm>
              <a:off x="8114040" y="3955680"/>
              <a:ext cx="330840" cy="108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5761440" y="4690080"/>
              <a:ext cx="94680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е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3867480" y="4690080"/>
              <a:ext cx="94464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вер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4814640" y="4690080"/>
              <a:ext cx="94464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710280" y="4569840"/>
              <a:ext cx="1735920" cy="48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спользовани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8"/>
            <p:cNvSpPr/>
            <p:nvPr/>
          </p:nvSpPr>
          <p:spPr>
            <a:xfrm flipH="1">
              <a:off x="2446560" y="4810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4972320" y="3725640"/>
              <a:ext cx="205164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МЕХ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0"/>
            <p:cNvSpPr/>
            <p:nvPr/>
          </p:nvSpPr>
          <p:spPr>
            <a:xfrm flipV="1">
              <a:off x="6866280" y="3364200"/>
              <a:ext cx="31536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1"/>
            <p:cNvSpPr/>
            <p:nvPr/>
          </p:nvSpPr>
          <p:spPr>
            <a:xfrm>
              <a:off x="6866280" y="372564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6516720" y="404640"/>
          <a:ext cx="2627280" cy="22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404640"/>
                    <a:ext cx="262728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некоторы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веден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данны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имеющих практическое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нформацион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формационная 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истемно-организованна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ость операций, выполняемых над информаци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использованием средств и методов автом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468360" y="2205000"/>
            <a:ext cx="8207280" cy="4000680"/>
            <a:chOff x="468360" y="2205000"/>
            <a:chExt cx="8207280" cy="4000680"/>
          </a:xfrm>
        </p:grpSpPr>
        <p:sp>
          <p:nvSpPr>
            <p:cNvPr id="236" name="AutoShape 5"/>
            <p:cNvSpPr/>
            <p:nvPr/>
          </p:nvSpPr>
          <p:spPr>
            <a:xfrm>
              <a:off x="468360" y="2205000"/>
              <a:ext cx="8207280" cy="40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"/>
            <p:cNvSpPr/>
            <p:nvPr/>
          </p:nvSpPr>
          <p:spPr>
            <a:xfrm>
              <a:off x="3056400" y="3233520"/>
              <a:ext cx="268308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МЕТОДЫ СВЯЗ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7"/>
            <p:cNvSpPr/>
            <p:nvPr/>
          </p:nvSpPr>
          <p:spPr>
            <a:xfrm>
              <a:off x="5834520" y="2433600"/>
              <a:ext cx="26834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КОМПЬЮТЕРЫ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>
              <a:off x="468360" y="2433600"/>
              <a:ext cx="32198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БЫЧНЫЕ СРЕДСТВ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 flipH="1">
              <a:off x="2203920" y="2205000"/>
              <a:ext cx="22093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473004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ЕЧАТЬ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1"/>
            <p:cNvSpPr/>
            <p:nvPr/>
          </p:nvSpPr>
          <p:spPr>
            <a:xfrm>
              <a:off x="4730040" y="483408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КУСТИЧЕСКАЯ ПЕРЕДАЧ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"/>
            <p:cNvSpPr/>
            <p:nvPr/>
          </p:nvSpPr>
          <p:spPr>
            <a:xfrm>
              <a:off x="783360" y="4148280"/>
              <a:ext cx="363024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ЛИЧНОЕ ОБЩ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4730040" y="55198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ЛЕКТРОННАЯ ПОЧ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>
              <a:off x="4730040" y="517680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УДИОВИЗУАЛЬНАЯ ТЕХНИ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5"/>
            <p:cNvSpPr/>
            <p:nvPr/>
          </p:nvSpPr>
          <p:spPr>
            <a:xfrm>
              <a:off x="78336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ГРУППОВАЯ БЕСЕД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6"/>
            <p:cNvSpPr/>
            <p:nvPr/>
          </p:nvSpPr>
          <p:spPr>
            <a:xfrm>
              <a:off x="783360" y="48340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НФЕРЕНЦИЯ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7"/>
            <p:cNvSpPr/>
            <p:nvPr/>
          </p:nvSpPr>
          <p:spPr>
            <a:xfrm>
              <a:off x="4730040" y="41482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ЕЛЕКОММУНИКАЦИ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2741040" y="3690360"/>
              <a:ext cx="15782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4319640" y="3690360"/>
              <a:ext cx="20516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Line 20"/>
          <p:cNvSpPr/>
          <p:nvPr/>
        </p:nvSpPr>
        <p:spPr>
          <a:xfrm flipH="1">
            <a:off x="2195280" y="1557360"/>
            <a:ext cx="23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572000" y="1557360"/>
            <a:ext cx="2448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57200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бор и регистрац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машинном носителе, вдокуме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информацион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 и реги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едач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аналы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ений с обратным преобраз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ботк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в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и 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ображ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ранение, поис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ача и актуа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нализ, 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ход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1628640"/>
          <a:ext cx="8229600" cy="4583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655640"/>
                <a:gridCol w="2098800"/>
              </a:tblGrid>
              <a:tr h="113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информ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ко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не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ивные ожида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ивные ощуще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ы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91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1125360"/>
          <a:ext cx="8280360" cy="5737320"/>
        </p:xfrm>
        <a:graphic>
          <a:graphicData uri="http://schemas.openxmlformats.org/drawingml/2006/table">
            <a:tbl>
              <a:tblPr/>
              <a:tblGrid>
                <a:gridCol w="3591000"/>
                <a:gridCol w="4689360"/>
              </a:tblGrid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бще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ивная, справочно-информацио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целево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овая, отчетно-статистическая, научно-техническая, административна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характеру носителей информац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ированная, (отчеты, справки) недокумент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епени обработ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ная, Первичная, втори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сточнику поступ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, внешня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правлению движ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ящая, исходящ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ериодич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ическая, разов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форме представ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ьменная и устная, цифровая, буквенная, код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сыщен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ая, недостаточная, избыто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137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ммуникация и коммуникационный проц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щение людей в процессе совместной деятельности, обмен информацией, идеями, мыс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онный проце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ырех элеме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оходит чере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сть стад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ис. 1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1:46:36Z</dcterms:created>
  <dc:creator>Tyrex</dc:creator>
  <dc:description/>
  <dc:language>en-US</dc:language>
  <cp:lastModifiedBy>LEGION</cp:lastModifiedBy>
  <dcterms:modified xsi:type="dcterms:W3CDTF">2016-01-11T10:01:57Z</dcterms:modified>
  <cp:revision>70</cp:revision>
  <dc:subject/>
  <dc:title>Информация и коммуникация в управлении</dc:title>
</cp:coreProperties>
</file>