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8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F14F-8D4B-4A35-8D68-4446DB417D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886-6B69-47F2-8115-029B6B12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265-1891-4A19-BC18-19E84151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6D7-BBC7-4A90-BFDE-D73B77CF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34F-E11F-4E5E-A68E-345EF56F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237-8DD0-4995-8C26-AF5D7DD6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A79-1C65-4B69-9AE4-9A50FD7E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41B-9E35-4395-8FD2-01AD3381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2CC-1F1E-4190-91C0-880404A5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721-F5DE-4FF6-A0F4-3F4FCA46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15B-DDD4-46B2-A24B-390086B6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2EBE-96B6-4B1F-A386-CD99BB7C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624-D22E-4CDD-9CDF-35FC051B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9EA4-6FE7-4D04-9ED3-FA08038B3F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[10]"/>
          <p:cNvPicPr/>
          <p:nvPr/>
        </p:nvPicPr>
        <p:blipFill>
          <a:blip r:embed="rId1"/>
          <a:stretch/>
        </p:blipFill>
        <p:spPr>
          <a:xfrm>
            <a:off x="5580000" y="3429000"/>
            <a:ext cx="2395440" cy="27734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nezn_p"/>
          <p:cNvPicPr/>
          <p:nvPr/>
        </p:nvPicPr>
        <p:blipFill>
          <a:blip r:embed="rId1"/>
          <a:stretch/>
        </p:blipFill>
        <p:spPr>
          <a:xfrm>
            <a:off x="6084720" y="2421000"/>
            <a:ext cx="2516400" cy="377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j0292020"/>
          <p:cNvPicPr/>
          <p:nvPr/>
        </p:nvPicPr>
        <p:blipFill>
          <a:blip r:embed="rId1"/>
          <a:stretch/>
        </p:blipFill>
        <p:spPr>
          <a:xfrm>
            <a:off x="5364000" y="3141720"/>
            <a:ext cx="3456000" cy="327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mobile"/>
          <p:cNvPicPr/>
          <p:nvPr/>
        </p:nvPicPr>
        <p:blipFill>
          <a:blip r:embed="rId2"/>
          <a:stretch/>
        </p:blipFill>
        <p:spPr>
          <a:xfrm>
            <a:off x="900000" y="4221000"/>
            <a:ext cx="1051200" cy="1989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kpk"/>
          <p:cNvPicPr/>
          <p:nvPr/>
        </p:nvPicPr>
        <p:blipFill>
          <a:blip r:embed="rId3"/>
          <a:stretch/>
        </p:blipFill>
        <p:spPr>
          <a:xfrm>
            <a:off x="2987640" y="4437000"/>
            <a:ext cx="1701720" cy="17017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Y"/>
          <p:cNvPicPr/>
          <p:nvPr/>
        </p:nvPicPr>
        <p:blipFill>
          <a:blip r:embed="rId1"/>
          <a:stretch/>
        </p:blipFill>
        <p:spPr>
          <a:xfrm>
            <a:off x="6372360" y="3068640"/>
            <a:ext cx="2282760" cy="342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GBOOK01"/>
          <p:cNvPicPr/>
          <p:nvPr/>
        </p:nvPicPr>
        <p:blipFill>
          <a:blip r:embed="rId1"/>
          <a:stretch/>
        </p:blipFill>
        <p:spPr>
          <a:xfrm>
            <a:off x="4767120" y="5024520"/>
            <a:ext cx="4376880" cy="18334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24000" y="162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2400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24000" y="306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24000" y="38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2400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24000" y="5445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5219640" y="566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9640" y="494172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219640" y="422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219640" y="278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5219640" y="20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5219640" y="134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3780000" y="1844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3780000" y="1844640"/>
            <a:ext cx="143964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3780000" y="2637000"/>
            <a:ext cx="1439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3780000" y="3357720"/>
            <a:ext cx="14396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V="1">
            <a:off x="3780000" y="2349000"/>
            <a:ext cx="143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3780000" y="4149720"/>
            <a:ext cx="1439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 flipV="1">
            <a:off x="3780000" y="1628280"/>
            <a:ext cx="143964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3780000" y="1628640"/>
            <a:ext cx="1439640" cy="410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219640" y="5805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219640" y="5229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521964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19640" y="4076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5219640" y="292428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521964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5219640" y="1773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5219640" y="1197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826920" y="2781360"/>
            <a:ext cx="309744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 flipV="1">
            <a:off x="3924360" y="1413000"/>
            <a:ext cx="129528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3924360" y="2133720"/>
            <a:ext cx="129528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 flipV="1">
            <a:off x="3924360" y="2637000"/>
            <a:ext cx="12952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924360" y="3141720"/>
            <a:ext cx="1295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924360" y="350028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>
            <a:off x="3924360" y="3573360"/>
            <a:ext cx="1295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924360" y="3573360"/>
            <a:ext cx="129528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3924360" y="3573360"/>
            <a:ext cx="12952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3"/>
          <p:cNvSpPr/>
          <p:nvPr/>
        </p:nvSpPr>
        <p:spPr>
          <a:xfrm>
            <a:off x="5003640" y="4005360"/>
            <a:ext cx="3889440" cy="718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8360" y="191628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8360" y="3213000"/>
            <a:ext cx="3382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68360" y="450864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932360" y="191628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932360" y="450864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932360" y="3213000"/>
            <a:ext cx="3598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3851280" y="2565360"/>
            <a:ext cx="10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3851280" y="3789360"/>
            <a:ext cx="1081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3851280" y="2421000"/>
            <a:ext cx="108108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3492360" y="2349360"/>
            <a:ext cx="223200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843280" y="3068640"/>
            <a:ext cx="3313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3060720" y="3789360"/>
            <a:ext cx="3025800" cy="1008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835280" y="4869000"/>
            <a:ext cx="25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932360" y="4869000"/>
            <a:ext cx="244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3348000" y="5950080"/>
            <a:ext cx="25192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500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6084720" y="4292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2556000" y="4292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255600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6732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255600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673272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2556000" y="573408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4643280" y="5734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457200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2321280" y="39528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6353280" y="39528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4859280" y="126828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859280" y="2060640"/>
            <a:ext cx="36734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859280" y="278136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859280" y="350028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859280" y="422100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859280" y="494172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4859280" y="566100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665964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65964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65964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6659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665964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6659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1187280" y="220500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1187280" y="321300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4859280" y="321300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2700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43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1187280" y="429264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1187280" y="530064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4859280" y="530064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>
            <a:off x="270036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644364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2382638[1]"/>
          <p:cNvPicPr/>
          <p:nvPr/>
        </p:nvPicPr>
        <p:blipFill>
          <a:blip r:embed="rId1"/>
          <a:stretch/>
        </p:blipFill>
        <p:spPr>
          <a:xfrm>
            <a:off x="2556000" y="2781360"/>
            <a:ext cx="401004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дно из самых важных действий, которые осуществляет в своей жизни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[9]"/>
          <p:cNvPicPr/>
          <p:nvPr/>
        </p:nvPicPr>
        <p:blipFill>
          <a:blip r:embed="rId1"/>
          <a:stretch/>
        </p:blipFill>
        <p:spPr>
          <a:xfrm>
            <a:off x="826920" y="2781360"/>
            <a:ext cx="2953080" cy="19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3dsmax_new_image001"/>
          <p:cNvPicPr/>
          <p:nvPr/>
        </p:nvPicPr>
        <p:blipFill>
          <a:blip r:embed="rId2"/>
          <a:stretch/>
        </p:blipFill>
        <p:spPr>
          <a:xfrm>
            <a:off x="5508720" y="2852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0215086"/>
          <p:cNvPicPr/>
          <p:nvPr/>
        </p:nvPicPr>
        <p:blipFill>
          <a:blip r:embed="rId3"/>
          <a:stretch/>
        </p:blipFill>
        <p:spPr>
          <a:xfrm>
            <a:off x="3708360" y="4005360"/>
            <a:ext cx="1660680" cy="26002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1 (11)"/>
          <p:cNvPicPr/>
          <p:nvPr/>
        </p:nvPicPr>
        <p:blipFill>
          <a:blip r:embed="rId1"/>
          <a:stretch/>
        </p:blipFill>
        <p:spPr>
          <a:xfrm>
            <a:off x="3851280" y="3274920"/>
            <a:ext cx="4782960" cy="358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1 (9)"/>
          <p:cNvPicPr/>
          <p:nvPr/>
        </p:nvPicPr>
        <p:blipFill>
          <a:blip r:embed="rId2"/>
          <a:stretch/>
        </p:blipFill>
        <p:spPr>
          <a:xfrm>
            <a:off x="395280" y="2421000"/>
            <a:ext cx="4406760" cy="3300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j0285360"/>
          <p:cNvPicPr/>
          <p:nvPr/>
        </p:nvPicPr>
        <p:blipFill>
          <a:blip r:embed="rId1"/>
          <a:stretch/>
        </p:blipFill>
        <p:spPr>
          <a:xfrm>
            <a:off x="6084720" y="3357720"/>
            <a:ext cx="2840040" cy="350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54:03Z</dcterms:created>
  <dc:creator>Pacha</dc:creator>
  <dc:description/>
  <dc:language>en-US</dc:language>
  <cp:lastModifiedBy>LEGION</cp:lastModifiedBy>
  <dcterms:modified xsi:type="dcterms:W3CDTF">2016-01-11T10:01:49Z</dcterms:modified>
  <cp:revision>17</cp:revision>
  <dc:subject/>
  <dc:title>Информационное управление</dc:title>
</cp:coreProperties>
</file>