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8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12.png" ContentType="image/png"/>
  <Override PartName="/ppt/media/image15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60B8-EB55-4F59-B5BF-7F401C8F0A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5.04.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05.04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Каждый человек управляет сам собой – своим пове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Каждый человек управляет сам собой – своим повед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Человек может управлять компьютером и различными 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Человек может управлять компьютером и различными 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целенаправленное 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мог правильно, а главное, эффективно управлять каким-либо объектом, у него обязательно должна быть ц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сформулировать цели управления некоторыми объе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целенаправленн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еловек мог правильно, а главное, эффективно управлять каким-либо объектом, у него обязательно должна быть ц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робуйте сформулировать цели управления некоторыми объек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безопас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ть или произвести продукты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иться от непогоды (построить дом, сшить одежд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ить полезный гру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овать свою мечту, идею, 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ть безопас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ыть или произвести продукты 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иться от непогоды (построить дом, сшить одежд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вить полезный гру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овать свою мечту, идею, 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 – действия с информ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 – действия с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 –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– это сигналы из внешнего мира, которы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человек воспринимает информ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 –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– это сигналы из внешнего мира, которы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еловек воспринимает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примеры стр.1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же зависит выбор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римеры стр.14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чего же зависит выбор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ого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з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зависит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енного оп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з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2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иж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у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й 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кора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предприят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распис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оркест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шко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солд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уче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2 №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иж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у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ный 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кора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предприят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расписа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оркест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школ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солд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учени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3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ыми 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шинами и механиз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здами и плане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ми люд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м со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выми 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м и группам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мо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3 №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ми 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шинами и механиз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ездами и плане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ми людь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им соб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живыми 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м и группами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мож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сти понятие информационн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на примерах, что управление – это целенаправленный проц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цел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объекты, которыми можно управлять и которыми нельзя упра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сти понятие информационн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ь на примерах, что управление – это целенаправленный проце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цели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бъекты, которыми можно управлять и которыми нельзя упра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3 №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управл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ой, людьм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, хран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, передача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беспеч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ю жизнь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направлен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3 №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управля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ой, людьм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ж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, хране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, передач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обеспеч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жизн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направлен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 зад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54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55 №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 зад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54 №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55 №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зи в виде блок-схемы алгоритм перехода улицы со светоф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 на светоф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фор зеле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и ули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зи в виде блок-схемы алгоритм перехода улицы со светоф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 на светоф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етофор зелены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и ули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ы объектов, которыми можно упра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ы объектов, которыми нельзя управлять. Как ты думаешь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й целью люди управляют объект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 полученной информации, которая повлияла на твое по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можно упра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нельзя управлять. Как ты думаешь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й целью люди управляют объект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 полученной информации, которая повлияла на твое пове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с.141 – 146 (читать), с. 147 – ответить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тетрадь: с.52 №1, с. 56 №10, с.51 №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: с.141 – 146 (читать), с. 147 – ответить на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тетрадь: с.52 №1, с. 56 №10, с.51 №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50 №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объ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его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ть существенные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рать материал для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ить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. 50 №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вать его при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рать существенные при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брать материал для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готовить мо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50 №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лгоритмов по способу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лгоритмов по последова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я кома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етв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. 50 №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лгоритмов по способу запи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с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лгоритмов по последова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ия кома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ей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етв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одно из самых важных действий, которые осуществляет в своей жизни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или кем может управлять челов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это одно из самых важных действий, которые осуществляет в своей жизни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или кем может управлять челове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Человек может управлять самолетом, машиной, корабле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Человек может управлять самолетом, машиной, корабле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Учитель управляет класс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Учитель управляет клас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Директор управляет школой, предприятием, зав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Дирижер управляет оркест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Командир – солд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Директор управляет школой, предприятием, заво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Дирижер управляет оркест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Командир – солд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FF2-82C7-4350-8040-2B5B1057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2599-C87D-4C0E-9836-C30373F3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027D-A978-4D6D-A186-E7AC5CB1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ECD5-5B2A-43EF-983C-9E101F81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8E2-E593-4650-8B15-59D1B22C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F1E-DE2D-40CD-9F76-AF23901D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DFE2-6BCB-4D00-B205-9BFCADEC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ACD5-0DB4-48DA-AE20-F57AEB38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78BC-8102-4EF1-B75A-3E03A06D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42FA-1602-45C8-8064-F9061092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F1E-8063-4254-9241-CE323BB0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ED1A-3879-4F26-B79E-506019C9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1BF3-AD68-44B2-8B89-8D7CB61A9E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5.0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[10]"/>
          <p:cNvPicPr/>
          <p:nvPr/>
        </p:nvPicPr>
        <p:blipFill>
          <a:blip r:embed="rId1"/>
          <a:stretch/>
        </p:blipFill>
        <p:spPr>
          <a:xfrm>
            <a:off x="5580000" y="3429000"/>
            <a:ext cx="2395440" cy="277344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Каждый человек управляет сам собой – своим повед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nezn_p"/>
          <p:cNvPicPr/>
          <p:nvPr/>
        </p:nvPicPr>
        <p:blipFill>
          <a:blip r:embed="rId1"/>
          <a:stretch/>
        </p:blipFill>
        <p:spPr>
          <a:xfrm>
            <a:off x="6084720" y="2421000"/>
            <a:ext cx="2516400" cy="37767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Человек может управлять компьютером и различными техническими устр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j0292020"/>
          <p:cNvPicPr/>
          <p:nvPr/>
        </p:nvPicPr>
        <p:blipFill>
          <a:blip r:embed="rId1"/>
          <a:stretch/>
        </p:blipFill>
        <p:spPr>
          <a:xfrm>
            <a:off x="5364000" y="3141720"/>
            <a:ext cx="3456000" cy="327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mobile"/>
          <p:cNvPicPr/>
          <p:nvPr/>
        </p:nvPicPr>
        <p:blipFill>
          <a:blip r:embed="rId2"/>
          <a:stretch/>
        </p:blipFill>
        <p:spPr>
          <a:xfrm>
            <a:off x="900000" y="4221000"/>
            <a:ext cx="1051200" cy="1989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kpk"/>
          <p:cNvPicPr/>
          <p:nvPr/>
        </p:nvPicPr>
        <p:blipFill>
          <a:blip r:embed="rId3"/>
          <a:stretch/>
        </p:blipFill>
        <p:spPr>
          <a:xfrm>
            <a:off x="2987640" y="4437000"/>
            <a:ext cx="1701720" cy="17017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ие – целенаправленное дей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человек мог правильно, а главное, эффективно управлять каким-либо объектом, у него обязательно должна бы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обуйте сформулировать цели управления некоторыми объек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ить безопас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ыть или произвести продукты 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иться от непогоды (построить дом, сшить одежд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авить полезный гр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овать свою мечту, идею,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основе управления – действия с информаци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NY"/>
          <p:cNvPicPr/>
          <p:nvPr/>
        </p:nvPicPr>
        <p:blipFill>
          <a:blip r:embed="rId1"/>
          <a:stretch/>
        </p:blipFill>
        <p:spPr>
          <a:xfrm>
            <a:off x="6372360" y="3068640"/>
            <a:ext cx="2282760" cy="34243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основе управления – информац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 – это сигналы из внешнего мира, которые управляют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человек воспринимает информац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м примеры стр.14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чего же зависит выбор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ор зависит о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ого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енн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возз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GBOOK01"/>
          <p:cNvPicPr/>
          <p:nvPr/>
        </p:nvPicPr>
        <p:blipFill>
          <a:blip r:embed="rId1"/>
          <a:stretch/>
        </p:blipFill>
        <p:spPr>
          <a:xfrm>
            <a:off x="4767120" y="5024520"/>
            <a:ext cx="4376880" cy="18334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2 №2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24000" y="1628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24000" y="2349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иж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24000" y="3068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у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24000" y="3860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нд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24000" y="4653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24000" y="5445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5219640" y="5661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кора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219640" y="494172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предприят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219640" y="4221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распис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219640" y="350028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оркест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219640" y="2781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шко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5219640" y="2060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солда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5219640" y="1341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уче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3780000" y="184464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3780000" y="1844640"/>
            <a:ext cx="143964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3780000" y="2637000"/>
            <a:ext cx="1439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3780000" y="3357720"/>
            <a:ext cx="143964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1"/>
          <p:cNvSpPr/>
          <p:nvPr/>
        </p:nvSpPr>
        <p:spPr>
          <a:xfrm flipV="1">
            <a:off x="3780000" y="2349000"/>
            <a:ext cx="1439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3780000" y="4149720"/>
            <a:ext cx="14396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"/>
          <p:cNvSpPr/>
          <p:nvPr/>
        </p:nvSpPr>
        <p:spPr>
          <a:xfrm flipV="1">
            <a:off x="3780000" y="1628280"/>
            <a:ext cx="143964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4"/>
          <p:cNvSpPr/>
          <p:nvPr/>
        </p:nvSpPr>
        <p:spPr>
          <a:xfrm flipV="1">
            <a:off x="3780000" y="1628640"/>
            <a:ext cx="1439640" cy="410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3 №3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219640" y="5805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ят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219640" y="522936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ыми о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5219640" y="4653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шинами и механиз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219640" y="4076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ездами и плане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5219640" y="350028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ми люд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5219640" y="292428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им с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5219640" y="2349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живыми о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5219640" y="177336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ом и группами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5219640" y="1197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ими устройст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826920" y="2781360"/>
            <a:ext cx="309744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мо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 flipV="1">
            <a:off x="3924360" y="1413000"/>
            <a:ext cx="129528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 flipV="1">
            <a:off x="3924360" y="2133720"/>
            <a:ext cx="1295280" cy="13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 flipV="1">
            <a:off x="3924360" y="2637000"/>
            <a:ext cx="129528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 flipV="1">
            <a:off x="3924360" y="3141720"/>
            <a:ext cx="1295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924360" y="350028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>
            <a:off x="3924360" y="3573360"/>
            <a:ext cx="12952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3924360" y="3573360"/>
            <a:ext cx="129528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3924360" y="3573360"/>
            <a:ext cx="12952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3"/>
          <p:cNvSpPr/>
          <p:nvPr/>
        </p:nvSpPr>
        <p:spPr>
          <a:xfrm>
            <a:off x="5003640" y="4005360"/>
            <a:ext cx="3889440" cy="7189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и задач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сти понятие информационного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ь на примерах, что управление – это целенаправленный проце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цели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объекты, которыми можно управлять и которыми нельзя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3 №4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68360" y="1916280"/>
            <a:ext cx="3382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68360" y="3213000"/>
            <a:ext cx="33829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управля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ой, людь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68360" y="4508640"/>
            <a:ext cx="3382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е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932360" y="1916280"/>
            <a:ext cx="3598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, хран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, передач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4932360" y="4508640"/>
            <a:ext cx="3598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обеспеч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ю жизнь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932360" y="3213000"/>
            <a:ext cx="35989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енаправле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3851280" y="2565360"/>
            <a:ext cx="1081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"/>
          <p:cNvSpPr/>
          <p:nvPr/>
        </p:nvSpPr>
        <p:spPr>
          <a:xfrm>
            <a:off x="3851280" y="3789360"/>
            <a:ext cx="1081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2"/>
          <p:cNvSpPr/>
          <p:nvPr/>
        </p:nvSpPr>
        <p:spPr>
          <a:xfrm flipV="1">
            <a:off x="3851280" y="2421000"/>
            <a:ext cx="108108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 зад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54 №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55 №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ази в виде блок-схемы алгоритм перехода улицы со светоф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3492360" y="2349360"/>
            <a:ext cx="223200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843280" y="3068640"/>
            <a:ext cx="3313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и на светоф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3060720" y="3789360"/>
            <a:ext cx="3025800" cy="10080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фор зелены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835280" y="4869000"/>
            <a:ext cx="2555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и ул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932360" y="4869000"/>
            <a:ext cx="2448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3348000" y="5950080"/>
            <a:ext cx="25192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4500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6084720" y="4292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2556000" y="4292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255600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673272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2556000" y="551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6732720" y="551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2556000" y="573408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4643280" y="5734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>
            <a:off x="457200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2321280" y="395280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6353280" y="39528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можно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нельзя управлять. Как ты думаешь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ой целью люди управляют объект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 полученной информации, которая повлияла на твое по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: с.141 – 146 (читать), с. 147 – ответить на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ая тетрадь: с.52 №1, с. 56 №10, с.51 №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50 №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4859280" y="1268280"/>
            <a:ext cx="3673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859280" y="2060640"/>
            <a:ext cx="36734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еть о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859280" y="2781360"/>
            <a:ext cx="3673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ть его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859280" y="3500280"/>
            <a:ext cx="36734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рать существенные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859280" y="4221000"/>
            <a:ext cx="3673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обрать материал для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859280" y="4941720"/>
            <a:ext cx="36734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готовить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4859280" y="5661000"/>
            <a:ext cx="3673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665964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65964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65964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665964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665964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8"/>
          <p:cNvSpPr/>
          <p:nvPr/>
        </p:nvSpPr>
        <p:spPr>
          <a:xfrm>
            <a:off x="6659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50 №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1187280" y="2205000"/>
            <a:ext cx="6985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алгоритмов по способу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1187280" y="3213000"/>
            <a:ext cx="302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9"/>
          <p:cNvSpPr/>
          <p:nvPr/>
        </p:nvSpPr>
        <p:spPr>
          <a:xfrm>
            <a:off x="4859280" y="3213000"/>
            <a:ext cx="3313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27003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6443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1187280" y="4292640"/>
            <a:ext cx="6985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алгоритмов по последова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ения кома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1187280" y="5300640"/>
            <a:ext cx="302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е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4"/>
          <p:cNvSpPr/>
          <p:nvPr/>
        </p:nvSpPr>
        <p:spPr>
          <a:xfrm>
            <a:off x="4859280" y="5300640"/>
            <a:ext cx="3313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ветв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>
            <a:off x="2700360" y="494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>
            <a:off x="6443640" y="494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2382638[1]"/>
          <p:cNvPicPr/>
          <p:nvPr/>
        </p:nvPicPr>
        <p:blipFill>
          <a:blip r:embed="rId1"/>
          <a:stretch/>
        </p:blipFill>
        <p:spPr>
          <a:xfrm>
            <a:off x="2556000" y="2781360"/>
            <a:ext cx="4010040" cy="38098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дно из самых важных действий, которые осуществляет в своей жизни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или кем может управлять челов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Человек может управлять самолетом, машиной, кораблем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[9]"/>
          <p:cNvPicPr/>
          <p:nvPr/>
        </p:nvPicPr>
        <p:blipFill>
          <a:blip r:embed="rId1"/>
          <a:stretch/>
        </p:blipFill>
        <p:spPr>
          <a:xfrm>
            <a:off x="826920" y="2781360"/>
            <a:ext cx="2953080" cy="196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3dsmax_new_image001"/>
          <p:cNvPicPr/>
          <p:nvPr/>
        </p:nvPicPr>
        <p:blipFill>
          <a:blip r:embed="rId2"/>
          <a:stretch/>
        </p:blipFill>
        <p:spPr>
          <a:xfrm>
            <a:off x="5508720" y="28526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j0215086"/>
          <p:cNvPicPr/>
          <p:nvPr/>
        </p:nvPicPr>
        <p:blipFill>
          <a:blip r:embed="rId3"/>
          <a:stretch/>
        </p:blipFill>
        <p:spPr>
          <a:xfrm>
            <a:off x="3708360" y="4005360"/>
            <a:ext cx="1660680" cy="26002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Учитель управляет клас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1 (11)"/>
          <p:cNvPicPr/>
          <p:nvPr/>
        </p:nvPicPr>
        <p:blipFill>
          <a:blip r:embed="rId1"/>
          <a:stretch/>
        </p:blipFill>
        <p:spPr>
          <a:xfrm>
            <a:off x="3851280" y="3274920"/>
            <a:ext cx="4782960" cy="3583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1 (9)"/>
          <p:cNvPicPr/>
          <p:nvPr/>
        </p:nvPicPr>
        <p:blipFill>
          <a:blip r:embed="rId2"/>
          <a:stretch/>
        </p:blipFill>
        <p:spPr>
          <a:xfrm>
            <a:off x="395280" y="2421000"/>
            <a:ext cx="4406760" cy="33004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Директор управляет школой, предприятием, заво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Дирижер управляет оркест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Командир – солда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j0285360"/>
          <p:cNvPicPr/>
          <p:nvPr/>
        </p:nvPicPr>
        <p:blipFill>
          <a:blip r:embed="rId1"/>
          <a:stretch/>
        </p:blipFill>
        <p:spPr>
          <a:xfrm>
            <a:off x="6084720" y="3357720"/>
            <a:ext cx="2840040" cy="3500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5:54:03Z</dcterms:created>
  <dc:creator>Pacha</dc:creator>
  <dc:description/>
  <dc:language>en-US</dc:language>
  <cp:lastModifiedBy>LEGION</cp:lastModifiedBy>
  <dcterms:modified xsi:type="dcterms:W3CDTF">2016-01-11T10:01:49Z</dcterms:modified>
  <cp:revision>17</cp:revision>
  <dc:subject/>
  <dc:title>Информационное управление</dc:title>
</cp:coreProperties>
</file>