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BFAC-3C6F-4C72-BCE1-A751E3C37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Психологическое здоровье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C2F9-46D8-43AF-8D68-7F26AF8590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Агресс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Неполная семья или конфликтные отношения между членами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7E84-7C90-4329-B43E-22BA3EF28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Что нужно сделать чтобы личностный рост был гармонич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щую личность надо научить справляться с жизненными трудност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881D-ABEB-4978-8295-AE3CA60392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DE38-F2CB-4D3B-BBAA-5656DDA7B1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Что такое психологическое здоров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утренний мир 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FFE8-8ED0-4B26-AC8C-4A0CCA5900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Уровни психологическ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реативный, творческий, созидательны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проявляются отдельные признаки дезадаптации, повышенная тревож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изк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конфликты со сверстниками, капризы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C88B-E065-45D2-8B41-18934B83A0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ы риска нарушения психологического здоровья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12B1-5AE4-4DBB-B419-0DEE1023FC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Фактор среды 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(семья и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BA0A-C845-4BF6-8F2E-A9BACDF90B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E22-2F8B-4CF8-8D29-E86D83C45F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818-55E8-46C9-8BE8-79070E567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F21-F63D-4A38-8E1A-B2E5C3C7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39D-9B58-4D34-87BE-973D427C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6748-21B5-4EF5-9B0E-540ECFF1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870-467C-4A8F-8C1D-67F84A37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5B2-6DD6-4F38-AB4C-25729A7F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C3A-AD56-49CA-8B64-8AC2C8FA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77C-78EE-45FF-9E31-55AF462C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676F-C5C4-4992-868B-D414696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553-798B-497B-81C0-59B62FC8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4A0-2EDB-4812-B321-54F1BF77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B20-91CF-41E5-902C-ACB2C075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10DC-CE37-4F6F-BF5F-CB9426EB76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99640" y="1052280"/>
            <a:ext cx="72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Arial"/>
              </a:rPr>
              <a:t>Психологическое здоровье школьник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3981470000[1]"/>
          <p:cNvPicPr/>
          <p:nvPr/>
        </p:nvPicPr>
        <p:blipFill>
          <a:blip r:embed="rId1"/>
          <a:stretch/>
        </p:blipFill>
        <p:spPr>
          <a:xfrm>
            <a:off x="3564000" y="4149720"/>
            <a:ext cx="1944720" cy="2176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Агресс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еполная семья или конфликтные отношения между членами семь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MCj03967420000[1]"/>
          <p:cNvPicPr/>
          <p:nvPr/>
        </p:nvPicPr>
        <p:blipFill>
          <a:blip r:embed="rId1"/>
          <a:stretch/>
        </p:blipFill>
        <p:spPr>
          <a:xfrm>
            <a:off x="6443640" y="333360"/>
            <a:ext cx="1932120" cy="208764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Что нужно сделать чтобы личностный рост был гармонич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ущую личность надо научить справляться с жизненными трудност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, которые она себе ставит, не появляются беспричинно, они обусловлены как личностными (внутренними), так и социальными (внешними) обстоятельств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альные психофизиологические предпосылки и такие психологические условия, которые были бы адекватны сензитивным период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нии с ребенком, для которого характерна повышенная эмоциональная чувствительность, родителям и педагогам следует быть особо внимательными, избегать резких приемов педагогического воздей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эмоций и воли должно быть направлено, прежде всего, на формирование способности конструктивно регулировать собственные пере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ок беспомощен, но мудрость взрослого дает ему защиту, так как именно окружающие ребёнка взрослые способны создать приемлемые условия для его полноценного развития. Основа такого развития – психологическое здоровье, от которого во многом зависит здоровье человек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Pj04304930000[1]"/>
          <p:cNvPicPr/>
          <p:nvPr/>
        </p:nvPicPr>
        <p:blipFill>
          <a:blip r:embed="rId1"/>
          <a:stretch/>
        </p:blipFill>
        <p:spPr>
          <a:xfrm>
            <a:off x="3780000" y="414972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Что такое психологическое здоровь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й мир ребен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его неуверенность или уверенность в себе, понимание собственных способностей, интересов, отношение к людям, окружающему миру, общественным событиям, к жизни как к таковой и т.д.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Уровни психологического 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21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ысо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ый, творческий, созидательный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едн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являются отдельные признаки дезадаптации, повышенная тревожность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изки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фликты со сверстниками, капризы и т.п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Факторы риска нарушения психологического здоровья де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MCj03966840000[1]"/>
          <p:cNvPicPr/>
          <p:nvPr/>
        </p:nvPicPr>
        <p:blipFill>
          <a:blip r:embed="rId1"/>
          <a:stretch/>
        </p:blipFill>
        <p:spPr>
          <a:xfrm>
            <a:off x="3780000" y="4221000"/>
            <a:ext cx="1657080" cy="18734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Фактор среды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(семья и школ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900000" y="1413000"/>
          <a:ext cx="75596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413000"/>
                    <a:ext cx="75596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1042920" y="620640"/>
          <a:ext cx="7058160" cy="568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20640"/>
                    <a:ext cx="705816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3"/>
          <p:cNvGraphicFramePr/>
          <p:nvPr/>
        </p:nvGraphicFramePr>
        <p:xfrm>
          <a:off x="900000" y="549360"/>
          <a:ext cx="7417080" cy="57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417080" cy="57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3"/>
          <p:cNvGraphicFramePr/>
          <p:nvPr/>
        </p:nvGraphicFramePr>
        <p:xfrm>
          <a:off x="1116000" y="404640"/>
          <a:ext cx="6985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04640"/>
                    <a:ext cx="6985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3"/>
          <p:cNvGraphicFramePr/>
          <p:nvPr/>
        </p:nvGraphicFramePr>
        <p:xfrm>
          <a:off x="1116000" y="692280"/>
          <a:ext cx="7128000" cy="54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692280"/>
                    <a:ext cx="7128000" cy="54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0:36:48Z</dcterms:created>
  <dc:creator>media</dc:creator>
  <dc:description/>
  <dc:language>en-US</dc:language>
  <cp:lastModifiedBy>LEGION</cp:lastModifiedBy>
  <dcterms:modified xsi:type="dcterms:W3CDTF">2014-11-12T07:33:27Z</dcterms:modified>
  <cp:revision>5</cp:revision>
  <dc:subject/>
  <dc:title>Слайд 1</dc:title>
</cp:coreProperties>
</file>