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D842-7E80-42F3-B7AC-A2EEEC132A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Психологическое здоровье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6DFE-228D-4838-99E1-903CAA5031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Агресс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Неполная семья или конфликтные отношения между членами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F0E2-6FAB-4B05-A5EA-5C96DC7020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Что нужно сделать чтобы личностный рост был гармонич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щую личность надо научить справляться с жизненными труд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, которые она себе ставит, не появляются беспричинно, они обусловлены как личностными (внутренними), так и социальными (внешними) обстоятель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е психофизиологические предпосылки и такие психологические условия, которые были бы адекватны сензитивным период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нии с ребенком, для которого характерна повышенная эмоциональная чувствительность, родителям и педагогам следует быть особо внимательными, избегать резких приемов педагогического воз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эмоций и воли должно быть направлено, прежде всего, на формирование способности конструктивно регулировать собственные пере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F5F6-1606-443C-9BF5-2AAAAC448A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беспомощен, но мудрость взрослого дает ему защиту, так как именно окружающие ребёнка взрослые способны создать приемлемые условия для его полноценного развития. Основа такого развития – психологическое здоровье, от которого во многом зависит здоровье человек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F2CE-D09F-41E9-B215-1A34F2A3E8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Что такое психологическое здоровь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 мир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его неуверенность или уверенность в себе, понимание собственных способностей, интересов, отношение к людям, окружающему миру, общественным событиям, к жизни как к таковой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B8F6-6447-4654-9B0D-5A1F3A2234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Уровни психологическ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креативный, творческий, созидатель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проявляются отдельные признаки дезадаптации, повышенная тревож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из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конфликты со сверстниками, капризы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6C84-D021-4D67-84AF-47C2E449CA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Факторы риска нарушения психологического здоровья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0413-53BF-48CC-A824-F0985014A8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Фактор среды 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(семья и шко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33E9-2802-4E4B-8D65-6E6D0E1826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0037-0155-4A6A-B2B7-91E929FFE6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2CD-F7B2-4BEA-8BE2-8F78FFCA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9F1B-5E7A-46DF-8258-8A585EDC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7B8-EE13-4524-B64E-5572A279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37B-A5F3-43AF-A235-676B9080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AE19-72F6-4145-BBD0-62CE5E2F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C35-F695-43BE-90EB-3F44426A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64E-65AF-410A-9E1D-6AC4DD9D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AF6-8BD0-423E-9C36-6D95E8D3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520-A0C3-471E-B961-1E58DD0D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906-8091-4BF7-96BC-57B5A22F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30A-4719-4825-8F0C-17C303A6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ADF-7EF5-45CC-8EF6-86122F26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E9DE-3E52-430E-A602-DF74DB3AB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99640" y="1052280"/>
            <a:ext cx="727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Психологическое здоровье школьник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3981470000[1]"/>
          <p:cNvPicPr/>
          <p:nvPr/>
        </p:nvPicPr>
        <p:blipFill>
          <a:blip r:embed="rId1"/>
          <a:stretch/>
        </p:blipFill>
        <p:spPr>
          <a:xfrm>
            <a:off x="3564000" y="4149720"/>
            <a:ext cx="1944720" cy="21765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Агрессия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Неполная семья или конфликтные отношения между членами семьи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MCj03967420000[1]"/>
          <p:cNvPicPr/>
          <p:nvPr/>
        </p:nvPicPr>
        <p:blipFill>
          <a:blip r:embed="rId1"/>
          <a:stretch/>
        </p:blipFill>
        <p:spPr>
          <a:xfrm>
            <a:off x="6443640" y="333360"/>
            <a:ext cx="1932120" cy="2087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Что нужно сделать чтобы личностный рост был гармонич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ущую личность надо научить справляться с жизненными трудност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, которые она себе ставит, не появляются беспричинно, они обусловлены как личностными (внутренними), так и социальными (внешними) обстоятельств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альные психофизиологические предпосылки и такие психологические условия, которые были бы адекватны сензитивным период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нии с ребенком, для которого характерна повышенная эмоциональная чувствительность, родителям и педагогам следует быть особо внимательными, избегать резких приемов педагогического воз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эмоций и воли должно быть направлено, прежде всего, на формирование способности конструктивно регулировать собственные пере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бенок беспомощен, но мудрость взрослого дает ему защиту, так как именно окружающие ребёнка взрослые способны создать приемлемые условия для его полноценного развития. Основа такого развития – психологическое здоровье, от которого во многом зависит здоровье человек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Pj04304930000[1]"/>
          <p:cNvPicPr/>
          <p:nvPr/>
        </p:nvPicPr>
        <p:blipFill>
          <a:blip r:embed="rId1"/>
          <a:stretch/>
        </p:blipFill>
        <p:spPr>
          <a:xfrm>
            <a:off x="3780000" y="414972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Что такое психологическое здоровь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утренний мир ребе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его неуверенность или уверенность в себе, понимание собственных способностей, интересов, отношение к людям, окружающему миру, общественным событиям, к жизни как к таковой и т.д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Уровни психологического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ысо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еативный, творческий, созидательный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редни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являются отдельные признаки дезадаптации, повышенная тревожность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изки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фликты со сверстниками, капризы и т.п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Факторы риска нарушения психологического здоровья де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MCj03966840000[1]"/>
          <p:cNvPicPr/>
          <p:nvPr/>
        </p:nvPicPr>
        <p:blipFill>
          <a:blip r:embed="rId1"/>
          <a:stretch/>
        </p:blipFill>
        <p:spPr>
          <a:xfrm>
            <a:off x="3780000" y="4221000"/>
            <a:ext cx="1657080" cy="18734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Фактор среды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(семья и школ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900000" y="1413000"/>
          <a:ext cx="755964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13000"/>
                    <a:ext cx="75596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1042920" y="620640"/>
          <a:ext cx="705816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20640"/>
                    <a:ext cx="70581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3"/>
          <p:cNvGraphicFramePr/>
          <p:nvPr/>
        </p:nvGraphicFramePr>
        <p:xfrm>
          <a:off x="900000" y="549360"/>
          <a:ext cx="7417080" cy="57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49360"/>
                    <a:ext cx="741708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3"/>
          <p:cNvGraphicFramePr/>
          <p:nvPr/>
        </p:nvGraphicFramePr>
        <p:xfrm>
          <a:off x="1116000" y="404640"/>
          <a:ext cx="6985080" cy="56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04640"/>
                    <a:ext cx="69850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3"/>
          <p:cNvGraphicFramePr/>
          <p:nvPr/>
        </p:nvGraphicFramePr>
        <p:xfrm>
          <a:off x="1116000" y="692280"/>
          <a:ext cx="7128000" cy="54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92280"/>
                    <a:ext cx="712800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0:36:48Z</dcterms:created>
  <dc:creator>media</dc:creator>
  <dc:description/>
  <dc:language>en-US</dc:language>
  <cp:lastModifiedBy>LEGION</cp:lastModifiedBy>
  <dcterms:modified xsi:type="dcterms:W3CDTF">2014-11-12T07:33:27Z</dcterms:modified>
  <cp:revision>5</cp:revision>
  <dc:subject/>
  <dc:title>Слайд 1</dc:title>
</cp:coreProperties>
</file>