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  <p:sldId id="275" r:id="rId38"/>
    <p:sldId id="276" r:id="rId39"/>
    <p:sldId id="277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slide" Target="slides/slide20.xml"/><Relationship Id="rId39" Type="http://schemas.openxmlformats.org/officeDocument/2006/relationships/slide" Target="slides/slide21.xml"/><Relationship Id="rId40" Type="http://schemas.openxmlformats.org/officeDocument/2006/relationships/slide" Target="slides/slide22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dt" idx="4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ftr" idx="5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 type="sldNum" idx="5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6A2F-3A1C-41E5-B077-93709A3E8AC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э.н., доцент кафед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а ИЭ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якова Наталья Олег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ство по изучению курс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э.н., доцент кафед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а ИЭФ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тякова Наталья Олегов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ство по изучению курс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5. МАРКЕТ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2. Сущность маркетинга. Понятие маркетинга. Эволюция маркетинговых концепций. Функции маркетинга. Предмет и объект маркет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3. Методы маркетинговых исследований. Понятие, виды и методы маркетинговых коммуникаций. Виды исследований. Наблюдение. Эксперимент. Опрос. Интерв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5. МАРКЕТ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2. Сущность маркетинга. Понятие маркетинга. Эволюция маркетинговых концепций. Функции маркетинга. Предмет и объект маркет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3. Методы маркетинговых исследований. Понятие, виды и методы маркетинговых коммуникаций. Виды исследований. Наблюдение. Эксперимент. Опрос. Интерв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5. МАРКЕТ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4. Методы продвижения продукции. Понятие продвижения. Формирование бюджета продвижения. Методы продвижения продукции: реклама, паблисити, метод личных продаж, стимулирование сбы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5. Методы исследования рынка. Понятие рынка. Способы сегментирования рынка. Изучение потребительских предпочтений. Формирование спроса на товар. Исследование рынка. Составление маркетинг-пл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5. МАРКЕТ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4. Методы продвижения продукции. Понятие продвижения. Формирование бюджета продвижения. Методы продвижения продукции: реклама, паблисити, метод личных продаж, стимулирование сбы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5. Методы исследования рынка. Понятие рынка. Способы сегментирования рынка. Изучение потребительских предпочтений. Формирование спроса на товар. Исследование рынка. Составление маркетинг-пла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работы студента в течении семестра по изучению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ещение лекционных зан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материала лекций и чтение основной и дополнительной литера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к практическому заня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ещение практического зан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е отчета по практическому заня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к рубежному контролю (тест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личного портфолио по дисципли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исание курсовой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работы студента в течении семестра по изучению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ещение лекционных занят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материала лекций и чтение основной и дополнительной литера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к практическому заня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ещение практического зан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е отчета по практическому занят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к рубежному контролю (тест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личного портфолио по дисципли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исание курсовой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актических зан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овые игры и case-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инги-семин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о-к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теоретического материала студ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актических зан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овые игры и case-stu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нинги-семина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ео-к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теоретического материала студент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литература по курс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кон М.Х., Альберт М., Хедоури Ф. - Основы менеджмента: Учебное пособие (пер. с англ., под ред. Медведь О.И.) Изд. 3-е , 2008г. - ИД Вильямс, 672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мов А.И., Виханский О.С. - Менеджмент: Учебник для вузов Изд. 4-е, перераб., доп. , 2008г. - Экономистъ, 670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отлер Ф. и др. Основы маркетинга: Пер. с англ. – 2-е европ. Изд. –М.; СПб: Издат. Дом «Вильямс»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ихтль Е., Хершген X. Практический маркетинг: Учебное пособие /Пер. с нем. А.М. Макарова - М.: Высшая школа, 199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Дибб С., Симкин Л., Бредли Дж. Практическое руководство по маркетинговому планированию. – СПб: Питер,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литература по курс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кон М.Х., Альберт М., Хедоури Ф. - Основы менеджмента: Учебное пособие (пер. с англ., под ред. Медведь О.И.) Изд. 3-е , 2008г. - ИД Вильямс, 672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мов А.И., Виханский О.С. - Менеджмент: Учебник для вузов Изд. 4-е, перераб., доп. , 2008г. - Экономистъ, 670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отлер Ф. и др. Основы маркетинга: Пер. с англ. – 2-е европ. Изд. –М.; СПб: Издат. Дом «Вильямс», 199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ихтль Е., Хершген X. Практический маркетинг: Учебное пособие /Пер. с нем. А.М. Макарова - М.: Высшая школа, 199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Дибб С., Симкин Л., Бредли Дж. Практическое руководство по маркетинговому планированию. – СПб: Питер,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ита А. Сделано в Японии. -М.: Прогресс, 1990. Сделано в Японии. Изд.: АЛЬПИНА БИЗНЕС БУКС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ан А. П. Мои годы с "Дженерал моторc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д Г. Моя жизнь. Мои достижения. - Мн:Попурри, 2004, 352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кокка Л., Новак У. Карьера менеджера: Бестселлер, ставший вехой в истории: Новая ред. (пер. с англ. Борич С.Э.) Изд. 1-е/ 2-е/ 3-е , - Попурри, 2007, 544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мис Э., Смит Б. Бизнес путь: YAHOO! Секреты самой популярной в мире Интернет-компании.- СПб.: Изд. «Крылов»,2003г, 208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тс Билл Дорога в будущее -М., Русская редакция, 19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стнер Л.В. - Кто сказал, что слоны не умеют танцевать?: Возрождение корпорации IBM: Взгляд изнутри (пер. с англ. Шалунова М.) - Альпина Паблишер, 2003, 320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рита А. Сделано в Японии. -М.: Прогресс, 1990. Сделано в Японии. Изд.: АЛЬПИНА БИЗНЕС БУКС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ан А. П. Мои годы с "Дженерал моторc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д Г. Моя жизнь. Мои достижения. - Мн:Попурри, 2004, 352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кокка Л., Новак У. Карьера менеджера: Бестселлер, ставший вехой в истории: Новая ред. (пер. с англ. Борич С.Э.) Изд. 1-е/ 2-е/ 3-е , - Попурри, 2007, 544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амис Э., Смит Б. Бизнес путь: YAHOO! Секреты самой популярной в мире Интернет-компании.- СПб.: Изд. «Крылов»,2003г, 208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йтс Билл Дорога в будущее -М., Русская редакция, 199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рстнер Л.В. - Кто сказал, что слоны не умеют танцевать?: Возрождение корпорации IBM: Взгляд изнутри (пер. с англ. Шалунова М.) - Альпина Паблишер, 2003, 320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кер П.Ф. Управление нацеленное на результаты/ Пер. с англ. - М,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кер П. Эффективное управление. Экономические задачи и оптимальные решения. Пер. с англ. - М: АСТ /Астрель /Ермак,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икава И. Японские методы управления качеством. м.: Экономика. 198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неги Э. История моей жизни, - РОССПЭН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ернс Д.Т., Недлер Д.А. Пороки во тьме, или рассказ о том как "Ксерокс" восстал из пепла и дал бой японцам, -Спб:Азбука-Терра,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риден Т. Бизнес путь: NOKIA. Секреты успеха самой быстроразвивающейся компании в мире. - СПб.: Изд. «Крылов»,2003г, 192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кер П.Ф. Управление нацеленное на результаты/ Пер. с англ. - М,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кер П. Эффективное управление. Экономические задачи и оптимальные решения. Пер. с англ. - М: АСТ /Астрель /Ермак,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икава И. Японские методы управления качеством. м.: Экономика. 198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неги Э. История моей жизни, - РОССПЭН,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ернс Д.Т., Недлер Д.А. Пороки во тьме, или рассказ о том как "Ксерокс" восстал из пепла и дал бой японцам, -Спб:Азбука-Терра,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рриден Т. Бизнес путь: NOKIA. Секреты успеха самой быстроразвивающейся компании в мире. - СПб.: Изд. «Крылов»,2003г, 192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Бурцева Т.А., Сизов В.С., Цень О.А. Управление маркетингом.  – М: изд. «Экономистъ», 2005, с. 2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Гилбрет А. Черчиль. Маркетинговые исследования.  – СПб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ательство «Питер»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Голубков Е.П. Основы маркетинга: Учебник.  – М.: Изд-во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пресс”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анько Т.П. Управление маркетингом: Учебник. Изд. 2-е перераб.  И доп. – М.: ИНФРА-М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фт М. Дж. Сегментирование рынка. – СПб: Питер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Крюков А. Управление маркетингом. – М: изд. «Кнорус», 2006, с. 3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аркетинг, ориентированный на стоимость/Пер. с англ. под ред. Ю.Н. Каптуревского. – СПб: Питер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Маркетинг: Учеб. Пособие/Под ред. А.М. Немчина, Д.В. Минаева. – СПб: Издательский дом «Бизнес-пресса»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Місце для номера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Бурцева Т.А., Сизов В.С., Цень О.А. Управление маркетингом.  – М: изд. «Экономистъ», 2005, с. 2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Гилбрет А. Черчиль. Маркетинговые исследования.  – СПб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дательство «Питер», 200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Голубков Е.П. Основы маркетинга: Учебник.  – М.: Изд-во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пресс”, 1999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анько Т.П. Управление маркетингом: Учебник. Изд. 2-е перераб.  И доп. – М.: ИНФРА-М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офт М. Дж. Сегментирование рынка. – СПб: Питер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Крюков А. Управление маркетингом. – М: изд. «Кнорус», 2006, с. 3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Маркетинг, ориентированный на стоимость/Пер. с англ. под ред. Ю.Н. Каптуревского. – СПб: Питер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Маркетинг: Учеб. Пособие/Под ред. А.М. Немчина, Д.В. Минаева. – СПб: Издательский дом «Бизнес-пресса», 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ОЛИО СТУДЕНТА ПО КУРС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ОЛИО СТУДЕНТА ПО КУРС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олио по дисциплине – это совокупность материалов, разработанных и собранных студентом самостоятельно, демонстрирующих его прогресс в изучении  и понимании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документ должен датироваться, чтобы можно было проследить динамику учебного проце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тфолио по дисциплине – это совокупность материалов, разработанных и собранных студентом самостоятельно, демонстрирующих его прогресс в изучении  и понимании дисципл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ый документ должен датироваться, чтобы можно было проследить динамику учебного процес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. ЭВОЛЮЦИЯ УПРАВЛЕНЧЕСКОЙ МЫ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Менеджмент как вид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енеджмента. Принципы менеджмента. Функции менеджмента. Характеристика труда менеджера. Структура труда менеджера. Соотношение функций менеджера и уровней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1. ЭВОЛЮЦИЯ УПРАВЛЕНЧЕСКОЙ МЫС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Менеджмент как вид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енеджмента. Принципы менеджмента. Функции менеджмента. Характеристика труда менеджера. Структура труда менеджера. Соотношение функций менеджера и уровней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портфолио по дисциплине «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целей, которых студент хотел бы достигнуть после изучения данной те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прочитанной основной и дополнительной литературы по курс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ссе на каждое прочитанное произведение из дополнительной литературы. (Что я для себя вынес из данной книги? Какие методы управления использовались на данном предприятии? Что стало залогом успеха? Что послужило поводом для неудач? и т.д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чет о проведении деловой иг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кейса или конкретной ситу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сты по курсу ( с оценко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очные формы по презентации (оценки других студент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ые работы (с оценко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докладов студен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пии статей из журналов, прочитанные и проанализированные студен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портфолио по дисциплине «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 целей, которых студент хотел бы достигнуть после изучения данной тем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исок прочитанной основной и дополнительной литературы по курс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ссе на каждое прочитанное произведение из дополнительной литературы. (Что я для себя вынес из данной книги? Какие методы управления использовались на данном предприятии? Что стало залогом успеха? Что послужило поводом для неудач? и т.д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чет о проведении деловой иг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кейса или конкретной ситу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сты по курсу ( с оценко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очные формы по презентации (оценки других студент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ные работы (с оценко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докладов студен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пии статей из журналов, прочитанные и проанализированные студен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оценивания результатов обуче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терии оценивания результатов обуче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История развития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ки возникновения менеджмента. Развитие управления как науки. Школы менеджмента. Научное управление. Концепция бюрократии. Классическое управление. Доктрина человеческих отношений. Поведенческие нау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Современные подходы к менеджмент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концепции менеджмента с точки зрения количественного, процессного, системного и ситуационного подхода. Вклад в современную науку менеджмента концепций различных школ и подходов. Система взглядов на управление в России в современных услов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История развития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ки возникновения менеджмента. Развитие управления как науки. Школы менеджмента. Научное управление. Концепция бюрократии. Классическое управление. Доктрина человеческих отношений. Поведенческие нау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Современные подходы к менеджмент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концепции менеджмента с точки зрения количественного, процессного, системного и ситуационного подхода. Вклад в современную науку менеджмента концепций различных школ и подходов. Система взглядов на управление в России в современных услов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Общие характеристики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организации и ее место в менеджменте. Формальные и неформальные организации. Жизненный цикл организации. Внутренняя и внешняя среда организации. Организация как открытая социально-экономическая система. Критерии результативности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Общие характеристики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организации и ее место в менеджменте. Формальные и неформальные организации. Жизненный цикл организации. Внутренняя и внешняя среда организации. Организация как открытая социально-экономическая система. Критерии результативности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Цели организации. Миссия организации. Выработка и примерное содержание миссии. Понятие и виды целей. Целеполагание. Правила построения дерева целей. Примерное содержание дерева целей приборостроительного предприятия. Управление по целям (по результатам). Этапы процесса управления по цел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Формирование взаимодействия и построение организации. Функция организации как создание реальных условий для достижения целей. Организация взаимодействия между линейными, функциональными и штабными полномочиями. Делегирование полномочий. Полномочия и ответственность. Власть и пределы полномочий. Соотношение централизации и децентрализации в структуре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Цели организации. Миссия организации. Выработка и примерное содержание миссии. Понятие и виды целей. Целеполагание. Правила построения дерева целей. Примерное содержание дерева целей приборостроительного предприятия. Управление по целям (по результатам). Этапы процесса управления по цел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Формирование взаимодействия и построение организации. Функция организации как создание реальных условий для достижения целей. Организация взаимодействия между линейными, функциональными и штабными полномочиями. Делегирование полномочий. Полномочия и ответственность. Власть и пределы полномочий. Соотношение централизации и децентрализации в структуре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Формирование взаимодействия и построение организации. Построение организаций. Элементы организационной структуры управления. Линейная, линейно-функциональная, линейно-штабная структуры управления. Функциональная и дивизиональная структуры. Матричная структура. Проектирование организационных структур на предприят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Формирование взаимодействия и построение организации. Построение организаций. Элементы организационной структуры управления. Линейная, линейно-функциональная, линейно-штабная структуры управления. Функциональная и дивизиональная структуры. Матричная структура. Проектирование организационных структур на предприят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Планирование в менеджменте. Принципы, методы и типы планирования. Планирование стратегии. Процесс выбора стратегии. Формирование и реализация стратегии. Структура и технология разработки системы планирования. Планирование производства и реализации продукции. Планирование затрат. Планирование себестоимости продукции предприятия приборостроения. Составление баланса расходов и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Планирование в менеджменте. Принципы, методы и типы планирования. Планирование стратегии. Процесс выбора стратегии. Формирование и реализация стратегии. Структура и технология разработки системы планирования. Планирование производства и реализации продукции. Планирование затрат. Планирование себестоимости продукции предприятия приборостроения. Составление баланса расходов и до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8. Мотивация персонала. Понятие и элементы мотивации. Содержательные теории мотивации. Процессуальные теории мотивации. Модель процесса мотивации. Современные подходы к мотивации персонала в зарубежных стра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9. Стиль руководства. Понятие и виды стилей руководства. Содержание и особенности труда менеджера. Оценка деятельности менеджера. Совершенствование стиля руководства менедж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8. Мотивация персонала. Понятие и элементы мотивации. Содержательные теории мотивации. Процессуальные теории мотивации. Модель процесса мотивации. Современные подходы к мотивации персонала в зарубежных стра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9. Стиль руководства. Понятие и виды стилей руководства. Содержание и особенности труда менеджера. Оценка деятельности менеджера. Совершенствование стиля руководства менедже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4. СВЯЗУЮЩИЕ ПРОЦЕССЫ В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0. Принятие управленческих решений. Понятие и виды решений. Запрограммированные и незапрограммированные решения. Процесс принятия рационального решения. Технология подготовки и принятия решений. Проблемы и их решение. Разработка вариантов решений. Организация выполнения принятого решения. Управленческое решение и ответствен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9. Коммуникации в менеджменте. Понятие, виды и средства коммуникаций. Коммуникационный процесс и его этапы. Развитие коммуникаций на современном этап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Номер слайда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раздел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Ь 4. СВЯЗУЮЩИЕ ПРОЦЕССЫ В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0. Принятие управленческих решений. Понятие и виды решений. Запрограммированные и незапрограммированные решения. Процесс принятия рационального решения. Технология подготовки и принятия решений. Проблемы и их решение. Разработка вариантов решений. Организация выполнения принятого решения. Управленческое решение и ответствен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9. Коммуникации в менеджменте. Понятие, виды и средства коммуникаций. Коммуникационный процесс и его этапы. Развитие коммуникаций на современном этап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6E693-108A-45D2-BABE-68958D3FC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72410A-2AC5-4EE8-84B7-8845E5E1B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0DFD83-28F8-480F-BE15-1D5EE0A52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3258677-6279-41C8-9CEA-EB2A25F8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FFF5ED-61BD-46B0-B413-97E30B430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871E246-31F2-4DB2-82B0-C9142540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73885E-09F1-4D0B-8640-5B342490D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7E2F31-4770-43CF-9FCB-7C8DE052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466D07-D626-4469-BB16-B5B5CCE5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C8EC45E-D0DF-4225-93BB-33FE3350B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35C354A-E11E-41E3-A272-32BB5BA1E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B1B4CD-2331-4F1F-89BE-2EC455A3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0C112-26C1-478D-AB3A-B84E26C72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6CEE264-F7C1-460F-9B86-FE371A201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1EB46A-0831-4E98-ADF4-6F7D45641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06D352E-6293-4C4F-9F59-01A1F8D8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6DB9619-42BA-4F09-AAAE-86681169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8C11690-C5D4-4D9C-A027-54141A9D8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8DA48C-193C-4005-9FB1-069F03E5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F54D478-3DE7-4DD9-ACA1-8CD4AA7A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D67600-E8AD-4765-8808-C6E1368B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3116B26-951A-4C95-AB69-50F2A64D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ABD762-E337-423A-A2EF-913B5F636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2EB5B-BA78-4407-9A8F-2E76FC929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871B4EF-F1F5-40BF-8417-F2D617A5A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DB9994-9D8E-4B44-A914-88824FA3A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A68667-C121-49BF-81BD-ABCEBBDF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B30B6E8-280E-4828-A68B-3A2346EE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93D7531-00A1-4DDF-A43F-2369D5F7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350599A-D028-4DB3-9E73-7D783BD8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412761A-D9B5-4F1A-A124-A3A17E8E2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54C2105-6CC2-4BD5-BF67-C2F87696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D50D6F-F4C2-4A03-BED7-88013796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726DFB7-A6BD-4B4A-8CF8-D289DE5F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BCB5-32B5-4038-BA3A-608053A35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6E3A301-85EF-4202-945B-601ECB51B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341299F-1BC7-4DA7-A616-1E101B7F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4C86F2-B1D3-4B5E-95E0-A7FD7A13B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F18F7F2-E215-4DA0-8FF3-AA041B3A1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F8AA228-4E17-4243-8196-5D93D5F7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1F68180-C61E-49A0-82A7-8206161A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3199C8C-C575-4230-A4CA-F7DC0312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841D804-CB22-4323-8A81-6CDA4F1BE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8B63E73-E2E7-4530-B4DC-FC83E7D7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BAFDD39-0437-4F4C-AE9E-1D8D43CE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6281C-F39E-4F82-845F-5E1F585B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3D51027-604A-449F-BC62-44E8D40D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1FDCA73-957F-4DB8-B22A-9C87D6ABC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1B7DD41-35F0-455B-ADE1-314A3231F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E175319-827B-4722-98E0-C3AD1DB8B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24518F7-B9DC-41EC-99EF-DBA42F8A8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0A907D1-B1C6-47D8-920B-7EB07F62C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72107B9-9415-4AB5-8B71-45DAF682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3998E97-E1D0-46EE-BCC1-290CCC43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BFBBC20-F826-4E47-9ED6-EF245D266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1409DA2-2865-4D76-8DEA-14803D93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6283-2E36-4B90-A849-FEE24E09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5FA65E-BDA8-4E77-8BF7-497245101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160BE6D-3171-4CDC-A884-9EC576EF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B03B320-E420-42AD-9E31-8476A4B7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FDE602F-9771-4D1B-A9E5-06380BA6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7DBCCE1-7BBF-40E4-B014-22065E4F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834CF7-3ACD-4333-AEFD-4D7B6C00B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23EDD59-9A85-449B-A14E-57E72E024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A5940A6-E51D-4FCA-8182-F745F8DA9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1890227-CEBF-4CB5-ADE0-7AFB97DD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48565C3-6C5F-4714-9D28-6B940BC9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A8A8F-8670-4FD9-B14E-8CBA2330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0DCDC7E-FD81-4132-A9B5-A6C82B098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D201B11-830A-4820-B487-8949E891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436645E-73D3-48D9-BAA0-D58F824DD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4F365F9-A17F-453A-B0AA-2419ACFB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F4C3E6B-E75C-4B4A-A973-B3EC1638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0C4941B-B027-48B4-B916-38E1A6F8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966CA9E-FBBB-471E-9ED3-2FDF17B2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4FEFF0C-7F19-417B-8430-1E67206B7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BDFB2F3-1011-4678-9A28-025717572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F2ADA80-C013-4D49-868C-92E8CDAA4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30EC-3DB4-41AA-9D12-D85385293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611DE91-41AB-4131-A8FA-047316C8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698C408-08BE-484E-9230-E199C46C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D1E83A6-7637-47C7-AAAD-72C21E94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C311CE3-3713-427B-88EB-8AFCA89A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80ED240-4CE1-4D7D-AFBE-077EBF314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59B6D1C-62B6-463D-AE80-4281D5BF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E3BA1A5E-B4E1-4F87-A01C-86895BA6C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F8FEC99-6D38-4AB4-B4DB-203635EE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8A041B4-EA55-4EFB-AFAC-3A10CF74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F8AC1527-21CC-4C34-92B2-5F03DD268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0FB80-BFD6-439D-8E89-8F566F51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B03FD2E-8CC5-451F-BC9B-E78A5D4A0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CD07478-B3FD-4CF6-9E26-B028B22EC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EC38861-B05F-4FF2-9BCB-D146C35A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0C35A1F-CD28-4C35-9CEA-FE1BF848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2D95A0A-B930-4994-87BC-93DAFC148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79E456C-CEF4-4172-9FD7-D3181CF3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A66432C-B74E-49EC-9567-DB3096535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701490A-A978-44C2-8736-A5E9C09C2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9032A2C-3BEC-47BF-A35A-9961A707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FA1ACC2F-D7B6-4369-9EF5-6D931D566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CE6C1-426F-4FAE-B30A-2849B391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8AA91A7-F265-4D3E-BF99-C8B9A720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24334DB-8B4F-4AB5-8DD1-ACD7E492A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CE547F3-5074-4D3A-8F50-53A6EA37E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471E8-DC27-4737-89D2-A5E5C243D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1619-C4D2-4F29-B4DA-C1EDDF04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E46D-A14F-4F14-AC81-C901FA855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179C1-E697-44C7-9C29-96D547D9C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2EA4-219D-411B-9F6C-A53FFD3DC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351D6-DEBC-4C82-8F6F-93B731FD3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DB3858-DA4B-4AC4-8C54-D62C5E154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21AD8C-E640-41F7-9258-C0B2C491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E0006F-F94F-4DA7-B827-6FFBCD3A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9F910B-2F21-4205-A91A-FFFF3DF16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4D565A-4764-499D-91BE-CE20C1DFA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02D3D-D1DC-4439-AE24-7E949D1A3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17613F-6DCE-4157-AA99-6220FBB0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260B0D-9F5A-45C2-A1C6-E60DE93A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568D73-16C7-44FD-8031-53CA8556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9C807B-BC00-46A2-90FF-A9486C653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118990-8FE0-44EF-8C59-9F6947D2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710507-F0BA-4A21-B141-0BB6EA16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863769-9FBD-4DBC-BB93-6342A3303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07FFB9-BDD5-47B5-9C95-2E321E36F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B57CCC-2698-464F-B70B-CF3A4DD24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04F136-0B3F-4BFB-B2E1-34995317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1AED0C-9B97-4EF6-A520-5D1A64FD6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31B2FC-9D2D-405E-ADBD-E71479560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B6AB19-6687-4518-A660-F08DA12B0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62D2F9-024A-4AE6-AD44-0C37E0E6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1E26CB-91E4-4FC8-8644-5D1BB908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306149-458D-4BF5-9B76-4F433FF5D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6BE5E4-8B84-477B-8030-F207F153B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5A66FA-CB91-404A-ADC5-457D165AF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17305F-FCDE-4242-9867-E88856E3B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E88F27-3A56-4070-9CDD-82519405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87E048-8FE8-4BC8-AD45-FEE9B6398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7E09C-4316-46C9-8324-076475FBE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3E2EEAE-3B81-4C01-9B84-40AC78D5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7D042C-E39F-4DCF-92E0-58A33051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E73713-8075-432C-B30A-9A381471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E2C9F6-B473-448B-998F-F7676D32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41D52E-F6D2-49FB-8B4E-F1283C6C9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4C16B0-05CB-4C1A-808C-A077F0CC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70591A-BB23-4A7D-B2BC-838209C7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665043-D628-4A03-8939-92BCDB34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493224-8A59-4816-99B3-C8636536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0CF359-BB39-4B38-AFE6-94F798D8D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ADF1F-D2E4-460D-AFDF-F36C1396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8602E3-DE4D-4F14-AD53-FDFECB58A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4A8C14-2E44-46D3-B514-D68E2FF41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6B8E1E-BBC4-4476-B609-6CC093FA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89F2C7-3736-4AD6-9D07-303077C9F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D76837-7462-477D-8068-84B31102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7100DFE-B9AB-4BAF-896F-9471400C1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690933-080E-4E16-B7FD-1633B6347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20E839-27E5-4BFC-AB5B-4D4F30CF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6EC633-4C82-441D-A124-58F48CDF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9B4F95-88B2-4188-A6D2-515D8797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CF3AC-EF0A-4058-82AE-115DDF1A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3767F7-002B-4CAE-9D54-584B1FAF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2AC57B-EFBD-468C-BA57-2ED94CC1F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0D0C72-14DF-4897-A880-528D13FEA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657BC7-CED8-4743-B81C-93F209EAB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A8689F-8341-451B-A45C-D71FC50A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FCC6C7-F57D-4D21-AE0B-D12347DAB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C673D7-FEAD-4E6E-A517-8401E4CF2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FAC411-F42C-4328-B804-DD20CEED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13B296-06D4-4A0E-BEAC-76335FC8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13BC55-59EE-45DD-A223-A70A66268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858C3-D783-42CC-BBAE-78B7ED19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353461-6151-4DA8-8860-19C22F0D4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C80BE3-CE52-4573-95FB-06CBF783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72C2CF-A17E-4A62-AB8E-1CDE6906F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D912CC-DED9-428E-AFEE-4CD2D7F01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DDC35B-4EB9-499A-86C9-7AC8085E1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A46C778-64C0-4FFA-9C17-017A59873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6A841A6-F098-43C8-BBF4-990DF8543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05624D3-E663-49A1-B5FE-8662033B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282BB57-2E8E-4790-B08F-AE1732B65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020800A-4856-40C5-8334-7BFC9491B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81F52-DD23-440A-902E-7D4FEC0C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871BAF-0BC3-4A3E-8B4D-FF182051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BA76A0-5CD6-40F7-BD19-823BAD98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439B3CB-ADA1-43B2-82E2-E4E574CC6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9BB6109-A7FD-4FDA-977D-65BB6B52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AC3C34-FF78-4891-873F-D448F10DF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1FA771-1D29-4B75-9157-E3EBDDF23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AC677A-7E45-46BF-9F57-8A8FD60E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C64169-6268-4E9B-9CAE-ED1CE8F6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D986010-9CD8-4521-B705-016B9AFF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2116A45-CB50-4344-888E-3A92C0C7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844CB-30AD-41B7-A6BC-AF86A1223A6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79f9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dc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ftr" idx="2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5ECD7-A6FF-4DDD-ABD8-036F9FE54B6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C28F4-B4BD-4F18-B796-AAB3E1246AB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dt" idx="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sldNum" idx="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9FBA-7B73-4767-A176-593E731A82B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dt" idx="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C59EC-4954-43A8-A15A-5BED51E3467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 type="dt" idx="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ftr" idx="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sldNum" idx="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0CFA1-2AE1-48BD-869F-116A153BCBB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dt" idx="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 type="ftr" idx="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 type="sldNum" idx="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6EE4-3D2B-49F4-8221-58F92C4DE31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 type="dt" idx="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ftr" idx="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sldNum" idx="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B7374-43C4-40D6-BB5F-127A590A000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dt" idx="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79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79f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dc2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ACCA-B8C6-48C5-8416-B3200138B87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D4E0-855B-4B3D-A58B-CFC2EC6AF77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4AF1F-3827-406F-B761-9675342F461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7752-AC61-4F8A-B07A-7FF8FC0A445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ftr" idx="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10011-0D97-4E2F-8247-4D4CB54D1A0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BDDF-C846-4B16-9277-64AF6A41D78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98EEB-B5E2-4129-B375-7DF97D443F0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dt" idx="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dc2d7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79f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dc2d7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79f9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ftr" idx="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sldNum" idx="2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53A6A-F911-4E6D-91B2-3AF4C0E8C88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5"/>
          <p:cNvSpPr/>
          <p:nvPr/>
        </p:nvSpPr>
        <p:spPr>
          <a:xfrm>
            <a:off x="4716360" y="4653000"/>
            <a:ext cx="3456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431a"/>
                </a:solidFill>
                <a:latin typeface="Arial"/>
              </a:rPr>
              <a:t>к.э.н., доцент кафед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431a"/>
                </a:solidFill>
                <a:latin typeface="Arial"/>
              </a:rPr>
              <a:t>менеджмента ИЭ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431a"/>
                </a:solidFill>
                <a:latin typeface="Arial"/>
              </a:rPr>
              <a:t>Чистякова Наталья Олег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179280" y="2636640"/>
            <a:ext cx="8785440" cy="21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431a"/>
                </a:solidFill>
                <a:latin typeface="Arial"/>
              </a:rPr>
              <a:t>Руководство по изучению курса </a:t>
            </a:r>
            <a:br>
              <a:rPr sz="2800"/>
            </a:br>
            <a:r>
              <a:rPr b="1" lang="ru-RU" sz="2800" spc="-1" strike="noStrike">
                <a:solidFill>
                  <a:srgbClr val="07431a"/>
                </a:solidFill>
                <a:latin typeface="Arial"/>
              </a:rPr>
              <a:t>«Менеджмент»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 txBox="1"/>
          <p:nvPr/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Ь 5. МАРКЕ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ма 12. Сущность маркетинга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ятие маркетинга. Эволюция маркетинговых концепций. Функции маркетинга. Предмет и объект маркетинг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ма 13. Методы маркетинговых исследований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ятие, виды и методы маркетинговых коммуникаций. Виды исследований. Наблюдение. Эксперимент. Опрос. Интервью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 txBox="1"/>
          <p:nvPr/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Ь 5. МАРКЕ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ма 14. Методы продвижения продукции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ятие продвижения. Формирование бюджета продвижения. Методы продвижения продукции: реклама, паблисити, метод личных продаж, стимулирование сбыт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ма 15. Методы исследования рынка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ятие рынка. Способы сегментирования рынка. Изучение потребительских предпочтений. Формирование спроса на товар. Исследование рынка. Составление маркетинг-план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ы работы студента в течении семестра по изучению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Посещение лекционных заняти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Анализ материала лекций и чтение основной и дополнительной литератур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Подготовка к практическому заняти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Посещение практического занят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Составление отчета по практическому занятию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Подготовка к рубежному контролю (тесту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Формирование личного портфолио по дисциплин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4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00"/>
                </a:solidFill>
                <a:latin typeface="Arial"/>
              </a:rPr>
              <a:t>Написание курсовой работ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Виды практических заня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ловые игры 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-stu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нинги-семин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део-к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я теоретического материала студен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4" name="Picture 2" descr="C:\Чистякова\Чистякова Н.О\Презентации\Материалы_Коробов\new present\DSC_5230.JPG"/>
          <p:cNvPicPr/>
          <p:nvPr/>
        </p:nvPicPr>
        <p:blipFill>
          <a:blip r:embed="rId1"/>
          <a:stretch/>
        </p:blipFill>
        <p:spPr>
          <a:xfrm>
            <a:off x="4859280" y="3789360"/>
            <a:ext cx="3949920" cy="2622600"/>
          </a:xfrm>
          <a:prstGeom prst="rect">
            <a:avLst/>
          </a:prstGeom>
          <a:ln w="0">
            <a:noFill/>
          </a:ln>
        </p:spPr>
      </p:pic>
      <p:sp>
        <p:nvSpPr>
          <p:cNvPr id="71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"/>
          <p:cNvSpPr txBox="1"/>
          <p:nvPr/>
        </p:nvSpPr>
        <p:spPr>
          <a:xfrm>
            <a:off x="53964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ая литература по кур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Мескон М.Х., Альберт М., Хедоури Ф. - Основы менеджмента: Учебное пособие (пер. с англ., под ред. Медведь О.И.) Изд. 3-е , 2008г. - ИД Вильямс, 672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умов А.И., Виханский О.С. - Менеджмент: Учебник для вузов Изд. 4-е, перераб., доп. , 2008г. - Экономистъ, 670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тлер Ф. и др. Основы маркетинга: Пер. с англ. – 2-е европ. Изд. –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.; СПб: Издат. Дом «Вильямс», 199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Дихтль Е., Хершген X. Практический маркетинг: Учебное пособие /Пер. с нем. А.М. Макарова - М.: Высшая школа, 1995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Дибб С., Симкин Л., Бредли Дж. Практическое руководство по маркетинговому планированию. – СПб: Питер,200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550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орита А. Сделано в Японии. -М.: Прогресс, 1990. Сделано в Японии. Изд.: АЛЬПИНА БИЗНЕС БУКС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лоан А. П. Мои годы с "Дженерал моторc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орд Г. Моя жизнь. Мои достижения. - Мн:Попурри, 2004, 352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Якокка Л., Новак У. Карьера менеджера: Бестселлер, ставший вехой в истории: Новая ред. (пер. с англ. Борич С.Э.) Изд. 1-е/ 2-е/ 3-е , - Попурри, 2007, 544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амис Э., Смит Б. Бизнес путь: YAHOO! Секреты самой популярной в мире Интернет-компании.- СПб.: Изд. «Крылов»,2003г, 208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йтс Билл Дорога в будущее -М., Русская редакция, 199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рстнер Л.В. - Кто сказал, что слоны не умеют танцевать?: Возрождение корпорации IBM: Взгляд изнутри (пер. с англ. Шалунова М.) - Альпина Паблишер, 2003, 320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396360">
              <a:spcBef>
                <a:spcPts val="601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кер П.Ф. Управление нацеленное на результаты/ Пер. с англ. - М,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96360">
              <a:spcBef>
                <a:spcPts val="601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рукер П. Эффективное управление. Экономические задачи и оптимальные решения. Пер. с англ. - М: АСТ /Астрель /Ермак,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96360">
              <a:spcBef>
                <a:spcPts val="601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икава И. Японские методы управления качеством. м.: Экономика. 198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96360">
              <a:spcBef>
                <a:spcPts val="601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неги Э. История моей жизни, - РОССПЭН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96360">
              <a:spcBef>
                <a:spcPts val="601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ернс Д.Т., Недлер Д.А. Пороки во тьме, или рассказ о том как "Ксерокс" восстал из пепла и дал бой японцам, -Спб:Азбука-Терра,19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96360">
              <a:spcBef>
                <a:spcPts val="601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рриден Т. Бизнес путь: NOKIA. Секреты успеха самой быстроразвивающейся компании в мире. - СПб.: Изд. «Крылов»,2003г, 192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9636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 txBox="1"/>
          <p:nvPr/>
        </p:nvSpPr>
        <p:spPr>
          <a:xfrm>
            <a:off x="457200" y="4572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полнительная литература для самостоятельного чт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Бурцева Т.А., Сизов В.С., Цень О.А. Управление маркетингом.  – М: изд. «Экономистъ», 2005, с. 2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Гилбрет А. Черчиль. Маркетинговые исследования.  – СПб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дательство «Питер», 20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Голубков Е.П. Основы маркетинга: Учебник.  – М.: Изд-во 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инпресс”, 199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Данько Т.П. Управление маркетингом: Учебник. Изд. 2-е перераб.  И доп. – М.: ИНФРА-М,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офт М. Дж. Сегментирование рынка. – СПб: Питер,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Крюков А. Управление маркетингом. – М: изд. «Кнорус», 2006, с. 36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Маркетинг, ориентированный на стоимость/Пер. с англ. под ред. Ю.Н. Каптуревского. – СПб: Питер, 200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7. Маркетинг: Учеб. Пособие/Под ред. А.М. Немчина, Д.В. Минаева. – СПб: Издательский дом «Бизнес-пресса», 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ТФОЛИО СТУДЕНТА ПО КУРС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МЕНЕДЖМЕН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5" name="Picture 3" descr="C:\Users\Natalia\Desktop\8273383-.jpg"/>
          <p:cNvPicPr/>
          <p:nvPr/>
        </p:nvPicPr>
        <p:blipFill>
          <a:blip r:embed="rId1"/>
          <a:stretch/>
        </p:blipFill>
        <p:spPr>
          <a:xfrm>
            <a:off x="5870520" y="3067200"/>
            <a:ext cx="2608200" cy="3485880"/>
          </a:xfrm>
          <a:prstGeom prst="rect">
            <a:avLst/>
          </a:prstGeom>
          <a:ln w="0">
            <a:noFill/>
          </a:ln>
        </p:spPr>
      </p:pic>
      <p:sp>
        <p:nvSpPr>
          <p:cNvPr id="7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7" name="Picture 3" descr="C:\Users\Natalia\Desktop\0,,15290864_1,00.jpg"/>
          <p:cNvPicPr/>
          <p:nvPr/>
        </p:nvPicPr>
        <p:blipFill>
          <a:blip r:embed="rId1"/>
          <a:stretch/>
        </p:blipFill>
        <p:spPr>
          <a:xfrm>
            <a:off x="5364000" y="4138560"/>
            <a:ext cx="3146760" cy="2317680"/>
          </a:xfrm>
          <a:prstGeom prst="rect">
            <a:avLst/>
          </a:prstGeom>
          <a:ln w="0">
            <a:noFill/>
          </a:ln>
        </p:spPr>
      </p:pic>
      <p:sp>
        <p:nvSpPr>
          <p:cNvPr id="728" name=""/>
          <p:cNvSpPr txBox="1"/>
          <p:nvPr/>
        </p:nvSpPr>
        <p:spPr>
          <a:xfrm>
            <a:off x="457200" y="115920"/>
            <a:ext cx="822960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ртфолио по дисциплине – это совокупность материалов, разработанных и собранных студентом самостоятельно, демонстрирующих его прогресс в изучении  и понимании дисципл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документ должен датироваться, чтобы можно было проследить динамику учебного процес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TextBox 2"/>
          <p:cNvSpPr/>
          <p:nvPr/>
        </p:nvSpPr>
        <p:spPr>
          <a:xfrm>
            <a:off x="539640" y="115920"/>
            <a:ext cx="8072640" cy="96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Ь 1. ЭВОЛЮЦИЯ УПРАВЛЕНЧЕСКОЙ МЫС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1. Менеджмент как вид деятель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менеджмента. Принципы менеджмента. Функции менеджмента. Характеристика труда менеджера. Структура труда менеджера. Соотношение функций менеджера и уровней упр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труктура портфолио по дисциплине «Менеджмен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ст целей, которых студент хотел бы достигнуть после изучения данной тем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исок прочитанной основной и дополнительной литературы по курсу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ссе на каждое прочитанное произведение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из дополнительной литератур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Что я для себя вынес из данной книги? Какие методы управления использовались на данном предприятии? Что стало залогом успеха? Что послужило поводом для неудач?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чет о проведении деловой иг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нализ кейса или конкретной ситу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сты по курсу ( с оценко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ценочные формы по презентации (оценки других студенто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ные работы (с оценко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80000"/>
              </a:lnSpc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зентация докладов студен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пии статей из журналов, прочитанные и проанализированные студент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 algn="just">
              <a:spcBef>
                <a:spcPts val="4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2" name="Picture 2" descr="C:\Users\Natalia\Desktop\Безымянный.jpg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95280" y="333360"/>
            <a:ext cx="8570880" cy="5850000"/>
          </a:xfrm>
          <a:prstGeom prst="rect">
            <a:avLst/>
          </a:prstGeom>
          <a:ln w="0">
            <a:noFill/>
          </a:ln>
        </p:spPr>
      </p:pic>
      <p:sp>
        <p:nvSpPr>
          <p:cNvPr id="7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ритерии оценивания результатов обучения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5" name=""/>
          <p:cNvGraphicFramePr/>
          <p:nvPr/>
        </p:nvGraphicFramePr>
        <p:xfrm>
          <a:off x="457200" y="1052640"/>
          <a:ext cx="8229600" cy="5457600"/>
        </p:xfrm>
        <a:graphic>
          <a:graphicData uri="http://schemas.openxmlformats.org/drawingml/2006/table">
            <a:tbl>
              <a:tblPr/>
              <a:tblGrid>
                <a:gridCol w="1450800"/>
                <a:gridCol w="1292400"/>
                <a:gridCol w="1371600"/>
                <a:gridCol w="1371600"/>
                <a:gridCol w="1371600"/>
                <a:gridCol w="1371600"/>
              </a:tblGrid>
              <a:tr h="1046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ритерии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ещение зан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рубежного контрол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еты по деловым игр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ие литерату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ормирова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е портфоли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1258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лич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и одного пропу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ы написаны и зачт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отчеты сданы воврем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а и проанализирована основная и дополнительная литература (выд. красным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фолио содержит все пунк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988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орош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ещены не менее 90% зан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ы написаны и зачте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е отчеты сда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зучена основная литера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фолио не содержит 3 и 10 пун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довлетво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ещены не менее 80% зан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ы по 2 темам не зачтены или не написан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еты сданы не вс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тура не изуч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фолио содержит пункты 4,6-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158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удовле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орительн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ещены менее 80% занят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сты не написаны или не зачтены больше чем по 2-м тема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четы не сдан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тература не изуч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тфолио отсутству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</a:tbl>
          </a:graphicData>
        </a:graphic>
      </p:graphicFrame>
      <p:sp>
        <p:nvSpPr>
          <p:cNvPr id="7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0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2. История развития менеджмен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токи возникновения менеджмента. Развитие управления как науки. Школы менеджмента. Научное управление. Концепция бюрократии. Классическое управление. Доктрина человеческих отношений. Поведенческие нау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3. Современные подходы к менеджмен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ременные концепции менеджмента с точки зрения количественного, процессного, системного и ситуационного подхода. Вклад в современную науку менеджмента концепций различных школ и подходов. Система взглядов на управление в России в современных услов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Ь 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ЕОРИЯ ОРГА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4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ие характеристики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организации и ее место в менеджменте. Формальные и неформальные организации. Жизненный цикл организации. Внутренняя и внешняя среда организации. Организация как открытая социально-экономическая система. Критерии результативности организ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457200" y="-36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5. Цели организации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иссия организации. Выработка и примерное содержание миссии. Понятие и виды целей. Целеполагание. Правила построения дерева целей. Примерное содержание дерева целей приборостроительного предприятия. Управление по целям (по результатам). Этапы процесса управления по целя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6. Формирование взаимодействия и построение организации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ункция организации как создание реальных условий для достижения целей. Организация взаимодействия между линейными, функциональными и штабными полномочиями. Делегирование полномочий. Полномочия и ответственность. Власть и пределы полномочий. Соотношение централизации и децентрализации в структуре менеджм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Прямоугольник 3"/>
          <p:cNvSpPr/>
          <p:nvPr/>
        </p:nvSpPr>
        <p:spPr>
          <a:xfrm>
            <a:off x="468360" y="765000"/>
            <a:ext cx="842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6. Формирование взаимодействия и построение организации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роение организаций. Элементы организационной структуры управления. Линейная, линейно-функциональная, линейно-штабная структуры управления. Функциональная и дивизиональная структуры. Матричная структура. Проектирование организационных структур на предприят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Ь 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УНКЦИИ МЕНЕДЖМЕН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7. Планирование в менеджменте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ы, методы и типы планирования. Планирование стратегии. Процесс выбора стратегии. Формирование и реализация стратегии. Структура и технология разработки системы планирования. Планирование производства и реализации продукции. Планирование затрат. Планирование себестоимости продукции предприятия приборостроения. Составление баланса расходов и дох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8. Мотивация персонал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и элементы мотивации. Содержательные теории мотивации. Процессуальные теории мотивации. Модель процесса мотивации. Современные подходы к мотивации персонала в зарубежных стран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ма 9. Стиль руководства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и виды стилей руководства. Содержание и особенности труда менеджера. Оценка деятельности менеджера. Совершенствование стиля руководства менедж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 txBox="1"/>
          <p:nvPr/>
        </p:nvSpPr>
        <p:spPr>
          <a:xfrm>
            <a:off x="457200" y="0"/>
            <a:ext cx="82296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разделы 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ДУЛЬ 4. СВЯЗУЮЩИЕ ПРОЦЕССЫ В ОРГАНИЗ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ма 10. Принятие управленческих решений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ятие и виды решений. Запрограммированные и незапрограммированные решения. Процесс принятия рационального решения. Технология подготовки и принятия решений. Проблемы и их решение. Разработка вариантов решений. Организация выполнения принятого решения. Управленческое решение и ответственность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550"/>
              </a:spcBef>
              <a:buClr>
                <a:srgbClr val="779f92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ма 9. Коммуникации в менеджменте.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ятие, виды и средства коммуникаций. Коммуникационный процесс и его этапы. Развитие коммуникаций на современном этап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1T09:57:08Z</dcterms:created>
  <dc:creator>SOLO</dc:creator>
  <dc:description/>
  <dc:language>en-US</dc:language>
  <cp:lastModifiedBy>LEGION</cp:lastModifiedBy>
  <dcterms:modified xsi:type="dcterms:W3CDTF">2016-01-11T10:01:43Z</dcterms:modified>
  <cp:revision>841</cp:revision>
  <dc:subject/>
  <dc:title>Руководство по изучению курса «Менеджмент»</dc:title>
</cp:coreProperties>
</file>