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3885-3D6F-4410-AA84-2D4DDC43DF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доцент кафед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а ИЭ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якова Наталья Олег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по изучению кур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доцент кафед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а ИЭ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якова Наталья Олег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по изучению кур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Сущность маркетинга. Понятие маркетинга. Эволюция маркетинговых концепций. Функции маркетинга. Предмет и объект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Понятие, виды и методы маркетинговых коммуникаций. Виды исследований. Наблюдение. Эксперимент. Опрос. Интерв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Сущность маркетинга. Понятие маркетинга. Эволюция маркетинговых концепций. Функции маркетинга. Предмет и объект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Понятие, виды и методы маркетинговых коммуникаций. Виды исследований. Наблюдение. Эксперимент. Опрос. Интерв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лекцион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практического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рубежному контролю (тест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исание курсов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лекцион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практического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рубежному контролю (тест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исание курсов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ктических зан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овые игры и case-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ктических зан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овые игры и case-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тлер Ф. и др. Основы маркетинга: Пер. с англ. – 2-е европ. Изд. –М.; СПб: Издат. Дом «Вильямс»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тлер Ф. и др. Основы маркетинга: Пер. с англ. – 2-е европ. Изд. –М.; СПб: Издат. Дом «Вильямс»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ан А. П. Мои годы с "Дженерал моторc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ан А. П. Мои годы с "Дженерал моторc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из дополнительной литературы.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из дополнительной литературы.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Цели организации. 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Цели организации. 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Мотивация персонала. 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Стиль руководства. 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Мотивация персонала. 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Стиль руководства. 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F220D-9AB3-42A7-9CAD-3D9E7EEF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05AB3-062B-4FC3-BECC-6B0B2BF6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74352C-B5E4-4195-817A-87625275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B6ADD0-3835-4BB9-8CEE-86FCDD07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BE8B8F-2AAC-492E-82EA-22D42D65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02D0CF-1188-4F66-B725-72A7F5FB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A9AF1C-63CF-4B59-A430-FBE2A43A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BC9E85-F4F9-4E76-B240-555B95D8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661FC2-3F0E-45D2-8913-C436377A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D7FC48-FD5A-486E-B22C-AAAACC22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ED62A7-6E20-4BDE-B746-E300D009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6CFADF-B6D5-4EE9-88B7-4C647322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DADA7-A9F5-4DB7-B66B-225792D9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B76B56-01DA-40A8-B651-65D17154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B1B684-EF16-483E-ACC8-89068AFF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3E3E22-DD4E-4309-8965-F535AC90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884CA9-46D6-4071-9864-D0B563A3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55F0D8-1612-4B3D-8816-7F04E965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BAC4E9-947C-45DE-BA18-A2C6006D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C210A3-DFE6-4845-97F9-DD02FA2D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67D72D-E631-48AD-A8CF-466376D0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66E30B-5766-4CAF-BB91-C923A7AB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0EBEC0-FE5F-4BE0-B462-919038D9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39DA-21D0-43E9-AAB9-D8C0FAB1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CBB2BE-352E-47DD-B342-035A7D9C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2385FB-0CA0-4838-96F0-3AB76F8D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431B4A-6645-4B25-B7A2-1E4F77B5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844FC4-775A-4215-A06D-C284AE17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8A0917-6C95-405C-A855-B7794624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7AEC9D-28AB-4082-8C3F-7C4A85A3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813B81-EA77-4F04-83BD-10601CB7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9C86AE-C92A-4FC4-95DD-EF1D6070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D3726C-748F-442B-9F64-BEBA81F3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6DBBA4-1A0E-4233-B0FD-A000FA1C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EB52-F97E-44AE-99ED-2DC89576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68664C-7A8B-491E-9B17-93796764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FBCBC4-56A5-4E6E-8382-77929BCE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73F0DC-E138-4322-B010-8A4F2030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4851B6-6AB4-4CD8-8409-DD8D8D47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E0A9CE-FF47-48D2-93CD-213A4330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F8FE9B-923E-4A45-AB02-E04FF679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029DD0-5A5C-439E-86AB-297D77AF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B5BAEC-5BF7-4174-92B9-A7EE886C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8EB44A-6892-4FA9-AFBE-504DB007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5FD1A3-4FB8-43C2-AE5F-A471C23F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4105-693E-4893-90FF-F5FD894C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3D2093-1F18-41BA-9787-7B75BB8E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70CF29-B470-4F9F-A4B0-6C316935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68C341-A9BF-44AB-B896-241285B0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0A7176-9EB9-4B79-84A4-AA130784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56B6E0-3E45-4B01-A720-DE0E9B25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376AED-C479-4DA9-AC7E-9948D2A6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D3015F-87B3-4A41-B694-56DB4849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AE2CC2-6345-4002-93FB-E0B74D6D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E02651-A0EE-4E9B-A06A-DCF7001A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E769BD-E338-4FF8-8ECF-4AF1FE8C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28B5-709E-464F-8E69-15F1FC40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6F4E4E-80EE-4960-95D0-4FED6CAA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F42F47-50A3-433B-ABFC-19B8EDA0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9AC161-788E-4BF9-9AF0-5675DF16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4F347D-C1AB-4836-8EBE-3FD19997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D494F3-4312-4F75-9C0E-FC9CD8F9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E4E0DF-8580-49FB-BDA1-4039B47A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9AA78C-B2F3-4854-8356-15BE8CE2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C1E4BB-4286-4D52-8AD3-0768B59C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5845D0-A738-49A7-B1A9-09E0F11C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6F9826-9735-4DB2-9F1A-C7601773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1B28-6798-4204-BEDC-6781E91B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C99D63-B77D-4ACD-BF00-DDCA3915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25157A-9430-40D9-B095-B9C9C78B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2FB06A-DFA2-4F58-AEEE-0D542E4D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AEA4C0-779D-495E-A139-D76709C7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A956E3-C1CE-47E9-8D75-6A500598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F403BB-1939-4255-971C-173B390F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4B24C3-0F45-48D4-8DAE-D641903C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B0B4D6-2703-41B0-8888-F189FC14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A6D990-79B0-401E-BE59-946B6CE0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CA2A4D-94FB-4E46-9FB2-11B66204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26C7-22AF-4878-B079-730D60F1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14F54F-A6D9-4BDC-A4B0-7F263DDC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92D474-820F-45D3-90C1-918954E6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7B251C-4BD2-41C3-ACD8-FBAE43BB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617FE1-E6FB-4698-A80F-E0249D70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CF1B5F-2E1B-46BD-A7DB-E0FEEBBF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80B993-EE07-488A-962D-C5A7C0E6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B3620A-8FE3-4766-BE81-774869C1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12398B-50F7-49A0-8E80-EEB737D6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98EF28-6FF9-49A1-9733-22B66F63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84F29D-1430-4EDE-BF26-49EAB7F4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C415-E437-40B0-9E20-BC453BAC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0ECD3A-71F8-4164-A713-1AFD84BA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FD7A0B-CBB1-4B31-8EC4-2AE3F6C8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41E1CE-0E01-4FEA-993A-CC013F70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DA4085-9722-4552-9D91-05B09538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8B9DBC1-F14D-42CE-8DC3-73D7CA7A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8D6BD19-3108-4A7B-AA28-1A7EF3E6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0038A31-8928-4D39-AFBE-D3B96DCD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354D47-304E-4DDF-8326-38571307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B8C923D-1C56-4067-9A4F-EBFF03D6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DE3891-35D7-4566-9E58-BD0BFB49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41F8-167A-4874-A4C8-ABFFB3CA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6E988B-7793-4125-9E79-FB6CEFD6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20BEAA-CC3C-492D-A81E-DA7BFDA6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27CB9E-AC26-45B2-8749-C6F887F6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1D2E-3814-4FC3-ADCB-7E9ABD85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5EE9-087C-4461-AE65-0DC049B9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E7C5-F37C-49F5-AC1A-408B5C77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9A0A-6AB4-4453-A125-FB42A361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4610-F655-4BBC-9571-2680A73D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4E6B-FEE7-4464-9A5F-270914AA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61F43-D5B5-470B-9C76-601DCAB4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78979-EAE2-4FA0-B368-617CD83F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ECA5A-DCCD-47D6-8F01-7896AC3B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4BAF7-0B51-48B6-BEBD-FB3EFBF8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0222F-B3B3-4C98-A9D5-46F9D045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9596-B308-42B4-8291-9CC04D87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1148A-885B-4DC7-B9AE-E665D284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9A262-980D-4B98-9CE6-C7848BEE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6488E-179D-4333-9598-7EF26E18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A262F-9287-40C9-A13B-B94B748B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AA51C-230F-4330-A421-916D0B7A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946FF-BA54-4AFE-96DC-4CF66E0C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9F887-993D-4081-99B8-DDFAC177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9CE7E-F113-4746-A065-B42518BC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7EB1FA-842D-4952-8098-DB4795A1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A3506C-5C81-41A5-847A-6F54FF15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E7123-6BCB-4F65-9028-E515CC21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FA603C-C061-489C-A601-242CCF25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26355-FE88-4D22-9F6C-E368BE67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4CBFDB-03E2-4809-887C-12BD711E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7AFDCA-D79D-44EF-9939-B91AE541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8EB99-F92C-43FE-9876-417254B4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B44187-F911-4758-B25F-0DF2E9D1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1BF2D8-4CEF-4BF1-9E03-7BE5A187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141D2-B11A-41DA-8D45-E03598D2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6CD77-0AA7-4EC4-937B-8B201FCE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C285E-95E7-4417-A8C3-C5AF4F74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9E78-7ADA-41EC-BC38-5B67487C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7629A-BFAB-4D38-9791-1CCA44F4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FAAE7-904F-4C0F-B619-EABA88EA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3BD67-5AA5-435C-9D67-A007FF85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1A897-5B14-4EA0-B38E-B646F965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67403D-9483-4F59-92F9-F440E9DC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9C65E2-91F1-4702-AF7F-1F155679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8806E-BA37-442E-9481-492A2AAA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45E86-413F-4B81-BCD0-813FA8B0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CB762-0041-4AF4-AC29-D9A35FA2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E9171-605E-4402-BDFF-E5E5B37F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5AAC-B03A-47B3-9A3A-921ED839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C73BA-C142-427B-8C4E-A43E7D9F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A61E0-07B0-4868-8908-DCF7F2D0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DED3A-551B-4EED-B85D-368CC3B5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E8D39B-8370-46E3-994B-E1A3B6FE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05D80-6877-4B80-92EE-70BD895C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276AE-D0FA-4B1D-8256-34B7EF9F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A6470-E410-480E-9AC1-B5D983CC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4D17B-0AEA-4A63-8757-E835B582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C37B7-D867-4465-A7C3-A48C3772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81531B-96D5-438A-A93A-9CD0957B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69D9-F561-4317-97B3-9DCA6496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5319BF-AF49-408E-8C27-CF0C2362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64681-AFDB-4F4A-87A8-098247FF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028E48-66DA-42AA-BDC1-32E6FC04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18941-EB4B-4BA9-9C2A-D6008BE9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093FBF-2827-4D2F-BB2B-5BC01102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A4376B-0218-4662-8E7E-1DED8F68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3B7F58-8785-44E4-9107-E3C92EAF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A3E864-5586-4267-977D-7B815E8B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845F2-D753-4B1C-B84F-ED0838EB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2B03B-4F14-4EA2-AD50-EAE2BA17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AF65F-7B3A-4DE7-9036-CFC3961D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24690C-C990-4357-8007-5755ABC2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A3C806-ABC2-4385-9D8B-A7136961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D68F39-CE99-4574-9BA4-3CFDE3B7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3CE36-0556-4FC8-881A-0ECBF1A7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7B43E2-05D3-4A99-9650-4BB779DA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29C85B-DC94-4EE4-B61F-0F0CDE6F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29ADBB-D533-4D4D-AE0F-C7A5F7F5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F629DA-FF89-4609-A1BB-6712BEE1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DF3F48-4526-4FCF-ADD9-60D47743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F6D7FE-BC3C-4A9D-967B-823A2FEE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0AE44-699C-4C93-881E-59B11AB4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1E19FB-8FE9-4C82-B3F1-CDD86AB6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0B74FE-1786-41E8-94BE-D43CA188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CF5BA2-7635-4F97-BDE9-509B4FC9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690D67-A865-4C27-B19A-FD672A1C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2F9587-FC3D-4FAE-A293-22500656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695BC4-11EE-4995-AC4E-7C7AF122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326F4B-D8F1-4187-9EC5-9F71B677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9A0781-D574-4D7B-B08A-8FC912FA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BC9018-2384-4FB9-9F1C-9F2F4925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59ED73-02AD-40CF-9C7F-2994A321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6E5A-DFD1-4F49-BD13-4D1F18058D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5AC6-28D5-49E0-92B2-9A788EBFAC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35AA-BAC6-4659-B95F-F814C9BCC5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C0E3-3FF6-4044-80C6-EF1A5D91E7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30A1-1EB6-41B8-8936-021DB37CBA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40DC-4E77-40FB-9424-2C90571BB1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25A6-1594-4893-8582-D78D20E4DA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7AC2-4E29-491C-A49C-9A01D8F398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020D-B833-4CF9-A8E7-199CFF8C1B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4B7E-C4FC-46F0-A987-BB51B29611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5516-CF57-4B3C-AE64-3F5623BCC3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7591-DA53-4C5E-90DF-8158ABC2FC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7EEC-023D-4C2A-9796-F02DB51D7F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30D1-C511-4806-AA1B-CE0C466195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BD44-CEE0-424A-9E49-2A8D89A400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5B8B-9DB8-43F8-AA22-A73B8AA989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5"/>
          <p:cNvSpPr/>
          <p:nvPr/>
        </p:nvSpPr>
        <p:spPr>
          <a:xfrm>
            <a:off x="4716360" y="465300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к.э.н., доцент кафед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менеджмента ИЭ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Чистякова Наталья Олег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8785440" cy="21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431a"/>
                </a:solidFill>
                <a:latin typeface="Arial"/>
              </a:rPr>
              <a:t>Руководство по изучению курса </a:t>
            </a:r>
            <a:br>
              <a:rPr sz="2800"/>
            </a:br>
            <a:r>
              <a:rPr b="1" lang="ru-RU" sz="2800" spc="-1" strike="noStrike">
                <a:solidFill>
                  <a:srgbClr val="07431a"/>
                </a:solidFill>
                <a:latin typeface="Arial"/>
              </a:rPr>
              <a:t>«Менеджмен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2. Сущность маркетинга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маркетинга. Эволюция маркетинговых концепций. Функции маркетинга. Предмет и объект маркетин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, виды и методы маркетинговых коммуникаций. Виды исследований. Наблюдение. Эксперимент. Опрос. Интерв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сещение лекционных занят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дготовка к практическому занят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сещение практического заня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дготовка к рубежному контролю (тесту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Написание курсовой раб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ды практически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вые игры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-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C:\Чистякова\Чистякова Н.О\Презентации\Материалы_Коробов\new present\DSC_5230.JPG"/>
          <p:cNvPicPr/>
          <p:nvPr/>
        </p:nvPicPr>
        <p:blipFill>
          <a:blip r:embed="rId1"/>
          <a:stretch/>
        </p:blipFill>
        <p:spPr>
          <a:xfrm>
            <a:off x="4859280" y="3789360"/>
            <a:ext cx="3949920" cy="2622600"/>
          </a:xfrm>
          <a:prstGeom prst="rect">
            <a:avLst/>
          </a:prstGeom>
          <a:ln w="0">
            <a:noFill/>
          </a:ln>
        </p:spPr>
      </p:pic>
      <p:sp>
        <p:nvSpPr>
          <p:cNvPr id="71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3964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ая литература по кур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лер Ф. и др. Основы маркетинга: Пер. с англ. – 2-е европ. Изд.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; СПб: Издат. Дом «Вильямс»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лоан А. П. Мои годы с "Дженерал моторc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3" descr="C:\Users\Natalia\Desktop\8273383-.jpg"/>
          <p:cNvPicPr/>
          <p:nvPr/>
        </p:nvPicPr>
        <p:blipFill>
          <a:blip r:embed="rId1"/>
          <a:stretch/>
        </p:blipFill>
        <p:spPr>
          <a:xfrm>
            <a:off x="5870520" y="3067200"/>
            <a:ext cx="2608200" cy="3485880"/>
          </a:xfrm>
          <a:prstGeom prst="rect">
            <a:avLst/>
          </a:prstGeom>
          <a:ln w="0">
            <a:noFill/>
          </a:ln>
        </p:spPr>
      </p:pic>
      <p:sp>
        <p:nvSpPr>
          <p:cNvPr id="7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3" descr="C:\Users\Natalia\Desktop\0,,15290864_1,00.jpg"/>
          <p:cNvPicPr/>
          <p:nvPr/>
        </p:nvPicPr>
        <p:blipFill>
          <a:blip r:embed="rId1"/>
          <a:stretch/>
        </p:blipFill>
        <p:spPr>
          <a:xfrm>
            <a:off x="5364000" y="4138560"/>
            <a:ext cx="3146760" cy="231768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 txBox="1"/>
          <p:nvPr/>
        </p:nvSpPr>
        <p:spPr>
          <a:xfrm>
            <a:off x="457200" y="11592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2"/>
          <p:cNvSpPr/>
          <p:nvPr/>
        </p:nvSpPr>
        <p:spPr>
          <a:xfrm>
            <a:off x="539640" y="115920"/>
            <a:ext cx="8072640" cy="9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з дополнительной литератур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C:\Users\Natalia\Desktop\Безымянный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95280" y="333360"/>
            <a:ext cx="8570880" cy="5850000"/>
          </a:xfrm>
          <a:prstGeom prst="rect">
            <a:avLst/>
          </a:prstGeom>
          <a:ln w="0">
            <a:noFill/>
          </a:ln>
        </p:spPr>
      </p:pic>
      <p:sp>
        <p:nvSpPr>
          <p:cNvPr id="7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457200" y="1052640"/>
          <a:ext cx="8229600" cy="5457600"/>
        </p:xfrm>
        <a:graphic>
          <a:graphicData uri="http://schemas.openxmlformats.org/drawingml/2006/table">
            <a:tbl>
              <a:tblPr/>
              <a:tblGrid>
                <a:gridCol w="1450800"/>
                <a:gridCol w="1292400"/>
                <a:gridCol w="1371600"/>
                <a:gridCol w="1371600"/>
                <a:gridCol w="1371600"/>
                <a:gridCol w="1371600"/>
              </a:tblGrid>
              <a:tr h="1046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рубежного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по деловым иг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е портфол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2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одного пропу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аписаны и зачт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отчеты сданы во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а и проанализирована основная и дополнительная литература (выд. красны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содержит все пун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88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не менее 9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аписаны и зачт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отчеты сд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а основная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не содержит 3 и 10 пун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не менее 8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по 2 темам не зачтены или не напис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сданы не в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 не изуч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содержит пункты 4,6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менее 8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е написаны или не зачтены больше чем по 2-м тем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не сд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 не изуч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отсутств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7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е характеристики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457200" y="-3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5. Цели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3"/>
          <p:cNvSpPr/>
          <p:nvPr/>
        </p:nvSpPr>
        <p:spPr>
          <a:xfrm>
            <a:off x="468360" y="76500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8. Мотивация персонал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9. Стиль руководств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09:57:08Z</dcterms:created>
  <dc:creator>SOLO</dc:creator>
  <dc:description/>
  <dc:language>en-US</dc:language>
  <cp:lastModifiedBy>LEGION</cp:lastModifiedBy>
  <dcterms:modified xsi:type="dcterms:W3CDTF">2016-01-11T10:01:43Z</dcterms:modified>
  <cp:revision>841</cp:revision>
  <dc:subject/>
  <dc:title>Руководство по изучению курса «Менеджмент»</dc:title>
</cp:coreProperties>
</file>