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Елена Шиляева. www.styleantistres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D560-0C02-4704-8438-E6966EB07F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процесс постановки целей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чтайте о высоком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Мечтайте с размах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ша мечта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воплощение вашей мечты ре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мнит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жизни — жить счастлив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смотрите на свою жизнь 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. Мы рождены, чтобы быть счастливыми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свою жизнь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 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мните: миром правит непостоя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лыбай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ключите медитацию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не действ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искусство ничего не дела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способность проводить время наедине с собой, наслаждаясь внутренней тишин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«ничегонеделание» в комплексе с «ниочемнедуманьем»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: почаще позволяйте себе такое уединение. Оно обеспечит вам прилив нов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е время для уединения.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шина способна лечить.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лушайте св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это перв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Добавьте красок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совершенства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Будьте учеником всегд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заставляйте свое тело и душу развив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15C-6746-4627-ABD4-E06647AE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67D-931B-48AA-A6AE-A925245F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10A-DFDD-4AE1-B233-B0AEE416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7D4-41B5-4D95-B7F7-68875007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BD2-3C5A-4A70-9E38-EAB03597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7F9-45A0-41EC-A446-21DC13AC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214-8483-456C-A4B1-04254353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645-A9E5-4C31-AA12-BA82A914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218-BE9E-453A-B00F-E021ED8F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EAB-EE54-4E10-8C85-4CDFA01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656-ECB7-4D30-BF53-3B190EC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641-7FD2-4D34-8F8F-FE3A656A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250-D2A6-41E4-B9F4-BFFE93BC16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elo/pro-umenie-stavit-tseli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usha/pochemu-ne-sbyvayutsya-mechty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3399ff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0 &amp;scy;&amp;pcy;&amp;ocy;&amp;scy;&amp;ocy;&amp;bcy;&amp;ocy;&amp;vcy; &amp;ucy;&amp;lcy;&amp;ucy;&amp;chcy;&amp;shcy;&amp;icy;&amp;tcy;&amp;softcy; &amp;scy;&amp;vcy;&amp;ocy;&amp;yucy; &amp;zhcy;&amp;icy;&amp;zcy;&amp;ncy;&amp;softcy;"/>
          <p:cNvPicPr/>
          <p:nvPr/>
        </p:nvPicPr>
        <p:blipFill>
          <a:blip r:embed="rId1"/>
          <a:stretch/>
        </p:blipFill>
        <p:spPr>
          <a:xfrm>
            <a:off x="2627280" y="2708280"/>
            <a:ext cx="3905280" cy="279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116000" y="162864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способов улучшить 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ю жизнь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89647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0920" y="1916280"/>
            <a:ext cx="3241440" cy="4254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цесс постановки ц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22560" y="6224760"/>
            <a:ext cx="68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303662713_motivator-14232"/>
          <p:cNvPicPr/>
          <p:nvPr/>
        </p:nvPicPr>
        <p:blipFill>
          <a:blip r:embed="rId2"/>
          <a:srcRect l="0" t="1805" r="0" b="7926"/>
          <a:stretch/>
        </p:blipFill>
        <p:spPr>
          <a:xfrm>
            <a:off x="3564000" y="1989000"/>
            <a:ext cx="5364000" cy="4030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0. Мечтайте о высоком! 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                Мечтайте с размах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1844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а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95640" y="5799240"/>
            <a:ext cx="67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оплощение вашей мечт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ре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725"/>
          <p:cNvPicPr/>
          <p:nvPr/>
        </p:nvPicPr>
        <p:blipFill>
          <a:blip r:embed="rId2"/>
          <a:stretch/>
        </p:blipFill>
        <p:spPr>
          <a:xfrm>
            <a:off x="2830680" y="1844640"/>
            <a:ext cx="6134040" cy="3981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56536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И помн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Цель жизни — жить счастливо!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. Посмотрите на свою жизнь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57800" y="3598920"/>
            <a:ext cx="4606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 рождены, чтобы быть счастливы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2360" y="141300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ьте свою жиз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523622566"/>
          <p:cNvPicPr/>
          <p:nvPr/>
        </p:nvPicPr>
        <p:blipFill>
          <a:blip r:embed="rId1"/>
          <a:srcRect l="10199" t="0" r="7002" b="0"/>
          <a:stretch/>
        </p:blipFill>
        <p:spPr>
          <a:xfrm>
            <a:off x="1979640" y="3662280"/>
            <a:ext cx="3240000" cy="293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2. Помните: миром правит непосто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95640" y="5734080"/>
            <a:ext cx="64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337519972_motivator-0059"/>
          <p:cNvPicPr/>
          <p:nvPr/>
        </p:nvPicPr>
        <p:blipFill>
          <a:blip r:embed="rId1"/>
          <a:srcRect l="0" t="2628" r="0" b="0"/>
          <a:stretch/>
        </p:blipFill>
        <p:spPr>
          <a:xfrm>
            <a:off x="4600440" y="2205000"/>
            <a:ext cx="4364280" cy="3467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187280" y="2276640"/>
            <a:ext cx="2881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3. Улыб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84280"/>
            <a:ext cx="85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35280" y="61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MILES baby"/>
          <p:cNvPicPr/>
          <p:nvPr/>
        </p:nvPicPr>
        <p:blipFill>
          <a:blip r:embed="rId1"/>
          <a:stretch/>
        </p:blipFill>
        <p:spPr>
          <a:xfrm>
            <a:off x="2843280" y="278136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4. Включите медитацию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1403280"/>
            <a:ext cx="89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не действи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искусство ничего не дел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способность проводить время наедине с собой, наслаждаясь внутренней тиши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220500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ичегонеделание» в комплексе с «ниочемнедуманьем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2920" y="3317760"/>
            <a:ext cx="4753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очаще позволяйте себе такое уединение. Оно обеспечит вам прилив новых с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ите время для уединен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шина способна лечи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300465_640"/>
          <p:cNvPicPr/>
          <p:nvPr/>
        </p:nvPicPr>
        <p:blipFill>
          <a:blip r:embed="rId1"/>
          <a:srcRect l="12886" t="0" r="16294" b="0"/>
          <a:stretch/>
        </p:blipFill>
        <p:spPr>
          <a:xfrm>
            <a:off x="1403280" y="3573360"/>
            <a:ext cx="2881440" cy="25434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5. Слушайте св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1413000"/>
            <a:ext cx="338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это перв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50920" y="494820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ole-primaverile_full"/>
          <p:cNvPicPr/>
          <p:nvPr/>
        </p:nvPicPr>
        <p:blipFill>
          <a:blip r:embed="rId1"/>
          <a:stretch/>
        </p:blipFill>
        <p:spPr>
          <a:xfrm>
            <a:off x="3713040" y="1484280"/>
            <a:ext cx="5106960" cy="3379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6. Добавьте красок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0920" y="5799240"/>
            <a:ext cx="65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уки-позитив"/>
          <p:cNvPicPr/>
          <p:nvPr/>
        </p:nvPicPr>
        <p:blipFill>
          <a:blip r:embed="rId1"/>
          <a:stretch/>
        </p:blipFill>
        <p:spPr>
          <a:xfrm>
            <a:off x="2232000" y="2133720"/>
            <a:ext cx="6300720" cy="3544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184464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124000" y="5586480"/>
            <a:ext cx="684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ние соверше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z_2e0d4e4d"/>
          <p:cNvPicPr/>
          <p:nvPr/>
        </p:nvPicPr>
        <p:blipFill>
          <a:blip r:embed="rId1"/>
          <a:srcRect l="6996" t="24783" r="7442" b="25656"/>
          <a:stretch/>
        </p:blipFill>
        <p:spPr>
          <a:xfrm>
            <a:off x="1908000" y="2997360"/>
            <a:ext cx="6840720" cy="24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8. Будьте учеником все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052720" y="57355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тавляйте свое тело и душу разви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1"/>
          <a:stretch/>
        </p:blipFill>
        <p:spPr>
          <a:xfrm>
            <a:off x="2411280" y="1413000"/>
            <a:ext cx="5545440" cy="4097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2:34:58Z</dcterms:created>
  <dc:creator>Елена Старкова</dc:creator>
  <dc:description/>
  <dc:language>en-US</dc:language>
  <cp:lastModifiedBy>Legion</cp:lastModifiedBy>
  <dcterms:modified xsi:type="dcterms:W3CDTF">2017-09-22T10:51:38Z</dcterms:modified>
  <cp:revision>2</cp:revision>
  <dc:subject/>
  <dc:title>Презентация PowerPoint</dc:title>
</cp:coreProperties>
</file>