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способов улучшить 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: Елена Шиляева. www.styleantistres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5313-A89D-4507-BBFE-E9B02F0F0E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способов улучш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Ставьте для себя краткосрочные и долгосрочные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так устроен, что в любой момент времени он испытывает целый ряд эмоций, как от прошлого, так и от будущего. Мы можем одновременно быть злы на какие-то обстоятельства прошлого и поэтому опасаться будуще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 же мы научимся мыслить настоящим моментом и жить в формате «здесь и сейчас», то и процесс постановки целей на будущее станет максимально корректным. И только такой подход гарантирует вам выбор верного направления жизни, о котором в последствии вы, скорее всего, никогда не пожалеете и не усомните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 постановке цели умейте расставить приоритеты. Не перечисляйте всего, чего хотели бы добиться в жизни. Выберите только наиболее важные це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Мечтайте о высоком!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Мечтайте с размахо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все говорят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аша мечта 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воплотима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нтазия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чтай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о невозможном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нет мечты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нет 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 родились в этом мире, чтобы сделать что-то замечательное и уникальное. Не упускайте эту возмож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йте себе свободу думать с размахом. И имейте храбрость верить, что воплощение вашей мечты ре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 помнит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жизни — жить счастливо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смотрите на свою жизнь инач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а жизнь вращается вокруг нас. Мы рождены, чтобы быть счастливыми. Всё, что существует в этом мире, существует, чтобы иметь свой ход развития. Так, например, ваше тело может быть здоровым, больным и наконец оставить вас. Но, присмотритесь повнимательнее: где-то глубоко внутри всегда живет ощущение счаст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любовь к жизни, доверие к миру и счастье — ваши естественные состояния, то всё остальное происходит само по 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свою жизнь на ленте времени или как определенный период в истории мироздания, в истории человечества… Миллиарды лет позади и никому неизвестно, сколько еще вперед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есть наша жизнь в этой бесконечной реке времени? Годы человеческой жизни растворяются в этом поток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знание подобного положения вещей помогает изменить мировоззрение: в масштабах мироздания нас просто нет! Мысль о том, что ты есть песчинка относительно масштабов вселенной, настраивает на жизнь в формате «здесь и сейчас». Все мелочи отпадают и человек начинает ценить каждое мгновение свое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мните: миром правит непостоя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лянитесь вокруг. Наша жизнь не отличается постоянством. Вчерашний день —уже история. И завтра неминуемо станет исто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, чтобы поддержать нас в жизненно-активном состоянии мир периодически обеспечивает нам встряску, создавая некий дискомфорт и подбрасывая ситуации, требующие незамедлительного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 не должны этого боя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ши дни наполнены как позитивными для нас событиями, так и негативными. И неприятности существуют ровно для того, чтобы мы могли по достоинству оценить приятные моме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 только на минутку представьте себе, что жизнь состояла бы только из прекрасных моментов. Что было бы с нами? Закисли бы от скук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лыбайт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адные психологи в ходе исследования установили, что дети улыбаются до 400 раз в день, подросток — только порядка 20 раз, ну, а взрослый человек — ни разу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 должны больше улыбаться. Наша психика устроена по законам обратной связи: мы улыбаемся, когда мы счастливы, но и мы счастливы, когда улыбаемся. При улыбке мышцы лица расслабляются и вы уже подзаряжаетесь энергией и оптимизмом для новых достиж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ыбайтесь больше. Улыбайтесь чащ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жите себе: будь что будет — сегодня я буду улыбаться и буду счастли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ключите медитацию в 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тация — это не действие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тация — это искусство ничего не делать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тация — это способность проводить время наедине с собой, наслаждаясь внутренней тишиной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читается, что отдых в глубокой медитации превосходит по своему восстановительному действию даже самый глубокий со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то, хотя бы однажды пробовал на практике медитацию, согласится, что несмотря на всю парадоксальность ситуации — «ничегонеделание» в комплексе с «ниочемнедуманьем» 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занятие архисложное и обычному современному человеку может оказаться непонятным и непоси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е тихое и безмятежное место, куда человек может удалиться — это его душа: почаще позволяйте себе такое уединение. Оно обеспечит вам прилив новых си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ите время для уединения. Если вы всё время заняты делами, общаетесь с различными людьми по самым разным вопросам, то вам определенно не хватает времени для себя самих — несколько минут тишины могут сотворить чудо. Каждый день находите возможность побыть несколько мгновений в тишине, отставив весь мир с его непрекращаемой сует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шина способна лечить. Тишина омолаживает. Тишина вселяет веру в стабильность и развивает творчество. Нестандартные решения возникают только когда вы расслабл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лушайте свое дых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хание — это перво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 последнее действи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 жизни каждого и нас!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хание —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это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и е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жизн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 не учат, как правильно дышать и наблюдать свое дыхание, но однажды познакомившись со специальными техниками дыхания, будь то на специальных психологических тренингах (например, телесно-ориентированной терапии) или на занятиях по программам цикла «разумное тело» (йога, пилатес и др), мы делаем для себя настоящие открытие: «каждому нашему внутреннему состоянию соответствует свое дыхание!». Поэтому когда мы не можем справиться со своим настроением или эмоциональным состоянием напрямую, мы можем справиться с ним с помощью дых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Добавьте красок в свою жиз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без эмоций — это высохшее раст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, что вы сами являетесь творцами своей жизн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ть свою жизнь более интересной, активной, полной поводов для удивления под силу каждому из нас: музыка, путешествия, знакомства с интересными людьми, познание нового и совершенствование уже имеющихся навыков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Не бойтесь совершать ошибки и не ищите соверше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уже было сказано ранее, в нашем непостоянном мире совершенство не может присутствовать ежесекунд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Даже лучшее из действий, совершенное с самыми благородными намерениями, не будет без недостатков», — Шри Шри Рави Шанка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е совершенства автоматически приводит вас к переживанию негативных эмоций: наблюдая, как ошибаются другие или понимая, что ошиблись вы сами, вы испытываете гнев, разочарование, вы злите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 же мы радуемся, то мы просто подтверждаем, что способны принимать жизнь, такой, какая она е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Будьте учеником всегда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 упускайте ни одной возможности познавать что-то новое, осваивать новые виды деятельности — заставляйте свое тело и душу развива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783D-9E20-4700-8259-932F8C53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58E0-32DD-43EC-979E-7B049B82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1757-C97E-4F91-B1A7-E48ACA1B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F38-4601-431E-9DBA-A2D8FDD9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F19-734F-4586-ABC2-D7A221CD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4365-4C83-4C9F-A9F3-ADF0149D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3BB6-DFE5-406B-B708-39375F3C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E6DE-2D47-46EA-9B95-FBB0CFD6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19AD-666E-4F79-9B82-11083C69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F791-8202-4A35-8DC2-3BA236BB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0ED-FB3B-4EA3-936D-9C89CC85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FB33-82D2-4E27-B3A9-57C7F2DE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D29F-906F-45EA-8CCE-F600BCF220A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yleantistress.ru/articles/delo/pro-umenie-stavit-tseli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yleantistress.ru/articles/dusha/pochemu-ne-sbyvayutsya-mechty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67280" y="6021000"/>
            <a:ext cx="4968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800" spc="-1" strike="noStrike">
              <a:solidFill>
                <a:srgbClr val="3399ff"/>
              </a:solidFill>
              <a:latin typeface="Calibri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10 &amp;scy;&amp;pcy;&amp;ocy;&amp;scy;&amp;ocy;&amp;bcy;&amp;ocy;&amp;vcy; &amp;ucy;&amp;lcy;&amp;ucy;&amp;chcy;&amp;shcy;&amp;icy;&amp;tcy;&amp;softcy; &amp;scy;&amp;vcy;&amp;ocy;&amp;yucy; &amp;zhcy;&amp;icy;&amp;zcy;&amp;ncy;&amp;softcy;"/>
          <p:cNvPicPr/>
          <p:nvPr/>
        </p:nvPicPr>
        <p:blipFill>
          <a:blip r:embed="rId1"/>
          <a:stretch/>
        </p:blipFill>
        <p:spPr>
          <a:xfrm>
            <a:off x="2627280" y="2708280"/>
            <a:ext cx="3905280" cy="2790720"/>
          </a:xfrm>
          <a:prstGeom prst="rect">
            <a:avLst/>
          </a:prstGeom>
          <a:ln w="0">
            <a:noFill/>
          </a:ln>
        </p:spPr>
      </p:pic>
      <p:sp>
        <p:nvSpPr>
          <p:cNvPr id="51" name="WordArt 7"/>
          <p:cNvSpPr txBox="1"/>
          <p:nvPr/>
        </p:nvSpPr>
        <p:spPr>
          <a:xfrm>
            <a:off x="1116000" y="1628640"/>
            <a:ext cx="6985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c832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способов улучшить </a:t>
            </a:r>
            <a:endParaRPr b="0" lang="en-US" sz="1800" spc="1" strike="noStrike">
              <a:ln w="2232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c8328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c8328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ою жизнь</a:t>
            </a:r>
            <a:endParaRPr b="0" lang="en-US" sz="1800" spc="1" strike="noStrike">
              <a:ln w="2232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c8328"/>
                  </a:gs>
                </a:gsLst>
                <a:lin ang="189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8964720" cy="7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50920" y="9079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9. Ставьте для себя краткосрочные и долгосрочные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50920" y="1916280"/>
            <a:ext cx="3241440" cy="425448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 так устроен, что в любой момент времени он испытывает целый ряд эмоций, как от прошлого, так и от будущего. Мы можем одновременно быть злы на какие-то обстоятельства прошлого и поэтому опасаться будущег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 же мы научимся мыслить настоящим моментом и жить в формате «здесь и сейчас», то и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процесс постановки це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на будущее станет максимально корректным. И только такой подход гарантирует вам выбор верного направления жизни, о котором в последствии вы, скорее всего, никогда не пожалеете и не усомнитес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122560" y="6224760"/>
            <a:ext cx="684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 постановке цели умейте расставить приоритеты. Не перечисляйте всего, чего хотели бы добиться в жизни. Выберите только наиболее важные цел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1303662713_motivator-14232"/>
          <p:cNvPicPr/>
          <p:nvPr/>
        </p:nvPicPr>
        <p:blipFill>
          <a:blip r:embed="rId2"/>
          <a:srcRect l="0" t="1805" r="0" b="7926"/>
          <a:stretch/>
        </p:blipFill>
        <p:spPr>
          <a:xfrm>
            <a:off x="3564000" y="1989000"/>
            <a:ext cx="5364000" cy="40309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50920" y="9079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10. Мечтайте о высоком! </a:t>
            </a:r>
            <a:br>
              <a:rPr sz="2800"/>
            </a:b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                Мечтайте с размах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24000" y="1844640"/>
            <a:ext cx="25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все говорят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ваш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ч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невоплотима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нтази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чтайт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о невозможном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 нет мечты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нет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195640" y="5799240"/>
            <a:ext cx="676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 родились в этом мире, чтобы сделать что-то замечательное и уникальное. Не упускайте эту возмож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йте себе свободу думать с размахом. И имейте храбрость верить, что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воплощение вашей мечты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реаль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5725"/>
          <p:cNvPicPr/>
          <p:nvPr/>
        </p:nvPicPr>
        <p:blipFill>
          <a:blip r:embed="rId2"/>
          <a:stretch/>
        </p:blipFill>
        <p:spPr>
          <a:xfrm>
            <a:off x="2830680" y="1844640"/>
            <a:ext cx="6134040" cy="39816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2565360"/>
            <a:ext cx="85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И помни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Цель жизни — жить счастливо!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1. Посмотрите на свою жизнь ина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357800" y="3598920"/>
            <a:ext cx="4606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ша жизнь вращается вокруг на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ы рождены, чтобы быть счастливым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сё, что существует в этом мире, существует, чтобы иметь свой ход развития. Так, например, ваше тело может быть здоровым, больным и наконец оставить вас. Но, присмотритесь повнимательнее: где-то глубоко внутри всегда живет ощущение счасть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00000" indent="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ли любовь к жизни, доверие к миру и счастье — ваши естественные состояния, то всё остальное происходит само по себ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52360" y="1413000"/>
            <a:ext cx="8640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ставьте свою жизн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 ленте времени или как определенный период в истории мироздания, в истории человечества… Миллиарды лет позади и никому неизвестно, сколько еще вперед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то есть наша жизнь в этой бесконечной реке времени? Годы человеческой жизни растворяются в этом потоке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ознание подобного положения вещей помогает изменить мировоззрение: в масштабах мироздания нас просто нет!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сль о том, что ты есть песчинка относительно масштабов вселенной, настраивает на жизнь в формате «здесь и сейчас». Все мелочи отпадают и человек начинает ценить каждое мгновение своей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523622566"/>
          <p:cNvPicPr/>
          <p:nvPr/>
        </p:nvPicPr>
        <p:blipFill>
          <a:blip r:embed="rId1"/>
          <a:srcRect l="10199" t="0" r="7002" b="0"/>
          <a:stretch/>
        </p:blipFill>
        <p:spPr>
          <a:xfrm>
            <a:off x="1979640" y="3662280"/>
            <a:ext cx="3240000" cy="293544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2. Помните: миром правит непостоя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4000" y="15573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лянитесь вокруг. Наша жизнь не отличается постоянством. Вчерашний день —уже история. И завтра неминуемо станет истор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195640" y="5734080"/>
            <a:ext cx="640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этому, чтобы поддержать нас в жизненно-активном состоянии мир периодически обеспечивает нам встряску, создавая некий дискомфорт и подбрасывая ситуации, требующие незамедлительного ре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 не должны этого боя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1337519972_motivator-0059"/>
          <p:cNvPicPr/>
          <p:nvPr/>
        </p:nvPicPr>
        <p:blipFill>
          <a:blip r:embed="rId1"/>
          <a:srcRect l="0" t="2628" r="0" b="0"/>
          <a:stretch/>
        </p:blipFill>
        <p:spPr>
          <a:xfrm>
            <a:off x="4600440" y="2205000"/>
            <a:ext cx="4364280" cy="3467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1187280" y="2276640"/>
            <a:ext cx="28814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ши дни наполнены как позитивными для нас событиями, так и негативными. И неприятности существуют ровно для того, чтобы мы могли по достоинству оценить приятные момен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 только на минутку представьте себе, что жизнь состояла бы только из прекрасных моментов. Что было бы с нами? Закисли бы от скуки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3. Улыбайте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1484280"/>
            <a:ext cx="85690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адные психологи в ходе исследования установили, что дети улыбаются до 400 раз в день, подросток — только порядка 20 раз, ну, а взрослый человек — ни разу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ы должны больше улыбаться. Наша психика устроена по законам обратной связи: мы улыбаемся, когда мы счастливы, но и мы счастливы, когда улыбаемся. При улыбке мышцы лица расслабляются и вы уже подзаряжаетесь энергией и оптимизмом для новых достиже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835280" y="61657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лыбайтесь больше. Улыбайтесь чащ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ажите себе: будь что будет — сегодня я буду улыбаться и буду счастлив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SMILES baby"/>
          <p:cNvPicPr/>
          <p:nvPr/>
        </p:nvPicPr>
        <p:blipFill>
          <a:blip r:embed="rId1"/>
          <a:stretch/>
        </p:blipFill>
        <p:spPr>
          <a:xfrm>
            <a:off x="2843280" y="2781360"/>
            <a:ext cx="4952880" cy="33526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4. Включите медитацию в свою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16000" y="1403280"/>
            <a:ext cx="896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ита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это не действие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ита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это искусство ничего не делать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дитац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это способность проводить время наедине с собой, наслаждаясь внутренней тишино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50920" y="2205000"/>
            <a:ext cx="8424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читается, что отдых в глубокой медитации превосходит по своему восстановительному действию даже самый глубокий со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то, хотя бы однажды пробовал на практике медитацию, согласится, что несмотря на всю парадоксальность ситуации —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ничегонеделание» в комплексе с «ниочемнедуманьем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занятие архисложное и обычному современному человеку может оказаться непонятным и непосильн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282920" y="3317760"/>
            <a:ext cx="47530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амое тихое и безмятежное место, куда человек может удалиться — это его душ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 почаще позволяйте себе такое уединение. Оно обеспечит вам прилив новых си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ходите время для уединения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Если вы всё время заняты делами, общаетесь с различными людьми по самым разным вопросам, то вам определенно не хватает времени для себя самих — несколько минут тишины могут сотворить чудо. Каждый день находите возможность побыть несколько мгновений в тишине, отставив весь мир с его непрекращаемой сует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ишина способна лечи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ишина омолаживает. Тишина вселяет веру в стабильность и развивает творчество. Нестандартные решения возникают только когда вы расслабл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300465_640"/>
          <p:cNvPicPr/>
          <p:nvPr/>
        </p:nvPicPr>
        <p:blipFill>
          <a:blip r:embed="rId1"/>
          <a:srcRect l="12886" t="0" r="16294" b="0"/>
          <a:stretch/>
        </p:blipFill>
        <p:spPr>
          <a:xfrm>
            <a:off x="1403280" y="3573360"/>
            <a:ext cx="2881440" cy="25434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5. Слушайте свое дых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50920" y="1413000"/>
            <a:ext cx="338436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ыхание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это перво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 последнее действи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 жизни каждого и нас!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ых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эт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и е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050920" y="4948200"/>
            <a:ext cx="6913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с не учат, как правильно дышать и наблюдать свое дыхание, но однажды познакомившись со специальными техниками дыхания, будь то на специальных психологических тренингах (например, телесно-ориентированной терапии) или на занятиях по программам цикла «разумное тело» (йога, пилатес и др), мы делаем для себя настоящие открытие: «каждому нашему внутреннему состоянию соответствует свое дыхание!». Поэтому когда мы не можем справиться со своим настроением или эмоциональным состоянием напрямую, мы можем справиться с ним с помощью дых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sole-primaverile_full"/>
          <p:cNvPicPr/>
          <p:nvPr/>
        </p:nvPicPr>
        <p:blipFill>
          <a:blip r:embed="rId1"/>
          <a:stretch/>
        </p:blipFill>
        <p:spPr>
          <a:xfrm>
            <a:off x="3713040" y="1484280"/>
            <a:ext cx="5106960" cy="33796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6. Добавьте красок в свою жиз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50920" y="1413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без эмоций — это высохшее раст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ните, что вы сами являетесь творцами своей жиз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050920" y="5799240"/>
            <a:ext cx="655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делать свою жизнь более интересной, активной, полной поводов для удивления под силу каждому из нас: музыка, путешествия, знакомства с интересными людьми, познание нового и совершенствование уже имеющихся навыков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руки-позитив"/>
          <p:cNvPicPr/>
          <p:nvPr/>
        </p:nvPicPr>
        <p:blipFill>
          <a:blip r:embed="rId1"/>
          <a:stretch/>
        </p:blipFill>
        <p:spPr>
          <a:xfrm>
            <a:off x="2232000" y="2133720"/>
            <a:ext cx="6300720" cy="3544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250920" y="90792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7. Не бойтесь совершать ошибки и не ищите соверше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50920" y="1844640"/>
            <a:ext cx="85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к уже было сказано ранее, в нашем непостоянном мире совершенство не может присутствовать ежесекунд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468360" y="2276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Даже лучшее из действий, совершенное с самыми благородными намерениями, не будет без недостатков», — Шри Шри Рави Шанка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124000" y="5586480"/>
            <a:ext cx="684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жидание совершенств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втоматически приводит вас к переживанию негативных эмоций: наблюдая, как ошибаются другие или понимая, что ошиблись вы сами, вы испытываете гнев, разочарование, вы злите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 же мы радуемся, то мы просто подтверждаем, что способны принимать жизнь, такой, какая она е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z_2e0d4e4d"/>
          <p:cNvPicPr/>
          <p:nvPr/>
        </p:nvPicPr>
        <p:blipFill>
          <a:blip r:embed="rId1"/>
          <a:srcRect l="6996" t="24783" r="7442" b="25656"/>
          <a:stretch/>
        </p:blipFill>
        <p:spPr>
          <a:xfrm>
            <a:off x="1908000" y="2997360"/>
            <a:ext cx="6840720" cy="248580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50920" y="907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8. Будьте учеником всегд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052720" y="5735520"/>
            <a:ext cx="69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 упускайте ни одной возможности познавать что-то новое, осваивать новые виды деятельности —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ставляйте свое тело и душу развивать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1"/>
          <p:cNvPicPr/>
          <p:nvPr/>
        </p:nvPicPr>
        <p:blipFill>
          <a:blip r:embed="rId1"/>
          <a:stretch/>
        </p:blipFill>
        <p:spPr>
          <a:xfrm>
            <a:off x="2411280" y="1413000"/>
            <a:ext cx="5545440" cy="40971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12:34:58Z</dcterms:created>
  <dc:creator>Елена Старкова</dc:creator>
  <dc:description/>
  <dc:language>en-US</dc:language>
  <cp:lastModifiedBy>Legion</cp:lastModifiedBy>
  <dcterms:modified xsi:type="dcterms:W3CDTF">2017-09-22T10:51:38Z</dcterms:modified>
  <cp:revision>2</cp:revision>
  <dc:subject/>
  <dc:title>Презентация PowerPoint</dc:title>
</cp:coreProperties>
</file>