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81C5-B39F-472A-BAAD-5E5EEE2804B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бориг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Аборигены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EE5-3B0E-4E01-A8A2-C7E6F8CE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140-0F6B-4BF2-BDF7-85012F4F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4A2-C7C5-4F14-9E4C-DD489348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00B-5E1F-4D5F-8AEE-5DF207FA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9EF2-97F9-49C4-B0D6-9D9F7D0D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228E-EBF1-4892-93B6-A559638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3928-C85A-4300-84C7-6372F12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229D-2A73-4390-BFA1-889DDE0E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59FC-5E29-413A-BFF8-45D52985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DF51-95D2-44B8-B52E-4A307E16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6FCE-A181-4CBE-B203-206D853F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5B9-3950-43CE-9693-EAE1501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AC9E-F388-4DEB-A8DA-4AF21E7C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EF22-EB39-4FA7-933E-13C4732F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FFDA-4059-4A8C-AA6F-9DF1E514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52BB-E141-4361-899A-7DADD26E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CA56-2E92-4E66-AD85-AF07058F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665-C3D4-4F22-95FF-BC4ECED6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D44-F729-4F48-987D-A72C315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E96E-A000-4636-BC09-6929A0E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890-AC6C-4489-8C45-77CB2A78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AE5-EE7C-4434-AF49-724C599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BD7-AB25-4033-BA3E-F39E06F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F8A-88FD-41DA-B902-B87D55E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BB70-DA96-4495-B854-185F2F2267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D407-72E7-49F0-9A9A-F64A4566EFD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ccecff"/>
                </a:solidFill>
                <a:latin typeface="Arial"/>
              </a:rPr>
              <a:t>Аборигены</a:t>
            </a:r>
            <a:r>
              <a:rPr b="0" lang="ru-RU" sz="9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4" descr="18f73cbfe567d0aa8a51308bd3f7fc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8" name="Picture 4" descr="21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4" descr="69216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4" descr="54685186913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4" descr="50486378514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4" descr="695027960599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aborigeny-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2" name="Picture 4" descr="aboriginal_dance_festival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11:38Z</dcterms:created>
  <dc:creator>User</dc:creator>
  <dc:description/>
  <dc:language>en-US</dc:language>
  <cp:lastModifiedBy>Legion</cp:lastModifiedBy>
  <dcterms:modified xsi:type="dcterms:W3CDTF">2017-09-22T10:54:48Z</dcterms:modified>
  <cp:revision>10</cp:revision>
  <dc:subject/>
  <dc:title>Аборигены </dc:title>
</cp:coreProperties>
</file>