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4255-097A-4F38-966E-21B46DE468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ориг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Аборигены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78D-2C25-4D49-B112-BB9A8AB4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838-B290-4174-A06F-033ED39F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0B6-D7E5-4321-92AD-8BA566A6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DF3-CBCD-4E9E-9724-C969829B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FB87-B76F-494C-A2D0-E40DB45D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1169-5534-42A0-BF0B-79C054F4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8030-28DE-4E90-A938-CCAFA97A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5DF6-10A9-4735-9A1B-6CAD0D40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EE8B-8680-431C-8728-FF13F11A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BB21-3DC8-41BA-B936-11BA32B2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0144-2E32-4965-BCE2-A4B86758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C87-137D-45B9-BA35-8A2887B7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5DA1-F67C-4A22-A23A-0D57DCD8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F620-6451-421C-810E-833A3F76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FE66-406D-4737-BBBF-78242CB3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219B-F7D8-4269-9E31-3FCE24A2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5624-DD68-4E52-8FAD-05398E56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9D4-0688-4831-9C44-90A3B2D5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BAD-9458-4C4E-A15E-3F9BE927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1C9-C54B-4F66-83C3-9676DCE9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989-B16D-41FE-9E93-F40A212E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E99-795D-4E85-82FD-C7BA59F6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67D-9500-4CA8-BB66-827B0A26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E91-56A9-42EF-91F9-7927DD87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A69B-3E8C-460B-AB08-8FD3215B3E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CD5C-0665-4764-90A4-75937A232483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ccecff"/>
                </a:solidFill>
                <a:latin typeface="Arial"/>
              </a:rPr>
              <a:t>Аборигены</a:t>
            </a:r>
            <a:r>
              <a:rPr b="0" lang="ru-RU" sz="9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258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4" descr="18f73cbfe567d0aa8a51308bd3f7fc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4" descr="21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4" descr="6921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4" descr="54685186913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4" descr="504863785149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4" descr="695027960599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aborigeny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4" descr="aboriginal_dance_festival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11:38Z</dcterms:created>
  <dc:creator>User</dc:creator>
  <dc:description/>
  <dc:language>en-US</dc:language>
  <cp:lastModifiedBy>Legion</cp:lastModifiedBy>
  <dcterms:modified xsi:type="dcterms:W3CDTF">2017-09-22T10:54:48Z</dcterms:modified>
  <cp:revision>10</cp:revision>
  <dc:subject/>
  <dc:title>Аборигены </dc:title>
</cp:coreProperties>
</file>