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6E3A-3AC8-49FD-9C69-37F2050532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ориг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Аборигены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F0D-684A-4158-89EE-79F2344F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D53-EC95-4BAB-A242-B96D71C2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517-342B-4303-B92F-F9FE7E0C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95F-177F-4AFE-821F-6E27E14B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9B29-FBA1-45B6-9E74-DB8B3D66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E80D-64DC-47F6-850E-16C796E7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DBFF-AED7-4B3B-8B06-02099167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F501-4540-4430-88FE-43956991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6C86-3427-4675-8C44-CF8B43A5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4441-0114-48C8-95B3-9FDCC736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8C76-AAA6-4A93-A3CD-11821855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6EF-BDE0-4966-9FF2-0007EA09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56B5-85B2-4722-9418-EE322911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B599-1239-4DB6-8984-0385DA18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57E6-179B-4093-A61C-ADE6CCD3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B3EF-D06D-4215-BC62-6EA22E88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A018-3984-4D54-BBDD-5770374F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0DF-5F84-450A-BD25-A677B3EA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39B-A5F1-493B-A538-0CD96A34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4F4-8E95-409F-B10F-7A10227D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981-9733-49C6-AF10-5271442F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415-6AAC-4F10-A510-095B0300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415-FA10-42BE-BBEE-4E3F97BF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603-612D-4A21-BBEF-638CB6BD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F134-A37A-483A-98EC-5B029E5D51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6097-EB2C-46F5-A316-7F5D05127744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cecff"/>
                </a:solidFill>
                <a:latin typeface="Arial"/>
              </a:rPr>
              <a:t>Аборигены</a:t>
            </a:r>
            <a:r>
              <a:rPr b="0" lang="ru-RU" sz="9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4" descr="18f73cbfe567d0aa8a51308bd3f7fc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4" descr="21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4" descr="6921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54685186913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504863785149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4" descr="695027960599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aborigeny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4" descr="aboriginal_dance_festival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11:38Z</dcterms:created>
  <dc:creator>User</dc:creator>
  <dc:description/>
  <dc:language>en-US</dc:language>
  <cp:lastModifiedBy>Legion</cp:lastModifiedBy>
  <dcterms:modified xsi:type="dcterms:W3CDTF">2017-09-22T10:54:48Z</dcterms:modified>
  <cp:revision>10</cp:revision>
  <dc:subject/>
  <dc:title>Аборигены </dc:title>
</cp:coreProperties>
</file>