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26D5-4CB2-4865-A852-02DEB72465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стр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страл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41C7-F057-4465-BEED-2E53F348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D668-58BB-4772-A1DF-D38EB547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18A1-1ABC-43D2-AC0A-4303D9A8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56A8-9A46-4C2B-AE8E-27A78CF3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62CC-7929-4A1F-8BC5-C88F570A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C8EB-F780-4516-A88B-93612F7E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068A-2EED-4351-9A2F-A5BD7614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C6D0-5CC7-4625-B182-3B83EBD9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4635-09BC-408E-86C7-2F99F779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213E-5FE0-45BD-AFF3-A1496217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5572-6479-4F6E-90A1-7EA9BC5E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3974-E564-4CCD-B8B2-30351F0B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70BA-52DA-44CF-BD3F-DE4F7870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20AE-1ADD-40E1-96B4-E962273E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8EF4-80FF-402B-A752-675C2CD9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C693-87FD-4747-9649-977DAAE8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F677-EFAD-4FCE-8D10-A50D7856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20FE-D924-4E4B-80FD-49702381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9A6B-3D62-4034-BBA8-43A6412F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FEA6-DFBE-4D21-AF0D-F36AA592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E8F3-F843-4A02-8774-3AFFD1EC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8535-765B-4043-836B-69CDC0F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42C2-F928-4874-9026-178FD592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D0AF-E6C1-4A9D-AE89-6751D5DB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269C-3610-44CC-A612-6533F6AEAC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92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CA48-37CB-406C-9DFE-845D371BBB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fdef6"/>
                </a:solidFill>
                <a:latin typeface="Arial"/>
              </a:rPr>
              <a:t>Австралия </a:t>
            </a:r>
            <a:endParaRPr b="0" lang="en-US" sz="10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4" descr="1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4" descr="22_australia_181020051314_8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" descr="220px-Australia_D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845f21ca58465c9702262caef23ea74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art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4" descr="australia_surf_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4" descr="australia-4934_w514h3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25:47Z</dcterms:created>
  <dc:creator>User</dc:creator>
  <dc:description/>
  <dc:language>en-US</dc:language>
  <cp:lastModifiedBy>Legion</cp:lastModifiedBy>
  <dcterms:modified xsi:type="dcterms:W3CDTF">2017-09-22T10:03:07Z</dcterms:modified>
  <cp:revision>31</cp:revision>
  <dc:subject/>
  <dc:title>Австралия</dc:title>
</cp:coreProperties>
</file>