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5FA9-DAA9-4684-A1DD-04972FA2319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встрал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Австрал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F39D1-7427-4EDA-9001-348471266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771D1-AB53-43CE-BD67-29C99D3E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212B4-FEB3-4CDA-9F9C-41E2BEAF0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0195A-1C69-4BBD-864B-CF6ECEE87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A166-B964-4D5C-9529-690980EE6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CE6C-3F2C-4FAE-9816-F918C939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83A1-DB40-4F07-B599-30D1ADAA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68EC5-93D5-4A6C-9170-FF064374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7CD7-7349-45C9-95D2-FB3E1AE5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0494-5EF8-4236-B069-1917CF2A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D023-F2BA-432B-A48A-C09AE706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9E9A3-1C88-44C1-8E43-C656AB4E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0D8C-C0D5-45F4-9280-2C0AEE2B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1036-9845-4CAE-9B83-13A96189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93B6-7364-4B4C-AF08-94591943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00D7-DB3C-4C54-85F9-EC6F669A4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02E3-CAE2-4B1F-ADFC-870FBE1FF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FD530-CF9B-439D-A09C-1DC9D964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15D7E-C230-4400-92B4-8D2F8C62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CFFBC-924D-4749-AA82-76D8F00D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74B1B-242B-41FA-B380-95292337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00DF8-F41C-4E1A-B28E-E732375D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F2F3C-7EBF-4E59-96B0-420F2070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02460-63D2-4BF7-B8E4-8C377ECC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7EE5-00D2-413E-B036-2E2CEC8FC2A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3092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514E-ADE5-40D4-A24D-59A8E084F93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dfdef6"/>
                </a:solidFill>
                <a:latin typeface="Arial"/>
              </a:rPr>
              <a:t>Австралия </a:t>
            </a:r>
            <a:endParaRPr b="0" lang="en-US" sz="10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Рисунок 4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Picture 4" descr="1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Picture 4" descr="22_australia_181020051314_8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Picture 4" descr="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Picture 4" descr="220px-Australia_Da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Picture 4" descr="845f21ca58465c9702262caef23ea74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4" descr="artle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0" name="Picture 4" descr="australia_surf_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Picture 4" descr="australia-4934_w514h3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4:25:47Z</dcterms:created>
  <dc:creator>User</dc:creator>
  <dc:description/>
  <dc:language>en-US</dc:language>
  <cp:lastModifiedBy>Legion</cp:lastModifiedBy>
  <dcterms:modified xsi:type="dcterms:W3CDTF">2017-09-22T10:03:07Z</dcterms:modified>
  <cp:revision>31</cp:revision>
  <dc:subject/>
  <dc:title>Австралия</dc:title>
</cp:coreProperties>
</file>