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6D389-C6CA-49F1-BD18-08B7B597B59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встрал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Австрал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69E97-175F-45E4-AF52-D7E0C2E6D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E1FCB-DDC3-4CC2-ADD0-53805A423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938D5-1046-4843-BC2E-3003E1F6D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FBB22-9EF3-4AC4-8105-E68862A41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1A0D8-FA99-4610-A058-83411CBDD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E1048-FFE2-4738-9117-D80A12870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C35E7-5638-4940-941F-5DD7C8BD0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1BE34-6A90-424C-B9C1-F5509F1D9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EA3BD-6302-4805-996B-86E10DC11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B0AB5-F25B-48B3-89AA-FE799D901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E3D71-697B-4E11-9673-2D8C46DD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5D743-921B-4897-8750-D704CEFB4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2CDD9-D407-428D-86A7-DDD1E92D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121A0-F2D3-4603-A960-1358C82E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7DC67-8699-4ECA-A519-C98079528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29835-8EF9-461C-9069-1AE1D14DF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32D68-26DC-440D-9612-F4BA639C2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ABB33-AFD3-4A7E-9A26-7D2CB01F4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D38D1-3CA7-4248-BF3D-B246794DC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B3B56-3E18-4188-AD71-126A23027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88055-C4F9-4E4F-8953-C90C8A61F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CE029-C2A0-43E3-826D-0ACBD662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9D59A-AE20-4ECF-9900-36ACBCC9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AA97F-5300-4FD3-BC74-E258DB4C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E1B99-93A2-40C1-9CE7-6542024CE1A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3092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7EF1A-FB1A-415B-BFB0-DE105706F51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dfdef6"/>
                </a:solidFill>
                <a:latin typeface="Arial"/>
              </a:rPr>
              <a:t>Австралия </a:t>
            </a:r>
            <a:endParaRPr b="0" lang="en-US" sz="10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8" name="Рисунок 4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Picture 4" descr="1(1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0" name="Picture 4" descr="22_australia_181020051314_87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4" name="Picture 4" descr="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8" name="Picture 4" descr="220px-Australia_Da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2" name="Picture 4" descr="845f21ca58465c9702262caef23ea74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6" name="Picture 4" descr="artle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0" name="Picture 4" descr="australia_surf_6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4" name="Picture 4" descr="australia-4934_w514h3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4:25:47Z</dcterms:created>
  <dc:creator>User</dc:creator>
  <dc:description/>
  <dc:language>en-US</dc:language>
  <cp:lastModifiedBy>Legion</cp:lastModifiedBy>
  <dcterms:modified xsi:type="dcterms:W3CDTF">2017-09-22T10:03:07Z</dcterms:modified>
  <cp:revision>31</cp:revision>
  <dc:subject/>
  <dc:title>Австралия</dc:title>
</cp:coreProperties>
</file>