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4921-B2C8-40FE-8DEF-FFED11ABEF0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бу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тобус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FF8-429B-465B-BF37-B1CD8E5F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501-918D-4CB5-BBE8-BFE53C2B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2BF-C175-4415-974F-B4EC6158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A17-E918-4485-A278-3BAC6F95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50A80-EB3C-436F-A3D0-5621AEB9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76E44-2931-43AE-9644-94A5C3E0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C3281-C4FA-4862-9E32-AE974F92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1126B-D513-4ED3-AC13-50B664D5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D89A3-B599-41CD-A4C8-DDD151D1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88540-B061-4AB4-A8E5-E615B483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F4395-B3E9-4C0C-BB02-CB166F6A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A35-8643-48B7-B2AF-1E969E79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398AA-E26F-4B33-81B3-7433F19F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4A2C8-0FD2-4C97-9AF1-1A5ACBF6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60ACA-5AA5-4124-ABB7-85E369FB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63D64-EF2B-4910-AB2B-0827695A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36A85-AF90-4F74-918A-022AC844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08D-559D-4766-8AE2-5C946241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7A05-B4B3-4360-8562-0BF221F3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C7C-E778-48B1-9873-CC87BC2E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186-8280-44CD-92B0-BFF648D3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815-03EF-4F25-A7FF-AA4F8F3D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6A6-7FFF-43E6-96D4-57BECF92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D94-8878-4EC3-B9AD-F7E19D0B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07F2-6ACD-4D58-8228-FA443B01C0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0F28-A277-4B4B-9DD7-F73739F7A34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e3e3ff"/>
                </a:solidFill>
                <a:latin typeface="Arial"/>
              </a:rPr>
              <a:t>Автобусы</a:t>
            </a:r>
            <a:r>
              <a:rPr b="0" lang="ru-RU" sz="9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1024px-Bogdan_A0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67586_ccy83vgb7zbeq4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1288480046_man_bus_2_s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gaz_group-2013-10-15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http_phot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wikipe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Transport-Autobus-LA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Школьный автобу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34:29Z</dcterms:created>
  <dc:creator>User</dc:creator>
  <dc:description/>
  <dc:language>en-US</dc:language>
  <cp:lastModifiedBy>Legion</cp:lastModifiedBy>
  <dcterms:modified xsi:type="dcterms:W3CDTF">2017-09-22T10:04:42Z</dcterms:modified>
  <cp:revision>10</cp:revision>
  <dc:subject/>
  <dc:title>Автобусы</dc:title>
</cp:coreProperties>
</file>