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10AE-D88E-451B-992F-CC1645F8FB1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тобу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втобус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EA9-148C-47E7-A84A-138A1D62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8A52-6BBF-4115-8F1A-5E4D8607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C11A-4B64-4070-8228-150EFFE2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07F6-8C40-4CC8-A665-21991EDD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2C9CE-081F-434F-9B63-6CD5A1A8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2A514-7FC8-4F3E-9EE8-10F01C20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03FDA-C57C-4F9B-9444-1170A051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BCE8D-FD1E-4830-9450-4F39AE49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A23BF-657B-4C95-ACFA-39F29B8D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C425D-13BD-407C-BC6E-2A512BCE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9C600-335F-45E6-A269-64A41F6A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854E-5752-482D-B43C-144F2DA4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9B8F0-2E38-4D15-BBB6-A1C94581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C2C0D-A1F4-4051-A7EB-4E8FD88F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7E8BE-5381-4F94-9CFE-E54EE000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339EF-4F89-42F1-9489-252F4135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713F8-034D-4591-9CC0-D87A9F1E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D41-094B-4846-A65D-01CCCCAE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D86D-9B6C-4649-9F44-C3BE6368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151-7305-4088-9FF9-8727D2B7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189F-229F-47E8-AE1E-511CCBC0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086-B1B7-4A87-B9E8-942C6AD0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9D0A-B216-4211-B34E-FB1C3F9B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956D-F57C-4464-B8F6-38F9B2E8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EA27-6DDC-4782-B8CC-B51AB152837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37ED-5863-44E0-81AD-F46D12F36E7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e3e3ff"/>
                </a:solidFill>
                <a:latin typeface="Arial"/>
              </a:rPr>
              <a:t>Автобусы</a:t>
            </a:r>
            <a:r>
              <a:rPr b="0" lang="ru-RU" sz="96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1024px-Bogdan_A0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67586_ccy83vgb7zbeq4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1288480046_man_bus_2_s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gaz_group-2013-10-15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http_phot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wikiped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Transport-Autobus-LA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Школьный автобу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34:29Z</dcterms:created>
  <dc:creator>User</dc:creator>
  <dc:description/>
  <dc:language>en-US</dc:language>
  <cp:lastModifiedBy>Legion</cp:lastModifiedBy>
  <dcterms:modified xsi:type="dcterms:W3CDTF">2017-09-22T10:04:42Z</dcterms:modified>
  <cp:revision>10</cp:revision>
  <dc:subject/>
  <dc:title>Автобусы</dc:title>
</cp:coreProperties>
</file>