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2721-7C99-4D8C-B969-3C8200B9B37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транспо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втотранспор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B67-C9F0-40D5-A6E4-53BC84F9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FF83-1DCD-4135-8D33-1471CE7B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9CA6-192C-4430-ADBA-853EF87C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A78-FD8E-47F9-B7E5-0A90FDD6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66A2-A97C-4FA0-81BF-ACD10A52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D67-7E57-40E8-B270-D30DEACF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F00-3BD9-42DF-904A-F14460FE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19A-AE5F-4857-9EE5-AF24038C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35D-6034-4C33-B146-7170448C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B718-0CD6-4081-B541-0AEB1865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AECC-CB58-4DCB-A564-9F4978E4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351-FAB1-4541-9840-70C7E2FF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8B48-6E3F-43F1-BCF3-B25FBD0046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e5ffff"/>
                </a:solidFill>
                <a:latin typeface="Tahoma"/>
              </a:rPr>
              <a:t>Автотранспорт</a:t>
            </a:r>
            <a:r>
              <a:rPr b="0" lang="ru-RU" sz="9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17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1365417342_00-vostok-zastavka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201111011727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avtotrans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avtovoz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bit-avtotransport-kompleksnaja-avtomatizacija-transpor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42:21Z</dcterms:created>
  <dc:creator>User</dc:creator>
  <dc:description/>
  <dc:language>en-US</dc:language>
  <cp:lastModifiedBy>Legion</cp:lastModifiedBy>
  <dcterms:modified xsi:type="dcterms:W3CDTF">2017-09-22T10:06:24Z</dcterms:modified>
  <cp:revision>10</cp:revision>
  <dc:subject/>
  <dc:title>Автотранспорт</dc:title>
</cp:coreProperties>
</file>