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0A75-4255-45F7-BF14-309C6651EDE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втотранспор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Автотранспорт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9A3F-2A27-4966-9A07-FAAE8F4B5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4E96-1005-4F90-A24D-42A2CC56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85D0-3F67-4320-9703-9108021E3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F807-116F-4385-ABD3-DBE8E4A51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2D4C-286C-49F9-81DC-99B0ED28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13E3-383C-4607-8A66-652E60EE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A39F-4B5E-4763-80EB-7067C71F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FA63-7298-4C2D-8C36-67159148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6811-8906-42D3-A494-265DB091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881A-69EF-4740-A30B-1818828E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5684-310C-4CA0-8105-ABCA3642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24CE-1308-459D-9229-A6D7380C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94D9-4768-46B6-A14B-218302E1093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e5ffff"/>
                </a:solidFill>
                <a:latin typeface="Tahoma"/>
              </a:rPr>
              <a:t>Автотранспорт</a:t>
            </a:r>
            <a:r>
              <a:rPr b="0" lang="ru-RU" sz="96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9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Рисунок 4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4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4" descr="17-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4" descr="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4" descr="1365417342_00-vostok-zastavka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4" descr="201111011727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4" descr="avtotranspor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4" descr="avtovoz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" name="Picture 4" descr="bit-avtotransport-kompleksnaja-avtomatizacija-transport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4:42:21Z</dcterms:created>
  <dc:creator>User</dc:creator>
  <dc:description/>
  <dc:language>en-US</dc:language>
  <cp:lastModifiedBy>Legion</cp:lastModifiedBy>
  <dcterms:modified xsi:type="dcterms:W3CDTF">2017-09-22T10:06:24Z</dcterms:modified>
  <cp:revision>10</cp:revision>
  <dc:subject/>
  <dc:title>Автотранспорт</dc:title>
</cp:coreProperties>
</file>