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CB85-F6D5-4815-8E23-AB7AF0830B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остоя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0D5-0C46-4603-92DD-D08F6D71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D0F-39BE-44C0-B55B-CCB5EFC6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954-A5BF-41FD-8857-2906882C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C78-B048-48C1-8518-D7CBAEDE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FE9C-827A-4871-BAB3-D438B4DB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D85B-24E3-4ED0-A6A7-C3054F93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3B21-D662-46F8-BF5B-C8A6ABFD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294F-88F5-4641-9A0E-4E763A83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E171-C8E9-4E97-B484-05ECE501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D591-6143-42D3-A9AC-4DA7C872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AE52-CE8C-4900-AA11-1BF15D69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1C4-2DAF-405C-9A15-3A79C9E2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34AE-E087-42CB-B619-5A1BF868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6014-A19E-49FF-9583-B816BFDE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B359-F613-44AE-9555-6142A37A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C0AA-C4FA-40BC-8EB8-77401EB6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0380-30E6-4AFD-85B5-315B9ABE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145-02B5-4AA4-B795-839C2E9F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250-50B3-4883-BDC3-10D8C63E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4E9-4B60-4363-A098-5FF3ABB8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6CF-6ABF-411D-AA4C-6FC92CA1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017-B4C9-42A1-B196-82650A4F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082-CE14-4956-9C56-7B4CF395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324-3C92-4DC3-ACC7-865B320A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00C3-B323-47C3-ADA9-6A0922ACF5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297B-C7F6-42E8-8C4B-749EC058AB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06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грегатное </a:t>
            </a:r>
            <a:br>
              <a:rPr sz="10000"/>
            </a:b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состояние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7faf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4" descr="0013-011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0013-013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4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4" descr="300px-Phase_change_-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4" descr="0200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4" descr="e2989b4998cb7f13ad97ae1e30e119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8:00Z</dcterms:created>
  <dc:creator>User</dc:creator>
  <dc:description/>
  <dc:language>en-US</dc:language>
  <cp:lastModifiedBy>Legion</cp:lastModifiedBy>
  <dcterms:modified xsi:type="dcterms:W3CDTF">2017-09-22T10:08:50Z</dcterms:modified>
  <cp:revision>8</cp:revision>
  <dc:subject/>
  <dc:title>Агрегатное  состояние</dc:title>
</cp:coreProperties>
</file>