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0780-7C6E-4E11-B993-D5F549CE85B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грегатное </a:t>
            </a: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остоя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7850-CEA6-45DC-A6CB-FD37FB3C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779-9CC7-44D4-A5CB-C627C542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D29-886D-40F0-BCFE-FF644C228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79D-53EA-43CE-ADDC-9C5F2634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4975-5B29-46CD-8980-FB660199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719C-2C19-4828-8DD7-C7B3E6A9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2F29-2C6F-4019-81A9-116EBCC3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94CA-3ACF-47C4-A40A-8643C03E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BFE1-EA5B-49FD-BEC8-1F52F035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9D2B-102D-428A-9EEA-29AE7EB1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B6BE-90E6-45A5-B1FE-3F09F23A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AF6-836E-4F55-B54D-134D4720B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AF1B-24DE-4144-89BF-F1756A00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A3B9-9F48-41C3-854A-EB287AA6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D7B6-CA79-4A78-90C8-08E74A5B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A2D7-BCA1-473A-8137-9E5E76B7F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7837-2760-413B-801F-AEBF7563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C39-B166-4852-86C9-B7241612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2B1-7412-41BB-9A8B-9E341EF6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3D9-3ED4-4141-BE99-1608234A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F08-1676-4E12-B071-AA2F881E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0CF-8D01-494A-974F-57E9C90E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F0D-F7F5-426D-8FE0-A9D60443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BA5-A26C-4A86-8EA4-81D23A5B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6197-57AE-440D-9603-BA0EBB34E5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1A2C-D0C5-4624-8827-2609345818D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3068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Агрегатное </a:t>
            </a:r>
            <a:br>
              <a:rPr sz="10000"/>
            </a:br>
            <a:r>
              <a:rPr b="0" lang="ru-RU" sz="10000" spc="-1" strike="noStrike">
                <a:solidFill>
                  <a:srgbClr val="ffffcc"/>
                </a:solidFill>
                <a:latin typeface="Tahoma"/>
              </a:rPr>
              <a:t>состояние</a:t>
            </a:r>
            <a:endParaRPr b="0" lang="en-US" sz="10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8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7faf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Picture 4" descr="0013-011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Picture 4" descr="0013-013-Agregatnoe-sostojanie-veschestv-i-perekhody-mezhdu-nim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4" descr="1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4" descr="300px-Phase_change_-_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4" descr="02003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4" descr="e2989b4998cb7f13ad97ae1e30e1196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48:00Z</dcterms:created>
  <dc:creator>User</dc:creator>
  <dc:description/>
  <dc:language>en-US</dc:language>
  <cp:lastModifiedBy>Legion</cp:lastModifiedBy>
  <dcterms:modified xsi:type="dcterms:W3CDTF">2017-09-22T10:08:50Z</dcterms:modified>
  <cp:revision>8</cp:revision>
  <dc:subject/>
  <dc:title>Агрегатное  состояние</dc:title>
</cp:coreProperties>
</file>