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7CEC-EE4C-4317-925B-85D528EF00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043-1EA8-4CE3-AC6C-A22D900E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8A2-B210-4E7E-926E-C5DEAF8F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155-97D8-475C-ACCC-A8D6D1FD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847-184C-4124-A68E-3BC72AFC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2CCE-D46E-4629-B954-291CF588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3EC-4986-4C20-A272-4B597833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5098-B047-4124-B9E9-A7C36E39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A380-3394-4698-85A3-DE9FDC74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D67C-69D7-419E-887B-E0CA5718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E913-6CCC-4F48-92CF-5187AA35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CAC8-40F2-4B6B-8C03-9E51DDBB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478-AD73-42D0-ADF5-CFBFF4E4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C488-E506-408D-93C3-EAB4CBDB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1992-6951-4D28-948A-C17784CA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4464-08CC-4A5E-99DA-0BFA34AE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C70D-F100-46A4-834A-C22B7DFA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42C6-55FA-4B62-9767-5BF77697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286-6221-4D98-9664-67557823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E2C-E923-4DE8-AF49-7D706582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BEC-89CB-48C0-9C8C-46BB033E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2F8-3A1A-40D1-B4AB-A74417BA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50B-8E9D-42DF-8E34-C08DED1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699-8AD3-4AF3-9AFD-BE33A2A1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B86-7E0E-4538-A246-95EFB4E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F459-2A78-4DA1-B7C0-931CFE54C0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9C1B-BD81-47AB-BD08-8FB5321907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грегатное </a:t>
            </a:r>
            <a:br>
              <a:rPr sz="10000"/>
            </a:b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состояние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7faf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0013-011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0013-013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300px-Phase_change_-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200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4" descr="e2989b4998cb7f13ad97ae1e30e119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8:00Z</dcterms:created>
  <dc:creator>User</dc:creator>
  <dc:description/>
  <dc:language>en-US</dc:language>
  <cp:lastModifiedBy>Legion</cp:lastModifiedBy>
  <dcterms:modified xsi:type="dcterms:W3CDTF">2017-09-22T10:08:50Z</dcterms:modified>
  <cp:revision>8</cp:revision>
  <dc:subject/>
  <dc:title>Агрегатное  состояние</dc:title>
</cp:coreProperties>
</file>