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3021-D9AB-4EE4-BBEA-32C790D007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о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гро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6DC-CFD3-4C39-96A1-02BA6A15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02C-79CC-4354-8A3C-E756F3A9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6C9-E7D9-42ED-8BAD-1F23A646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3E5-D5F0-49B3-9D2B-EEFB07B9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88D0-7419-4164-9FA9-A762C822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FD7F-6C6B-4299-9232-D0ECB3F8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2132-F0C6-408A-82ED-43D5D041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E7C0-2014-4073-A73D-BB07277F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B8E7-A4D0-4A85-A38D-FD95ED47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CF95-3299-4457-9591-41564610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434F-2475-48EE-B908-ACB1D99C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F57-B6BF-4882-BA8D-88D91463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1FA5-2D50-4DE4-A628-BE616FF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C1D-46B6-4065-B329-4DF0DBE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F3CD-91D8-465C-9164-7858506C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4811-58FE-49FD-8798-52680F3D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1D38-E5F6-426B-968A-685654E1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475-29BE-48DE-BE4A-84D040D5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2EE-DB80-47C8-9C3B-63C99FE5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1F7-5096-42E0-81A5-AA8085C6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F68-A713-487C-846A-349668E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EAB-5066-45A2-91DB-406F3D89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53C-DB08-4E5E-AD98-4EC9FC5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70F-6856-433C-A23C-009E385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4C85-3452-49DC-A7B8-BE1B4639B6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797C-CFD7-4895-85F4-C2FE0FA5E1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b7"/>
                </a:solidFill>
                <a:latin typeface="Arial Black"/>
              </a:rPr>
              <a:t>Агрокультуры</a:t>
            </a: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07d65f52286a13a3ec956992a0fb15abff2bc4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1152023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1292849814_zern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agrokultu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b6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2RlbGFub3VuYXMucnUvdXBsb2Fkcy8xLzMvMTM2MTM1NDYyMjA5NS5qcGVnP19faWQ9MjU4OTA%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e0138b9ecaefa66b462f470d706ef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holzer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55:00Z</dcterms:created>
  <dc:creator>User</dc:creator>
  <dc:description/>
  <dc:language>en-US</dc:language>
  <cp:lastModifiedBy>Legion</cp:lastModifiedBy>
  <dcterms:modified xsi:type="dcterms:W3CDTF">2017-09-22T10:10:19Z</dcterms:modified>
  <cp:revision>7</cp:revision>
  <dc:subject/>
  <dc:title>Слайд 1</dc:title>
</cp:coreProperties>
</file>