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2C11B-735A-4109-AE04-E0D7278D207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Агрокультур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Агрокультуры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90AD-D473-4D22-A29B-DE8B6F375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40E2-FCB9-44D0-94CC-BA3AE4728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46A7-13CA-432E-B28E-F2873CA8C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A902-F7F0-4AD8-928F-86A51C3CB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5B257-25E3-4400-B67E-9F7A9EEF8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238B6-1B72-4D39-B3EC-74D3C3922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3B323-286D-4A9D-820F-BD54D6841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082F1-6B4D-4D65-8F7B-DBAC1D01D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B7686-74EF-4BA8-AA6B-AA59AF14C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917A7-57C8-4D50-BE30-D3DE59E0F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3EAC3-DB7D-4B42-B413-1CA994F7A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9A3A-F4B8-461D-98AD-6AF6C8BC5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BC4CA-804C-46CD-831B-8600AC19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B546E-C300-4A92-84E7-EC8ECDF14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A244A-7C1F-49E4-814A-FB33D17EB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0E143-8E75-42AA-A49B-AD6C83381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5CBCE-1FA0-4D10-8255-F9C9296C1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FDE2-A6E0-4D19-801F-983E16E36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4FCE-645B-44DC-B93E-1FB53DB76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E237-6124-4DA5-81D9-0B38BFE40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7E48-E23D-4ADB-9F33-420F01E46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3168-DB73-4A37-AECF-91EA3EB0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523F-1002-4C96-9ADB-3FBB7131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F735-33C3-4245-B136-B97518F1D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D526D-429D-4040-88DD-C3560548FC2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9431F-E562-4DF3-BCD4-2326EF1B07B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91440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ffffb7"/>
                </a:solidFill>
                <a:latin typeface="Arial Black"/>
              </a:rPr>
              <a:t>Агрокультуры</a:t>
            </a:r>
            <a:r>
              <a:rPr b="1" lang="ru-RU" sz="80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8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Рисунок 6" descr="1468136265744_scrapeenet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4" descr="07d65f52286a13a3ec956992a0fb15abff2bc46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4" descr="1152023-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4" descr="1292849814_zerno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4" descr="agrokultur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4" descr="b61_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4" descr="c2RlbGFub3VuYXMucnUvdXBsb2Fkcy8xLzMvMTM2MTM1NDYyMjA5NS5qcGVnP19faWQ9MjU4OTA%3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4" descr="e0138b9ecaefa66b462f470d706ef15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4" descr="holzer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23T14:55:00Z</dcterms:created>
  <dc:creator>User</dc:creator>
  <dc:description/>
  <dc:language>en-US</dc:language>
  <cp:lastModifiedBy>Legion</cp:lastModifiedBy>
  <dcterms:modified xsi:type="dcterms:W3CDTF">2017-09-22T10:10:19Z</dcterms:modified>
  <cp:revision>7</cp:revision>
  <dc:subject/>
  <dc:title>Слайд 1</dc:title>
</cp:coreProperties>
</file>