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1AD0-4F2A-4AB9-B0B7-0DC09017290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грокульту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Агрокультур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9AE2-0A8C-4FFA-BA4C-39653B92C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BF3B-8203-4C33-B706-363732CB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730C-899E-4D03-8AA7-EA663CCF4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0FA6-052F-4F21-AB14-E1990DFB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2A3A-7B60-4EC0-892B-5E4A4134A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0325-9795-4A92-AE3E-A935701C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81EB-C989-419B-B18C-A0738CF5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D711-A655-4E83-93AD-3569D32E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6CB9-B489-45FD-A62E-32AF2023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FB67-C171-4755-A07D-573DAD63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9AA0-F7CB-4390-BD23-1F08B2B6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592C-3447-49E9-B888-D6F360F2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F056-1851-4B95-AC00-C77B63A6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AD90-CAF1-47BB-9E0A-8A263E4F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FC56-C80A-4023-89C8-C1277984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CDC3-3468-4260-B86C-A190E6C9B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C72B-611E-4F6C-8EB8-1C0BF5F7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D7B3-4D73-4EB0-A0DB-422A8F2B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2178-9863-4ADB-ADC2-B8852933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B991-C201-4D24-BDAA-10208827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34F0-4B5E-49F9-B536-2CC4CDAA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D3DE-4F61-4EED-9D96-F651C383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663E-0B29-431F-BBC2-3061D9F0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D8A6-FBB5-419D-BA58-FE9874B8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F1BF-23E1-444C-AC6E-18E0E60AB9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AAE9-4EBC-4123-BCEF-7B65E76CD2E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b7"/>
                </a:solidFill>
                <a:latin typeface="Arial Black"/>
              </a:rPr>
              <a:t>Агрокультуры</a:t>
            </a: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07d65f52286a13a3ec956992a0fb15abff2bc4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1152023-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1292849814_zerno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agrokultu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b61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c2RlbGFub3VuYXMucnUvdXBsb2Fkcy8xLzMvMTM2MTM1NDYyMjA5NS5qcGVnP19faWQ9MjU4OTA%3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e0138b9ecaefa66b462f470d706ef1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holzer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55:00Z</dcterms:created>
  <dc:creator>User</dc:creator>
  <dc:description/>
  <dc:language>en-US</dc:language>
  <cp:lastModifiedBy>Legion</cp:lastModifiedBy>
  <dcterms:modified xsi:type="dcterms:W3CDTF">2017-09-22T10:10:19Z</dcterms:modified>
  <cp:revision>7</cp:revision>
  <dc:subject/>
  <dc:title>Слайд 1</dc:title>
</cp:coreProperties>
</file>