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FB98-30BE-4ED6-8BB7-C565C51CD7B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грокульту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Агрокультур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B578-DB22-412E-B894-51151C574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7F34-BFDB-48E7-83F3-01F6784A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DCAC-0A00-470D-A597-F7973C5FD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D820-8177-4BC1-96B7-EF1F553EF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3E2B-9630-4CCA-AE8E-3A669EE49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E23E-5C23-4A84-9F3C-A5E4F51A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43E0-1D5B-4965-A114-6C2FC7BD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FAAD4-A4E8-4EFA-AFE5-9D0929DF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69AA-29C7-48B4-812F-FE91665C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CA85-499F-4FDE-B0CF-E65382BB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0470-E689-48CE-96CC-777771AC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9BE1-1144-44C5-96F8-EE536E98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77BB-64BB-4FB3-8B10-5379A898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D80C-6E6C-4326-80B0-77675FFD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8780-F514-469F-94BB-78DE7C05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BA49-3609-4310-8AE3-88FB7CEC1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48CD-6EDF-4B0D-87E0-645E1C1F9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6C02-23C9-48E6-9F8C-78E217F0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2235-B390-41E2-8A21-531E39F1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AAB7-4855-457A-88A3-2B35691A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5293-D748-48A1-9A2A-243163E1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FD76-9A1A-4F76-B33F-8B40E41B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20B0-5669-44CA-9E28-72F915B2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EA60-8EAE-43C4-A1ED-C00AD86B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2914-4B6A-44CB-AEA8-DB47181603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54CD-41A4-48A6-84BC-4396997003B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b7"/>
                </a:solidFill>
                <a:latin typeface="Arial Black"/>
              </a:rPr>
              <a:t>Агрокультуры</a:t>
            </a:r>
            <a:r>
              <a:rPr b="1" lang="ru-RU" sz="8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07d65f52286a13a3ec956992a0fb15abff2bc4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1152023-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1292849814_zerno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agrokultur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b61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c2RlbGFub3VuYXMucnUvdXBsb2Fkcy8xLzMvMTM2MTM1NDYyMjA5NS5qcGVnP19faWQ9MjU4OTA%3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e0138b9ecaefa66b462f470d706ef1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holzer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4:55:00Z</dcterms:created>
  <dc:creator>User</dc:creator>
  <dc:description/>
  <dc:language>en-US</dc:language>
  <cp:lastModifiedBy>Legion</cp:lastModifiedBy>
  <dcterms:modified xsi:type="dcterms:W3CDTF">2017-09-22T10:10:19Z</dcterms:modified>
  <cp:revision>7</cp:revision>
  <dc:subject/>
  <dc:title>Слайд 1</dc:title>
</cp:coreProperties>
</file>