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48FC-36ED-43C7-B94F-E219965754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простое определение психологии как науки таково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наука о душе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ед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pshys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в переводе с греческого языка означ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душа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logia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наука, учение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ное определение психологии как науки от самих психологов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нудное, сложное и непонятное определение, верн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B5F6-0B7B-4077-B0D2-BF1A6FFA0C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46E-2DE0-421B-B88E-8361021EDD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Свойства темперамен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4632-4102-49AA-BD54-3C4CF064E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Calibri"/>
              </a:rPr>
              <a:t>Идея и учение о темперамен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Древнегреческий врач Гиппокр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писал основные типы темперамен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Античный врач Клавдий Гале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лассификация темперамен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емецкий философ И.К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ал описание темпераментов, которые используют и в наше врем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Российский ученый Н.П. Пав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3B46-B6B9-404C-88EE-CCD8D00A0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ла нервных процессов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равновешенность нервных проце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движность нервных 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отношение основных свойств нервной системы лежит в основе темпера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07DC-A52C-420B-88E7-CFC302E5D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ипы темпера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нгви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05D-B204-400B-A5B2-C622B8AF7D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Два основных взгляда на темперамент человека в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аждому человеку присущ свой определенный темпера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6755-4CDD-42F4-B498-12EA5B41B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Calibri"/>
              </a:rPr>
              <a:t>Отрасли и виды психологии как науки и как социального явления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коллектива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нная, социальн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пулярная психология — поп-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ская психология ребенка и детей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я родителей, психология воспитания и психология наказан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терап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юридическая психология,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ая психология и т.д.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P.S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сихология глухих - сурд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896D-1E20-4C10-B305-02788BC9C9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ческий темперамент (интуитивно-логический подти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неустойчивый тип нервной сис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ланхолик стоит на втором месте после холерика по части худобы и потери вес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0FC-9393-4F97-9BAC-76742103C3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F3A4-1FE1-4C5C-94F3-963151BFC9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Меланхо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широкие таз и плечи при узкой тал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часто заостр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часто удлиненный, заостренный, выступающий вперед, ярко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B5AB-14B7-4486-8F3E-2465FF1839F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ервый взгляд он кажется уверенным в себе, но несколько ленивым и безразлич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е флегматик невыразителен в чувствах и мими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FAA1-53FA-4B19-806B-CB804BA2B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81A0-ACFC-4A61-AA02-2924691E81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легмат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дленные движения, спокойная и уверенная, как бы плывущая похо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расширяющаяся книзу грудная клетка, тупой реберный уго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AC0-0B5E-4623-9173-1D7E2AA35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Флегмат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слабо сужа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плоский, без выступов, переход в шею очерчен слаб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, шарообразный контур темен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лабо или средне выражены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крупный, прямой, выступающий вперед, кончик опушен книзу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о короткая, толстая, прямая ше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8345-8122-455D-B0DE-577F901DBC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неустойчивый тип нервной системы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CDA-1EC9-44C6-B741-910B98F0D4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Цель психологии как наук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7645-33A0-4533-8AAF-EE6C65EF94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E26A-7E7E-4F5D-A9E4-4538F17992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Calibri"/>
              </a:rPr>
              <a:t>Холер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упкость внешнего облика, худоба и худощавость, телосложение сух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выраженной склонности к ожирению, худоб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 скорость обмена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дная клетка узкая, длинная, плоская или вогнута, остры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плавно сужающийся кверху, конусообразный, без выступов и неров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хняя часть головы больше по объ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заостр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няя челюсть "слабая" или сильно скошенная, заметно сужается кни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улы средне или сильно выражены, выступают, заостр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имеет выступы, сильно скашивается книзу, резкий переходи к ш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стренная теменная обла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63BC-0524-4E18-8549-D503A0D252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устойчивый тип нервной систем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A4B8-25AF-4F63-A658-FF8413CAFC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4A4-9D4A-4C74-BB93-3CBCAE838E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alibri"/>
              </a:rPr>
              <a:t>Сангви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ое, "шарообразное" туловище, округлые формы, низкий, редко средний рос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в центре туловища на округлом жив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но выраженная жировая ткань, жир откладывается равномерно во всех частях те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скорость обмена веществ - вес прибывает, даже если есть относительно ма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ая, широкая, выпуклая грудная клетка, тупой реберный уго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ородок и скулы не выраже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 явно не выражен, "утиный", "картошкой" или слегка вздер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ылок круглый или плоский, без выступов, переход в шею очерчен сла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я слабо или совсем не выражена, короткая, толст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ги короткие, гладкие, кругл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369-E243-4C67-AC26-5632AEB3A2D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ермонтов, Наполеон и Петр1 - сангвин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тузов, Крылов - флегма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уворов и Пушкин - холер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оголь - меланхоли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7EA-B653-41BC-8E72-7E28D1D901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О!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На развитие личности у психологов неоднозначные взгляд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0F76-8BCF-4F86-A2A9-C1BCBCFFC3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все разны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E58E-D44D-48C6-85B5-5021F6A0AF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рибуты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воб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Раз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плекс устойчивых компонентов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Мотив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98A4-E084-47A4-BD3F-632ADB9A2B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Calibri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ые нор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ность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A685-43DC-4477-9220-85EF24DAD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Индивидуально-психологические особенности личност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Темпер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биологической подструктуры личности составля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пераме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FDE8-D5CD-44E1-8694-BCD757BF7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F87-788F-4009-ACD9-BDF03DAC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43F-FD39-4F6C-8308-2854B2E9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C79F-51AD-4280-BA07-F05FE76EB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BBB-0A6C-4F02-A103-86D4CB73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AD1-35CD-475E-8F29-2BF8F698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2AC7-FBA1-42E4-B54F-6E50DE51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026-DB76-4B82-B2FC-54B74149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382-C6FD-417D-8497-1B488198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EE4B-0B6D-48B0-A4A7-59D072D5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6A4-03DF-4B67-8C80-8F1FB2B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D37-3124-459A-AA2A-14B5F426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A699-5342-4C49-801A-3CAD0E5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868-E5D0-4604-8A01-9B53D839E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Психология.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Что это тако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амое простое определение психологии как науки таково: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о наука о душе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Вед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pshyso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» в переводе с греческого языка означает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душа»,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logia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наука, учение»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андартное определение психологии как науки от самих психологов: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сихология — это такая наука о закономерностях развития и функционирования психической деятельности челове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статочно нудное, сложное и непонятное определение, верно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Психологическая эмблема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cc"/>
                </a:solidFill>
                <a:latin typeface="Arial"/>
              </a:rPr>
              <a:t>Темперамент служит как бы маркером всей психической деятельности человека. Он является биологическим фундаментом личности, так как основан на свойствах нервной системы человека, которые следует оценивать как внутренние резервы его деятельности и адаптации. Темперамент представляет собой прирожденное свойство человека, генетически предопределенный феномен, сохраняющийся многие годы, часто всю жизнь. Он является предпосылкой и основой личностных образований более высокого порядка (например, характер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Свойства темперамен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ый тип и ритм психических процессов, степень устойчивости чувств, напряженность волевых усилий проявляются в мышлении, эмоциональной сфере, поведении, манере держать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дея и учение о темперамен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Древнегреческий врач Гиппокр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писал основные типы темперамен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Античный врач Клавдий Гален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классификация темперамент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мецкий философ И.Ка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ал описание темпераментов, которые используют и в наше врем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Российский ученый Н.П. Пав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И. П. Павлов описал 3 основные свойства нервных процессов, которые определяют тип нервной систем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ла нервных процессов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нервной системы человека выдерживать большие нагрузки и раздражители. Это природная индивидуальная особенность, показывающая работоспособность и выносливость. Силу нервных процессов переделать нельзя, но можно регул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Уравновешенность нервных проце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цессы возбуждения и торможения могут быть либо уравновешены, т.е. одинаковой силы, либо какой-то из них преобла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движность нервных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пособность быстро реагировать на изменения в окружающей среде. Данное свойство является показателем быстроты смены возбуждения и тормож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отношение основных свойств нервной системы лежит в основе темпер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Типы темпер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лер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анхо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нгви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7"/>
          <p:cNvPicPr/>
          <p:nvPr/>
        </p:nvPicPr>
        <p:blipFill>
          <a:blip r:embed="rId1"/>
          <a:stretch/>
        </p:blipFill>
        <p:spPr>
          <a:xfrm>
            <a:off x="4113360" y="1143000"/>
            <a:ext cx="4114800" cy="54100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304920" y="425520"/>
            <a:ext cx="8534160" cy="6006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t_02"/>
          <p:cNvPicPr/>
          <p:nvPr/>
        </p:nvPicPr>
        <p:blipFill>
          <a:blip r:embed="rId1"/>
          <a:stretch/>
        </p:blipFill>
        <p:spPr>
          <a:xfrm>
            <a:off x="1295280" y="208080"/>
            <a:ext cx="6553440" cy="6441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91" descr="Lavater1"/>
          <p:cNvPicPr/>
          <p:nvPr/>
        </p:nvPicPr>
        <p:blipFill>
          <a:blip r:embed="rId1"/>
          <a:stretch/>
        </p:blipFill>
        <p:spPr>
          <a:xfrm>
            <a:off x="2016000" y="380880"/>
            <a:ext cx="5175360" cy="6172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Два основных взгляда на темперамент человека в псих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В классической психологии считается, что каждый человек обладает смешанным темпераментом, т.е. демонстрирует признаки всех темпераментов в различных пропорция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cc"/>
                </a:solidFill>
                <a:latin typeface="Arial"/>
              </a:rPr>
              <a:t>Каждому человеку присущ свой определенный темперам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elanhole"/>
          <p:cNvPicPr/>
          <p:nvPr/>
        </p:nvPicPr>
        <p:blipFill>
          <a:blip r:embed="rId1"/>
          <a:stretch/>
        </p:blipFill>
        <p:spPr>
          <a:xfrm>
            <a:off x="1447920" y="2690640"/>
            <a:ext cx="5638680" cy="416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Lpodtip"/>
          <p:cNvPicPr/>
          <p:nvPr/>
        </p:nvPicPr>
        <p:blipFill>
          <a:blip r:embed="rId2"/>
          <a:stretch/>
        </p:blipFill>
        <p:spPr>
          <a:xfrm>
            <a:off x="1219320" y="228600"/>
            <a:ext cx="6553080" cy="2228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трасли и виды психологии как науки и как социального явлени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личности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коллектива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щественная, социальн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пулярная психология — поп-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тская психология ребенка и детей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логия родителей, психология воспитания и психология наказан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сихотерап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ит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ридическая психология,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дагогическая психология и т.д. и т.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.S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Психология глухих - сурдопсихолог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ческий темперамент (интуитивно-логический подтип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ый неустойчивый тип нерв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обычно имеет неустойчивые эмоции, склонен к необоснованным страхам и беспокойствам, отличается непостоянством, легкой возбудимостью, высокой утомляемостью и нерешительн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а его замедленные и неуравновешенные, они внешне невыразительны, обычно при сопровождаются не слишком активной мимикой. При этом нервная система меланхолика отличается высокой чувствительностью ко всем раздражител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 чрезвычайно восприимчив и податлив по отношению к любым внешним воздействиям. Испортить или наоборот улучшить настроение меланхолика с помощью нескольких минут эмоционально заряженного общения пожалуй легче, чем представителю любого другого темперамен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е меланхолика можно легко отличить по подвижности. Меняется ситуация, окружение, поведение собеседника - меланхолик меняется вместе с ними. Его тянет туда, где присутствует движение. В целом меланхолическая конституция сухая, тонкая, изменчив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ланхолик стоит на втором месте после холерика по части худобы и потери вес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ственные способности меланхолика обычно столь же хорошие, сколь и неустойчивые. Он с одинаковой легкостью и быстротой схватывает материал и забывает его. Меланхоликам рекомендуется, в первую очередь, интеллектуальная сфера деятельности, где они чувствуют себя наиболее уверенно. Это программирование, Интернет, аналитика, конструирование, планирование, работа с большими объёмами &lt;виртуальной информации&gt;. Меланхоликам следует избегать большой эмоциональной нагрузки и не перегружать себя контактами с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cc"/>
                </a:solidFill>
                <a:latin typeface="Arial"/>
              </a:rPr>
              <a:t>Меланхол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, обычно просто так меланхолики не полнеют, однако обмен веществ несбалансированный, отчего часто бывает сильная устал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онченные черты лица, хрупкость внешнего облика, худоба и худощавость, отсутствие выраженной склонности к ожир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, заметное удлинение конечностей по отношению к общим пропорциям, акцент всей фигуры на конечност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тупающие кости, плоская, утонченная, слабая мускулатура, длинные тонкие мускулы и к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ская спина, узкая, длинная, плоская или вогнутая грудная клетка, острый реберный уго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широкие таз и плечи при узкой тал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ий угловатый квадратный лоб, череп значительно сужается книзу, верхняя часть головы по объему больше нижн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 шее, имеет резкий переход к шее, заостренная теменная обла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, выступает вперед или слабо скошен, нижняя челюсть "слабая", заметно сужается книз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часто заостре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часто удлиненный, заостренный, выступающий вперед, ярко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и руки длинные, тонкие, суставы острые и угловатые, ступни и кисти узкие, вытянут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Lpodtip"/>
          <p:cNvPicPr/>
          <p:nvPr/>
        </p:nvPicPr>
        <p:blipFill>
          <a:blip r:embed="rId1"/>
          <a:stretch/>
        </p:blipFill>
        <p:spPr>
          <a:xfrm>
            <a:off x="1066680" y="304920"/>
            <a:ext cx="7313760" cy="223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flegma"/>
          <p:cNvPicPr/>
          <p:nvPr/>
        </p:nvPicPr>
        <p:blipFill>
          <a:blip r:embed="rId2"/>
          <a:stretch/>
        </p:blipFill>
        <p:spPr>
          <a:xfrm>
            <a:off x="1828800" y="2654280"/>
            <a:ext cx="6095880" cy="4203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бый устойчивый тип нервной систем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ичный флегматик обычно ровен, спокоен, у него слабые эмоции и устойчивое настро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ый взгляд он кажется уверенным в себе, но несколько ленивым и безразлич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ей этого темперамента отличают медлительность, неторопливость, уравновешенность, инерт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щении с флегматиком легче всего почувствовать позитивные эмоции и умиротвор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е флегматик невыразителен в чувствах и мим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покойном состоянии его движения вялые, медленные, несколько неуклюжие, но сильные и уверенные. Думает он также медленно, долго колеблется, принимая решение, выводы, к которым приходит, трудно поколебать, а решения, которые он принимает, трудно измен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егматика наверно можно назвать рекордсменом по работоспособности и производительности, что делает его незаменимым во всех областях, связанных с производством. При всей внешней ленивости и медлительности флегматик достигает лучших результатов по объему и качеству работы по сравнению с людьми любых других темпераментов в сходных условиях. Однако для успеха ему требуются стабильные условия работы, если же ситуация постоянно меняется, работоспособность флегматика падает. Эти свойства делают флегматика незаменимым в сферах производства, администрирования и везде, где востребовано умение поддерживать текущие процессы в стабильном состояни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легма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дленные движения, спокойная и уверенная, как бы плывущая похо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вадратно-прямоугольное, "бочкообразное" туловище. Массивная, плотная, крепко сбитая фигура, угловатые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ое развитие внутренних полостей тела (головы, груди, живота), структуры плечевого пояса и конеч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цент фигуры в центре туловища, на "грудной клетке и на округлом животе. Кости и мышцы короткие, широкие, крепкике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скулатура массивная, крепкая, сильная. Короткие, круглые или средней длины и толщины ноги и руки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ется склонность к ожирению. Явно или средне выраженная жировая ткань, в первую очередь проявляется в ожирении торса, живот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меренная ли низкая скорость обмена веществ - вес прибывает в случае избыточного питани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откая, широкая, выпуклая расширяющаяся книзу грудная клетка, тупой реберный угол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Флегм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янутая "бочкообразная" голова. Верхняя и нижняя часть черепа равны по объему, или нижняя больше. Широкий, угловатый, квадратный череп, имеет сглаженные выступ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слабо сужающий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плоский, без выступов, переход в шею очерчен слабо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ый, шарообразный контур темени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улы слабо или средне выраже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крупный, прямой, выступающий вперед, кончик опушен книзу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ительно короткая, толстая, прямая шея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еленность от головы и туловища не выражена, ноги и руки длинные, суставы округлые, ступни и кисти широкие корот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IEpodtip"/>
          <p:cNvPicPr/>
          <p:nvPr/>
        </p:nvPicPr>
        <p:blipFill>
          <a:blip r:embed="rId1"/>
          <a:stretch/>
        </p:blipFill>
        <p:spPr>
          <a:xfrm>
            <a:off x="914400" y="297000"/>
            <a:ext cx="7315200" cy="214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oleriki"/>
          <p:cNvPicPr/>
          <p:nvPr/>
        </p:nvPicPr>
        <p:blipFill>
          <a:blip r:embed="rId2"/>
          <a:stretch/>
        </p:blipFill>
        <p:spPr>
          <a:xfrm>
            <a:off x="1752480" y="2514600"/>
            <a:ext cx="61596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ый неустойчивый тип нервной системы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лерический темперамент связан с неуравновешенным типом нервной системы, возбуждение у таких людей обычно преобладает над тормож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 выразительная мимика, торопливая речь, резкие жес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роение у него часто резко меняется. Причем внешних причин эти изменения часто не имеют, настроения возникают &lt;вдруг&gt;, ниоткуда, сам холерик обычно с трудом может объяснить, отчего это он вдруг разошелся или наоборот, с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ной манерой преувеличенно на все реагировать холерик заслужил себе славу самого злобного и склочного темперамента. Однако это не так. Просто холерический темперамент естественным образом усиливает любые проявления активности человека - и хорошие, и плохие. Поэтому то, что в подаче человека другого темперамента воспринимается нормально, в подаче холерика выглядит преувеличенно ярко, гротеск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и холерика яркие, сильные, но неустойчивые, у него активная, демонстративная, чрезвычайно выразительная мимика, торопливая речь, резкие жесты, которые часто называют нервными. Движения быстрые, резкие, энергичные, силь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ь психологии как науки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дать ответ на вопрос, почему тот или иной человек ведет себя в той или иной ситуации, так, а не иначе, и что можно сделать, чтобы изменить поведение этого человека или свое отношение к тому, что он делает или не дел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холериков при принятии решений на первом месте стоит человеческий фактор, эмоции и отношения. Это делает их очень полезными в сферах, связанным с личным общением, знакомствами и услугами. С другой стороны переменчивость делает холерика трудно управляемым как работника и непредсказуемым. Работоспособность холерика высокая, но неустойчивая. Ко всему новому холерик привыкает легко и быстро, но устойчивые навыки формируются у него долго и с большим трудом. Сильные стороны руководителя этого темперамента - умение быстро выдать свежую идею в неожиданно изменившейся ситуации, зажечь и повести за собой окружающих, не важно, подчиненный это, клиент или вышестоящий руководитель. Недостатком холерика - руководителя является его отстранённость от технических аспектов производства и ориентация в первую очередь на люде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Холер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рупкость внешнего облика, худоба и худощавость, телосложение сух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тянутые части тела. Сильное развитие конечностей, акцент фигуры на конечностях. Длинные тонкие мускулы и к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ие выраженной склонности к ожирению, худоб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ая скорость обмена веще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удная клетка узкая, длинная, плоская или вогнута, острый реберный уго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гка конусообразный череп, овальной или яйцеобразной слегка сужающийся кверху фор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б плавно сужающийся кверху, конусообразный, без выступов и неровн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хняя часть головы больше по объ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бородок заостр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яя челюсть "слабая" или сильно скошенная, заметно сужается кни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улы средне или сильно выражены, выступают, заостре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с ярко выраженной формы - с горбинкой "птичий", сильно выступающий, заостренный, удлиненный, вытянутый вперед, кончик явно опущен вниз по отношению к основа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ылок имеет выступы, сильно скашивается книзу, резкий переходи к ш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остренная теменная обла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длинная, средней толщины или тонкая, часто изогнута, на вид присутствует отделенность от головы и тела, кадык выраже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ги длинные, тонкие, колени худые, угловатые, острые, ступни узкие, вытянутые, узловатые, суставы резко выступ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SEpodtip"/>
          <p:cNvPicPr/>
          <p:nvPr/>
        </p:nvPicPr>
        <p:blipFill>
          <a:blip r:embed="rId1"/>
          <a:stretch/>
        </p:blipFill>
        <p:spPr>
          <a:xfrm>
            <a:off x="1295280" y="457200"/>
            <a:ext cx="6096240" cy="1749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angvin"/>
          <p:cNvPicPr/>
          <p:nvPr/>
        </p:nvPicPr>
        <p:blipFill>
          <a:blip r:embed="rId2"/>
          <a:stretch/>
        </p:blipFill>
        <p:spPr>
          <a:xfrm>
            <a:off x="2057400" y="2336760"/>
            <a:ext cx="4775040" cy="4521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льный устойчивый тип нервной систем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нгвиник больше всего известен как активный жизнерадостный и добродушный человек. Это в полной мере отражает действитель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большинстве своем сангвиник обладает сильными, уравновешенными, но при этом такими же подвижными эмоциями, как и холерик. Можно сказать, что сангвиник беспокоен внешне, но спокоен внутри. Даже после вспышки раздражительности, которая случается у сангвиника крайне редко, он очень быстро успокаивае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м, жизнерадостность и добродушие, которые излучает сангвиник в любой ситуации, составляют главные отличительные черты представителей этого темперамента. У сангвиника как правило преобладает хорошее настроение, которое редко меняется. Его реакции всегда явно выражены, легко и быстро сменяю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сангвиника такая же активная мимика как и у холерика. Этот темперамент обеспечивает уверенный контроль над эмоциями, быструю, отчетливую речь, сопровождаемую выразительными мимикой и жес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ижения сангвиника сильные, энергичные, уверенные, пластичные. Сангвиническая конституция дает широкое лицо и круглое тело, выраженную склонность к полноте и двигательную актив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ормальном состоянии конституция сангвиника проявляется как упругость и подвижность,. Даже походка этого человека отражает эти свойства - она быстрая, но плавная и упруг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нгвиник быстро переключается с одного вида деятельности на другой. Легко управляет своей работоспособностью, которая обычно очень высокая не зависимо от внешних и внутренних причин. Привычки у него образуются быстро и легко, а сформированные навыки закрепляются и долго сохраняются. В работе, как и в личных отношениях, сангвиник склонен, прежде всего, ориентироваться на &lt;человеческий фактор&gt;. Наилучшими сферами для самореализации сангвиника являются воспитательско - преподавательская работа, где упор делается не на техническую сферу, ) косметология, общественное питание, рекрутинг, знакомства и т.д. Сангвиник является, пожалуй, самым приятным и душевным руководителем с точки зрения подчиненных. Однако технические моменты в работе часто вызывают у сангвиников затруднение. Его сильная черта - уговоры и расположение к себе - не всегда срабатывает в условиях, например, планов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"/>
              </a:rPr>
              <a:t>Сангви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ое, "шарообразное" туловище, округлые формы, низкий, редко средний рос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льное развитие внутренних полостей тела (головы, груди, живота) при слабо развитой структуре плечевого пояса и конечно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ент в центре туловища на округлом живо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ие, широкие кости и мышцы - вид круглых "нашлепок" на плечах, как латы. Выпуклый рельеф мыш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но выраженная жировая ткань, жир откладывается равномерно во всех частях те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зкая скорость обмена веществ - вес прибывает, даже если есть относительно мал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ткая, широкая, выпуклая грудная клетка, тупой реберный уго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я шарообразная голова., верхняя и нижняя часть черепа равны по объему, круглый, шарообразный контур т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б круглый, без выступов и неровностей, плавно закругленный, почти незаметный переход к волосяной ч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бородок и скулы не выраж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с явно не выражен, "утиный", "картошкой" или слегка вздер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тылок круглый или плоский, без выступов, переход в шею очерчен сла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я слабо или совсем не выражена, короткая, толст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ги короткие, гладкие, кругл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звестные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ермонтов, Наполеон и Петр1 - сангвин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утузов, Крылов - флегмат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уворов и Пушкин - холери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голь - меланхолик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а развитие личности у психологов неоднозначные взгляд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ди все разны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это не робот! Практически каждый человек – это личность. Личность настолько многогранна в своих индивидуально-психологических проявлениях, что соотношение её разнообразных качеств может сказываться и на проявлениях мировоззрения, и на повед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oldgirl"/>
          <p:cNvPicPr/>
          <p:nvPr/>
        </p:nvPicPr>
        <p:blipFill>
          <a:blip r:embed="rId1"/>
          <a:stretch/>
        </p:blipFill>
        <p:spPr>
          <a:xfrm>
            <a:off x="5013360" y="1600200"/>
            <a:ext cx="36208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Личность — результат процесса воспитания и самовоспитания. «Личностью не рождаются, а становятся» А. Н. Леонть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трибуты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В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Раз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устойчивых компонентов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Темпера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457200" y="609480"/>
            <a:ext cx="8686800" cy="571356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у социальной подструктуры личности составляет единство и взаимосвязь социального опыта и направленности ли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ставляют собой правила или модели поведения, санкционированные социальными группами и ожидаемые в реальном поведении от состоящих в этих отноше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социального опыта вырабатываются умения, навыки, знания и привычки человека. Если характер человека содержит ответ на вопрос: "Что он будет делать в той или иной ситуации", то социальный опыт даст ответ "Как он поступит в определенной ситуаци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ность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тоже категория больше социальная, чем генетически определенная. Направленность определяет доминирующую продолжительное время ту или иную ценность, которая ложится в основу мотивации поведения человека. Ради этой ценности (основного мотива) человек готов отказаться от многих привлекательных и желаемых альтерн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ндивидуально-психологические особенности личн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Темпер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у биологической подструктуры личности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перамен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закономерное соотношение устойчивых индивидуальных особенностей личности, характеризующих различные стороны динамики псих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8:34:3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