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9256-C034-4382-9FA9-8279953AEA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простое определение психологии как науки таково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наука о душ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д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pshys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переводе с греческого языка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уша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logia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аука, учение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ное определение психологии как науки от самих психологов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нудное, сложное и непонятное определение, верн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AFB2-3F43-4A9E-8DB9-E7AB3D0926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96D3-0883-43FF-858F-2002855C2B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войства темперам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909C-2C81-403C-A532-8DAE38828E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Идея и учение о темперамен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Древнегреческий врач Гиппокр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писал основные типы темперамен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нтичный врач Клавдий Гале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лассификация темперамен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емецкий философ И.К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ал описание темпераментов, которые используют и в наш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Российский ученый Н.П. Пав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A7D-6274-4236-8C57-638DF92843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ла нервных процессов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равновешенность нервных проце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вижность нервных 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отношение основных свойств нервной системы лежит в основе темпера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4ED7-ED4E-4362-8FED-4D08BBB8D4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ипы темпер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гви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E646-4D9E-4A4D-ABB5-D73C66AA8A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Два основных взгляда на темперамент человека в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аждому человеку присущ свой определенный темпера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3867-06FD-4E00-8EF9-F0880FBF05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трасли и виды психологии как науки и как социального явле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коллектива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, социальн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рная психология — поп-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ская психология ребенка и детей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родителей, психология воспитания и психология наказан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терап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ид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ая психология и т.д.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P.S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 глухих - сурд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E349-3403-4831-89DC-1956FCC4AB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ческий темперамент (интуитивно-логический подти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неустойчивый тип нерв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стоит на втором месте после холерика по части худобы и потери вес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0548-E6AC-4946-B813-30CDF95B54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2E9A-10B7-4A1B-9FC6-17AFC6A4D5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широкие таз и плечи при узкой тал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часто заостр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часто удлиненный, заостренный, выступающий вперед, яр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CE3F-5B6F-40E9-B0FA-A87B992A82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ый взгляд он кажется уверенным в себе, но несколько ленивым и безразлич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флегматик невыразителен в чувствах и мим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87B2-6932-452A-8BC7-10322CDE7F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78EE-A914-42C4-A856-A5C1175834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дленные движения, спокойная и уверенная, как бы плывущая похо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расширяющаяся книзу грудная клетка, тупой реберный уго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4A97-3355-4211-8107-14FBC017CA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слабо сужа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плоский, без выступов, переход в шею очерчен слаб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, шарообразный контур темен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лабо или средне выражен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крупный, прямой, выступающий вперед, кончик опушен книзу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короткая, толстая, прямая ше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838A-0385-4B65-BE78-E721F58AFA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неустойчивый тип нервной систем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0918-B9AE-40F8-9ECF-8AFDA12E1B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Цель психологии как наук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9647-D7E2-4A25-BEDC-FD4458BDC0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F423-4101-41B0-A18C-7E88079488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упкость внешнего облика, худоба и худощавость, телосложение сух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ыраженной склонности к ожирению, худо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ая клетка узкая, длинная, плоская или вогнута, остры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плавно сужающийся кверху, конусообразный, без выступов и неров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няя часть головы больше по объ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яя челюсть "слабая" или сильно скошенная, заметно сужается кни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заостр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низу, резкий переходи к ш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стренная теменная обла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90FF-45D2-4959-9626-9D2C0B4D16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CF1A-3E47-4E22-AE9A-43878D36A1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470A-437B-4CA0-95EA-3CFC96F801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е, "шарообразное" туловище, округлые формы, низкий, редко средний р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в центре туловища на округлом жив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но выраженная жировая ткань, жир откладывается равномерно во всех частях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корость обмена веществ - вес прибывает, даже если есть относительно ма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грудная клетка, тупо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и скулы не выра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вно не выражен, "утиный", "картошкой" или слегка вздер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круглый или плоский, без выступов, переход в шею очерчен сла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слабо или совсем не выражена, короткая, толст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короткие, гладкие, кругл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B0B-2262-427A-91D7-F3C7BC8912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рмонтов, Наполеон и Петр1 - сангвин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тузов, Крылов - флегма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воров и Пушкин - холер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голь - меланхоли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72AF-3AB3-450B-B7F0-08177AF6F0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О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 развитие личности у психологов неоднозначные взгля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C3BF-3EE3-42CF-BA3B-82F7295A83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все разны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49C5-D077-44CE-A375-A4D99E21AC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рибуты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воб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Раз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устойчивых компонентов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20E0-722A-4EB7-B410-27D27F675B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ые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ность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10DB-5F3B-420C-818C-BF557EB6B6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Индивидуально-психологические особенности лич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биологической подструктуры личности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пера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8434-29F9-478D-AADD-B8DC71C8A5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419-37D9-4516-9EFA-FAD58443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B6B-6D59-4374-8B90-EA3B6767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0AF-DC96-468B-AB88-4479DD80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659-9FC0-4686-A579-031A7354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0A2-DBD0-48DB-B429-12D70BA5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66B-F882-4853-8062-0510A527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4C9-4D4A-4B7A-952C-E846D978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237-DBAE-4D3C-9225-8400FB25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1EE-8796-4AE0-96BF-05B0A7A5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C7E-E0B8-479A-A79D-21795E46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54F-89A7-400A-B3CB-2C38591B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298-8E74-4BD3-A981-FEC9AABC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159B-B63D-490D-BC5E-7A3CFBE70A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8:34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