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D46D-E246-4820-BB32-96CFE9DBDE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сихология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простое определение психологии как науки таково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наука о душе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ед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pshys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в переводе с греческого языка означ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уша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logia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аука, учение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ное определение психологии как науки от самих психологов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нудное, сложное и непонятное определение, верн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BDDE-6FA0-42F4-B53D-4BCFD13D8E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80D5-06C5-4587-8A18-8BD1DFFEB2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Свойства темперамен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8F4F-930E-4244-9034-2563A02BD1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Идея и учение о темперамен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Древнегреческий врач Гиппокра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писал основные типы темперамен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нтичный врач Клавдий Гале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лассификация темперамен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емецкий философ И.К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ал описание темпераментов, которые используют и в наше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Российский ученый Н.П. Пав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7623-ABB0-4D76-9615-7E9B2B6E5C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ла нервных процессов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равновешенность нервных процес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вижность нервных процесс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отношение основных свойств нервной системы лежит в основе темпера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1468-6EAF-48B7-93A6-267232FA5A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ипы темпера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гви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EB93-5F4A-48CE-9DDE-13F784A91B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Два основных взгляда на темперамент человека в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аждому человеку присущ свой определенный темпера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F3ED-2F35-4A6F-816D-0C4B00CBBD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Отрасли и виды психологии как науки и как социального явле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коллектива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, социальн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улярная психология — поп-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ская психология ребенка и детей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родителей, психология воспитания и психология наказан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терап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ридическ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ая психология и т.д.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P.S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сихология глухих - сурдо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E8F0-F4E4-4C89-9689-F714FA6C54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ческий темперамент (интуитивно-логический подти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ый неустойчивый тип нерв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к стоит на втором месте после холерика по части худобы и потери вес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2A94-7B39-4A4B-B825-A97BF1493D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655E-68C5-435E-9067-5F76185868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широкие таз и плечи при узкой тал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редне или сильно выражены, выступают, часто заостр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часто удлиненный, заостренный, выступающий вперед, ярко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7AC0-A58D-4D13-83E8-74BC4CCB56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ый устойчивый тип нервной систем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ый взгляд он кажется уверенным в себе, но несколько ленивым и безразлич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 флегматик невыразителен в чувствах и мим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D440-E92E-4364-9B4B-2DBE9AD67A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D08D-D201-4992-A5AB-885AA0FABA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легмат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дленные движения, спокойная и уверенная, как бы плывущая поход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ая, широкая, выпуклая расширяющаяся книзу грудная клетка, тупой реберный уго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7889-3F4C-4EFC-B57F-4819C365F8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слабо сужающий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плоский, без выступов, переход в шею очерчен слаб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й, шарообразный контур темен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лабо или средне выражен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крупный, прямой, выступающий вперед, кончик опушен книзу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короткая, толстая, прямая ше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30C7-B89C-49DB-BF5D-9E14815400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неустойчивый тип нервной системы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D472-C60F-48D4-8A04-1415529198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Цель психологии как наук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AF18-15FC-4C37-B1CB-59606544F0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E3F1-8564-456B-B5C8-0E8105A9B8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упкость внешнего облика, худоба и худощавость, телосложение сух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выраженной склонности к ожирению, худо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корость обмена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ая клетка узкая, длинная, плоская или вогнута, острый реберный уг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плавно сужающийся кверху, конусообразный, без выступов и неров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няя часть головы больше по объ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заостр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няя челюсть "слабая" или сильно скошенная, заметно сужается книз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редне или сильно выражены, выступают, заостр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имеет выступы, сильно скашивается книзу, резкий переходи к ш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остренная теменная обла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4DC8-EE23-48B3-A3BE-CF979AA527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устойчивый тип нервной систем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1C8B-326C-4EFA-B0B4-F73CB7D27F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7510-846F-4DB9-A2DC-53A85089F7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ое, "шарообразное" туловище, округлые формы, низкий, редко средний ро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в центре туловища на округлом живо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но выраженная жировая ткань, жир откладывается равномерно во всех частях 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скорость обмена веществ - вес прибывает, даже если есть относительно ма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ая, широкая, выпуклая грудная клетка, тупой реберный уг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и скулы не выраж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явно не выражен, "утиный", "картошкой" или слегка вздер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круглый или плоский, без выступов, переход в шею очерчен слаб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слабо или совсем не выражена, короткая, толст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короткие, гладкие, кругл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21E8-C1D8-4111-8153-39BA38C45E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рмонтов, Наполеон и Петр1 - сангвин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тузов, Крылов - флегма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воров и Пушкин - холер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голь - меланхоли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5F95-B434-4667-B901-36BA97D230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НО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 развитие личности у психологов неоднозначные взгляд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7C61-6410-49CF-B920-175DBF3CEF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все разные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C9B2-BEE7-4159-8715-22D8C8291A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рибуты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воб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Раз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устойчивых компонентов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Темпер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т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88B3-AECA-4140-95D1-2CB3D3D286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ые н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ность л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373B-B726-45F6-AD7B-2EAD781960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Индивидуально-психологические особенности лично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емпер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биологической подструктуры личности составл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пера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D55D-3F8C-4DE1-908B-553C086BBC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F86-6F7E-47B5-A206-9DF306FD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375-03B6-4284-B8D9-112FAB66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49D-6734-4A72-ABF5-868019C5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ACE-0F0C-4B69-BDB5-B5D7641C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3CF-0A49-46A1-B66A-5D9B4ED1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60A-0F8E-40E6-B672-CF9FEF5E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B78-1BA0-4AEA-8535-496A38B5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525-BC72-417C-B898-DA75A7CC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32D-BD17-492B-9681-A8BED285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34B-C888-426A-A7BB-A676CA0D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C31-1F63-4033-A479-BFBBDD33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DD4-65E9-44E1-956D-0E423FC2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4D3D-959A-490A-9295-B2751702E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сихология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Что это так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амое простое определение психологии как науки таково: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сихолог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то наука о душе человек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Ведь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pshyso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» в переводе с греческого языка означает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душа»,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logia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наука, учение»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ндартное определение психологии как науки от самих психологов: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остаточно нудное, сложное и непонятное определение, верно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Психологическая эмблема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Arial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войства темперамен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Идея и учение о темперамен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Древнегреческий врач Гиппокр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писал основные типы темперамен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нтичный врач Клавдий Гале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лассификация темпераме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мецкий философ И.Ка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ал описание темпераментов, которые используют и в наше врем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Российский ученый Н.П. Пав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ла нервных процессов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равновешенность нервны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вижность нервных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отношение основных свойств нервной системы лежит в основе темпер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Типы темпера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ле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анхо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нгви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27"/>
          <p:cNvPicPr/>
          <p:nvPr/>
        </p:nvPicPr>
        <p:blipFill>
          <a:blip r:embed="rId1"/>
          <a:stretch/>
        </p:blipFill>
        <p:spPr>
          <a:xfrm>
            <a:off x="4113360" y="1143000"/>
            <a:ext cx="4114800" cy="54100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04920" y="425520"/>
            <a:ext cx="8534160" cy="6006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t_02"/>
          <p:cNvPicPr/>
          <p:nvPr/>
        </p:nvPicPr>
        <p:blipFill>
          <a:blip r:embed="rId1"/>
          <a:stretch/>
        </p:blipFill>
        <p:spPr>
          <a:xfrm>
            <a:off x="1295280" y="208080"/>
            <a:ext cx="6553440" cy="6441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91" descr="Lavater1"/>
          <p:cNvPicPr/>
          <p:nvPr/>
        </p:nvPicPr>
        <p:blipFill>
          <a:blip r:embed="rId1"/>
          <a:stretch/>
        </p:blipFill>
        <p:spPr>
          <a:xfrm>
            <a:off x="2016000" y="380880"/>
            <a:ext cx="5175360" cy="6172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ва основных взгляда на темперамент человека в псих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Каждому человеку присущ свой определенный темпера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elanhole"/>
          <p:cNvPicPr/>
          <p:nvPr/>
        </p:nvPicPr>
        <p:blipFill>
          <a:blip r:embed="rId1"/>
          <a:stretch/>
        </p:blipFill>
        <p:spPr>
          <a:xfrm>
            <a:off x="1447920" y="2690640"/>
            <a:ext cx="5638680" cy="416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Lpodtip"/>
          <p:cNvPicPr/>
          <p:nvPr/>
        </p:nvPicPr>
        <p:blipFill>
          <a:blip r:embed="rId2"/>
          <a:stretch/>
        </p:blipFill>
        <p:spPr>
          <a:xfrm>
            <a:off x="1219320" y="228600"/>
            <a:ext cx="6553080" cy="2228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трасли и виды психологии как науки и как социального явлени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личности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коллектива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ая, социальн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пулярная психология — поп-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ская психология ребенка и детей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родителей, психология воспитания и психология наказан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терап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рид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дагогическая психология и т.д. и т.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.S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сихология глухих - сурдопсих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ческий темперамент (интуитивно-логический подти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ый неустойчивый тип нерв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стоит на втором месте после холерика по части худобы и потери вес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широкие таз и плечи при узкой тал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часто заостр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часто удлиненный, заостренный, выступающий вперед, ярко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Lpodtip"/>
          <p:cNvPicPr/>
          <p:nvPr/>
        </p:nvPicPr>
        <p:blipFill>
          <a:blip r:embed="rId1"/>
          <a:stretch/>
        </p:blipFill>
        <p:spPr>
          <a:xfrm>
            <a:off x="1066680" y="304920"/>
            <a:ext cx="7313760" cy="223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egma"/>
          <p:cNvPicPr/>
          <p:nvPr/>
        </p:nvPicPr>
        <p:blipFill>
          <a:blip r:embed="rId2"/>
          <a:stretch/>
        </p:blipFill>
        <p:spPr>
          <a:xfrm>
            <a:off x="1828800" y="2654280"/>
            <a:ext cx="6095880" cy="420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й устойчивый тип нервной систем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вый взгляд он кажется уверенным в себе, но несколько ленивым и безразлич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 флегматик невыразителен в чувствах и мим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дленные движения, спокойная и уверенная, как бы плывущая поход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откая, широкая, выпуклая расширяющаяся книзу грудная клетка, тупой реберный угол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слабо сужающий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плоский, без выступов, переход в шею очерчен слабо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ый, шарообразный контур темен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ы слабо или средне выраже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крупный, прямой, выступающий вперед, кончик опушен книз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ительно короткая, толстая, прямая ше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Epodtip"/>
          <p:cNvPicPr/>
          <p:nvPr/>
        </p:nvPicPr>
        <p:blipFill>
          <a:blip r:embed="rId1"/>
          <a:stretch/>
        </p:blipFill>
        <p:spPr>
          <a:xfrm>
            <a:off x="914400" y="297000"/>
            <a:ext cx="7315200" cy="214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oleriki"/>
          <p:cNvPicPr/>
          <p:nvPr/>
        </p:nvPicPr>
        <p:blipFill>
          <a:blip r:embed="rId2"/>
          <a:stretch/>
        </p:blipFill>
        <p:spPr>
          <a:xfrm>
            <a:off x="1752480" y="2514600"/>
            <a:ext cx="61596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 неустойчивый тип нервной системы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Цель психологии как науки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упкость внешнего облика, худоба и худощавость, телосложение сух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выраженной склонности к ожирению, худо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удная клетка узкая, длинная, плоская или вогнута, острый реберный уго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б плавно сужающийся кверху, конусообразный, без выступов и неров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хняя часть головы больше по объе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жняя челюсть "слабая" или сильно скошенная, заметно сужается кни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заостре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низу, резкий переходи к ш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остренная теменная обла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SEpodtip"/>
          <p:cNvPicPr/>
          <p:nvPr/>
        </p:nvPicPr>
        <p:blipFill>
          <a:blip r:embed="rId1"/>
          <a:stretch/>
        </p:blipFill>
        <p:spPr>
          <a:xfrm>
            <a:off x="1295280" y="457200"/>
            <a:ext cx="6096240" cy="174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angvin"/>
          <p:cNvPicPr/>
          <p:nvPr/>
        </p:nvPicPr>
        <p:blipFill>
          <a:blip r:embed="rId2"/>
          <a:stretch/>
        </p:blipFill>
        <p:spPr>
          <a:xfrm>
            <a:off x="2057400" y="2336760"/>
            <a:ext cx="4775040" cy="4521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льный устойчивый тип нервной систем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ое, "шарообразное" туловище, округлые формы, низкий, редко средний ро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ент в центре туловища на округлом жив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но выраженная жировая ткань, жир откладывается равномерно во всех частях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ая скорость обмена веществ - вес прибывает, даже если есть относительно ма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ая, широкая, выпуклая грудная клетка, тупой реберный уго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одок и скулы не выраж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явно не выражен, "утиный", "картошкой" или слегка вздер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круглый или плоский, без выступов, переход в шею очерчен сла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я слабо или совсем не выражена, короткая, толст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ги короткие, гладкие, кругл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лю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рмонтов, Наполеон и Петр1 - сангвин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утузов, Крылов - флег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уворов и Пушкин - холер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голь - меланхоли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а развитие личности у психологов неоднозначные взгля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ди все разны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oldgirl"/>
          <p:cNvPicPr/>
          <p:nvPr/>
        </p:nvPicPr>
        <p:blipFill>
          <a:blip r:embed="rId1"/>
          <a:stretch/>
        </p:blipFill>
        <p:spPr>
          <a:xfrm>
            <a:off x="5013360" y="1600200"/>
            <a:ext cx="362088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рибуты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Раз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 устойчивых компонентов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Темпер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"/>
          <p:cNvPicPr/>
          <p:nvPr/>
        </p:nvPicPr>
        <p:blipFill>
          <a:blip r:embed="rId1"/>
          <a:stretch/>
        </p:blipFill>
        <p:spPr>
          <a:xfrm>
            <a:off x="457200" y="609480"/>
            <a:ext cx="8686800" cy="5713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нор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енность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ндивидуально-психологические особенности лич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мпер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у биологической подструктуры личности составля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08:34:3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