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0867-136F-4587-91C2-AFE1BD3D64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ку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кул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479-E93F-4C70-A77B-45BD14AF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CE0-2105-483C-9581-F649D97F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A27-EBEE-4C4A-A5D4-724DDD2C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890-6B9E-4E2E-A720-6FF5E438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EBF1-6A9B-435A-AB49-8A092685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5B68-23D9-444B-B5F5-D10C1127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B884-604F-4302-B09F-441D1C30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43CC-EF70-4889-86BC-142F4A88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97C9-C532-4EF1-9D21-03A301D0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867C-402E-4F9A-858A-2F5F909B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E250-9AFA-4600-B501-BBD6044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13C-B37B-4BAC-88B0-BFAD081C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2CEB-D958-4EB3-AADE-CD022D0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F573-A928-4161-A20D-39C45A69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C617-A96C-44BA-B9FA-37BFFE25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C3B1-6EDA-4736-B371-67DB8AF6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F2A-4D72-4377-AB74-FDAD7A04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95C-ABD9-445A-876E-5028E6BD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B51-05E1-4650-A769-BA60A7B4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175-3784-404B-9695-3405C5E0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1E8-709B-4EEE-AEA6-CA223952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C6D-5361-47ED-9437-30E1701A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9F8-8F40-42F2-9DAD-DADE141D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19E-AE24-4DC1-856B-7CE9C5FB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60C5-4E10-48B1-9BD2-4F23B4F424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6186-B5B4-49EF-B0F3-06F8943386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bbd71"/>
                </a:solidFill>
                <a:latin typeface="Arial"/>
              </a:rPr>
              <a:t>Акулы 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6109d73e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67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akul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akul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ak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akula-molot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akula-oboi"/>
          <p:cNvPicPr/>
          <p:nvPr/>
        </p:nvPicPr>
        <p:blipFill>
          <a:blip r:embed="rId1"/>
          <a:srcRect l="0" t="0" r="200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24:16Z</dcterms:created>
  <dc:creator>User</dc:creator>
  <dc:description/>
  <dc:language>en-US</dc:language>
  <cp:lastModifiedBy>Legion</cp:lastModifiedBy>
  <dcterms:modified xsi:type="dcterms:W3CDTF">2017-09-22T10:13:05Z</dcterms:modified>
  <cp:revision>6</cp:revision>
  <dc:subject/>
  <dc:title>Акулы</dc:title>
</cp:coreProperties>
</file>