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6AAB-8278-42B0-9AF0-DC3F8013EC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аркти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нтарктид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67C-190C-4D62-AF3D-7318B404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178-D597-4903-ABF0-7D5A2ACE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FED-8FDD-4017-833F-385ECFBF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E83-0BEF-4AA3-9B6A-CE924800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92C5-3FF7-4457-AC22-3364ACF7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F13-0E8E-416E-AF9D-17306BC9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9CBF-1A42-4995-9280-81DD9E65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2133-F0E2-4E1C-8CD2-39EF7300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08B8-480E-467E-BC89-3C263CB1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B3CB-D3EA-49A0-8954-DBAC7073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83D2-D1F6-4A6C-95DF-3472A03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13E-1509-4CCD-9F1B-71812363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9F5E-67F7-4A60-BCD2-E5DBE5BF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4591-78E7-4B77-898D-0712FC4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A8EF-BCEB-456E-97C9-FAEB1774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33E7-794C-487B-BD61-DB14FD9F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4E8E-06E1-4640-91B1-90A64E4C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52F-632D-458B-B9E8-C954458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599-B2DF-4D1F-BF74-CA07DA69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C54-99BA-44E1-8D33-4DCB6C52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0E9-7D3A-4519-9BED-FCEF0FDF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62D-FE74-4316-A772-AD9AED1D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6A0-F1B2-410D-BFDE-FD783946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F2B-C734-492F-86AC-FF89EDF3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B66E-2565-466E-A137-9E21A304A3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7034-6B3A-496A-A6D8-73F2B66E07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нтарктида 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769f5c7295dd44698ff3f5c886cde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805149c9cbee2dcfaeec0fab6978b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antaarkti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Antarct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Antarktida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Antarktida_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ntarktid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ntarktid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46:55Z</dcterms:created>
  <dc:creator>User</dc:creator>
  <dc:description/>
  <dc:language>en-US</dc:language>
  <cp:lastModifiedBy>Legion</cp:lastModifiedBy>
  <dcterms:modified xsi:type="dcterms:W3CDTF">2017-09-22T10:14:37Z</dcterms:modified>
  <cp:revision>5</cp:revision>
  <dc:subject/>
  <dc:title>Антарктида</dc:title>
</cp:coreProperties>
</file>