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CF23-FC55-47C7-8102-63EA0089B6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аркти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нтарктид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D6E-3FC6-45A2-97DF-E744946F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56D-DEEB-4046-AD54-6E4D56A2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224-D406-4202-9B48-EAA01E11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BD4-3845-4D17-B359-56308673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482F-D3FB-42C6-82E2-9F9DB5A4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F15-E7FB-440D-ACE6-C0C7D1C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4F95-9F24-4198-BBF6-E701C018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D6EF-49DC-4CB5-8F61-24F62435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4466-6A7B-408C-AB66-89D31E4D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4C11-2275-411D-AF53-3C991FF7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E673-CAEB-40EF-861D-6D9235D7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B2E-3CD4-49D7-8650-806D8ADB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6EF0-58F2-4696-8D8E-16B2064E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2118-056B-4712-81E7-A381D0B8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679F-9A7B-492C-BB71-E283CFA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8826-25F3-423F-819C-CA732597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6ED1-6FF6-43A0-8375-8B30145C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02E-AAD3-4D97-81A0-BEA049E4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37C-8E94-4527-BE82-08196FD5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AB9-0AC0-45BC-907F-716CC6CA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27F-DFD9-41CE-99EE-1B2A3E69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514-B5F1-4962-ACA1-0512714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843-E364-4B88-81DF-ADD8AF32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266-1830-4AA7-9A76-0B24478D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AAD6-0F08-47EA-AD61-68F622F9F2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79A3-D477-4537-804C-F990744DA5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нтарктида 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769f5c7295dd44698ff3f5c886cde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805149c9cbee2dcfaeec0fab6978b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antaarkti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Antarct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Antarktida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Antarktida_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ntarktid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ntarktid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46:55Z</dcterms:created>
  <dc:creator>User</dc:creator>
  <dc:description/>
  <dc:language>en-US</dc:language>
  <cp:lastModifiedBy>Legion</cp:lastModifiedBy>
  <dcterms:modified xsi:type="dcterms:W3CDTF">2017-09-22T10:14:37Z</dcterms:modified>
  <cp:revision>5</cp:revision>
  <dc:subject/>
  <dc:title>Антарктида</dc:title>
</cp:coreProperties>
</file>