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DC22-4574-4B11-B18C-1F8EE14FB57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нтаркти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нтарктид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CE80-3EFA-47ED-B576-54044C7E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D9E-98A2-47C8-8AA8-8E07A216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AA1B-E31D-432B-BF2B-6E92D59C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54BB-1229-41EE-814A-FAD7ADA2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B576-EFA8-44A2-9196-7A153674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DC7D-6822-4988-8F48-4169660F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9605-59B9-48DE-B1E7-CD7915C0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703C-F39F-4057-8078-80290CF7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D878-2A25-434E-B375-4D3BCF72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C279-260A-41F6-A3FF-A3228D49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CDEC-82BD-45BA-A39F-05F8533D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E14B-37FD-4611-9839-E2414FD2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4737-46D7-41C5-A01B-456F8C78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3D79-37A4-4DA6-85A1-84B263EC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32E2-CA1C-4A7B-AB3F-253F0529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2F34-5C23-488D-8C35-C7A27A5A4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1F8D-7518-44C4-BBE7-8E1AB7D1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CC7B-664F-4899-BA34-DB85F056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277E-C552-4BAA-AF5C-27A7D4B0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2EEB-63AB-4259-AE6D-206E944C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822A-9BF0-401B-89FF-2845B68C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93EF-CF97-40C8-875D-B75CAB79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F026-C297-46E5-890C-6D148829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632C-377C-424D-BCB1-C483FE9E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B90B-DAAC-46B6-B2BA-C0BA896527D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B11E-35B0-437B-A9AF-20DC8044CC1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cc"/>
                </a:solidFill>
                <a:latin typeface="Tahoma"/>
              </a:rPr>
              <a:t>Антарктида </a:t>
            </a:r>
            <a:endParaRPr b="0" lang="en-US" sz="10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769f5c7295dd44698ff3f5c886cde2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805149c9cbee2dcfaeec0fab6978b6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antaarkti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Antarcti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Antarktida_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Antarktida_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antarktid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antarktid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5:46:55Z</dcterms:created>
  <dc:creator>User</dc:creator>
  <dc:description/>
  <dc:language>en-US</dc:language>
  <cp:lastModifiedBy>Legion</cp:lastModifiedBy>
  <dcterms:modified xsi:type="dcterms:W3CDTF">2017-09-22T10:14:37Z</dcterms:modified>
  <cp:revision>5</cp:revision>
  <dc:subject/>
  <dc:title>Антарктида</dc:title>
</cp:coreProperties>
</file>