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D66-BECD-4769-B5FC-14A44A29CF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рхеолог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69B-ED52-47A8-B7F3-8C8171DC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44C-2912-4208-9095-3F80F247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BDD-A46A-491A-BA5C-A209DC5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0946-5F94-417A-B49E-DE4601CC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4283-897B-4EB0-B7FB-AFE23A49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6E49-D997-45D8-9EA9-C9561044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DA26-CBE5-4E2A-B58D-44A7F17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7CE8-EB29-4AFF-A579-28FB9E88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12BB-922C-4A88-AA87-278B502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C8F-310D-4C60-8C0D-0CB8FA54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98F9-CDA4-4B59-ACB8-590916A8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295-BD27-451D-8242-24A341CC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37FF-BA7C-472A-B3DC-4FE625CE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447A-3242-46F6-8CB8-0688E17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5B51-3783-4EEF-B9E8-036CA0BC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1719-11B1-4637-BF81-8C82E13F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73C0-4650-45FC-B689-FF02FFC4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BBE-9C7E-4C6E-9100-636F4A5C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821-775D-41DE-A047-C5C07B4B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514-F9FE-4E86-8FFA-08B1DEB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440-294D-4BC4-86E9-18949CC9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CA1-A251-4A91-848E-1166FEE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CF3-7A07-4DDB-BBAE-E8C591D6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AB4-36AB-4041-967E-6EF7BBA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6177-73B4-4F96-B7C7-77AB1CBF7C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5204-442B-488F-BAC0-2BA6C08D0B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99072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Verdana"/>
              </a:rPr>
              <a:t>Археология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31640" y="4076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255px-Excavations_Uglic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arh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arheolog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maxresdefau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IMG_4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img-20140815195946-9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13:03Z</dcterms:created>
  <dc:creator>User</dc:creator>
  <dc:description/>
  <dc:language>en-US</dc:language>
  <cp:lastModifiedBy>Legion</cp:lastModifiedBy>
  <dcterms:modified xsi:type="dcterms:W3CDTF">2017-09-22T10:17:29Z</dcterms:modified>
  <cp:revision>5</cp:revision>
  <dc:subject/>
  <dc:title>Археология</dc:title>
</cp:coreProperties>
</file>