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4DF0-2209-4447-938B-24D70499058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рхе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Археолог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932C-4DF8-4C85-A798-7453074E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36D-24C3-4ED7-8FAE-04510529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01F-7B32-4C9E-988B-C7CE082A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1D1-69B8-4561-BDC0-EABAB43D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4F81-4938-47AF-A134-BBFC686A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B914-1FE4-4B86-A52B-E2C9F941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49C4-B9AF-448D-9533-78F90B42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9101-C111-4390-9B03-41F802BE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81D8-0BFF-45AF-8912-E398C28D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37E8-B277-4347-9C12-F2FBE45C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6490-DE2E-46E3-A547-AF90E2D8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E47-A3BD-4226-B2D2-C141FB4E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0EF7-5E06-4D3D-9F0F-40AC347B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40A8-7B1D-4B7D-8DC9-3F61A2BC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160A-B4B9-48FF-89C3-F0464C79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7C52-D8FC-4005-B4A6-E0169027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E150-1C84-4C5B-B753-407CB959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ED7-F521-4199-86CA-FB5309D2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880-3FB0-4765-BD0D-869D2C1E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529-D1B5-412A-BC3A-FFAF6C3C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605-450B-44BF-9DFA-985211D7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598B-82A0-421D-B788-08F7B82E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6B9-850F-41E5-BB35-5BCA4994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D20-69AD-4551-B049-E66DDC06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76BD-E509-4DB0-AA7C-6DC2D0B866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A14A-3B8D-41A3-BE20-9E9112CD2E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990720"/>
            <a:ext cx="8569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Verdana"/>
              </a:rPr>
              <a:t>Археология</a:t>
            </a: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1640" y="407628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00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255px-Excavations_Uglic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27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arhe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arheolog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maxresdefau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IMG_44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img-20140815195946-9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13:03Z</dcterms:created>
  <dc:creator>User</dc:creator>
  <dc:description/>
  <dc:language>en-US</dc:language>
  <cp:lastModifiedBy>Legion</cp:lastModifiedBy>
  <dcterms:modified xsi:type="dcterms:W3CDTF">2017-09-22T10:17:29Z</dcterms:modified>
  <cp:revision>5</cp:revision>
  <dc:subject/>
  <dc:title>Археология</dc:title>
</cp:coreProperties>
</file>