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2AD-BF12-4864-821F-F407309A64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E8B-3D00-4694-A149-28319FC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AF2-17A0-4740-906F-F8D40B47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847-37BC-4EB3-8441-27589F90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494-A215-4F9D-A58E-17829FF9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58C1-1E77-4DB6-BAC5-EA920D98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F810-FE4B-40C4-9F0E-E7BF9E16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C63D-EF5B-4C0D-AD09-AAC26DE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051-E8C2-4EC7-B7FC-3E905DB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DADE-8405-41EE-831D-5AEE7686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3D49-9169-4523-AAEC-3DAAEF3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F80-A0A9-41FD-A03C-E8C7881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635-EAF5-4241-8D83-249B4087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DD4A-49EF-425C-B8D2-0273203E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968-AAD9-4D78-AA20-57CFCA2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AE7-B696-471E-82AA-7D038FD1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8792-D352-482D-979F-EA89B9DA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44B9-3639-4506-B418-338B6FF7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A2B-4F32-4F7F-8845-0448A9A2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5DA-5CB3-471E-8D65-1666FCBC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0EB-574B-4DA0-8900-4948AF1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796-88B9-4986-B6E9-274ABD49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7CA-B121-4239-9453-CB24FA3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564-0C41-4098-BEB2-BD8473F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1DE-8893-4A9A-B1A4-80E802A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5495-BBFA-4639-A517-47620B7CEF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E76D-AA8B-46B6-9F3C-BDABB1CB0B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99072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Verdana"/>
              </a:rPr>
              <a:t>Археология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255px-Excavations_Ugl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arh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arheolo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IMG_4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img-20140815195946-9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13:03Z</dcterms:created>
  <dc:creator>User</dc:creator>
  <dc:description/>
  <dc:language>en-US</dc:language>
  <cp:lastModifiedBy>Legion</cp:lastModifiedBy>
  <dcterms:modified xsi:type="dcterms:W3CDTF">2017-09-22T10:17:29Z</dcterms:modified>
  <cp:revision>5</cp:revision>
  <dc:subject/>
  <dc:title>Археология</dc:title>
</cp:coreProperties>
</file>