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8F5A-32AD-4560-8594-8962A02FC18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рхитек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5E64-2E97-41B3-B358-AE909202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95D6-C60E-41CC-AF48-F12B6AFC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F548-D018-4620-8975-76469DD9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01D-7F6D-4659-8FB0-D39684EB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5B89-01C7-48B0-AD2A-8B60BC72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D25D-A865-4749-B3B0-7AA2E564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9085-4F6E-47C4-8A29-1B105214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40D0-943A-4DC9-A181-F652E47B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AA7F-4B41-47B4-A473-2F4E2D2F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EC0C-C3F3-47A9-B5F9-57FAD184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5949-4A66-4813-BD20-D63158FC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189-145B-41B8-B47F-44A9D9C8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529A-74A4-452C-9B81-0270ACDD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AD0F-2252-4A5A-A861-45126184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1402-80C5-4BD7-A928-51EDAC34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7B59-E69A-4FEF-9431-FBEEAC7A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6CD4-5A48-40C7-A4BA-50D9564A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83CC-6E68-43D4-9643-985226EF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1997-C17F-48E7-A486-8AA827AA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660-EFDC-4E7F-A192-4A78865E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39B6-A801-43F9-8E98-6C724908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673A-0078-4672-A2BF-4426B01B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DBD-20FD-4671-840B-0EAEF1F5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602D-2BCD-4796-BE8A-31141DF8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E9E5-808C-48D8-88DD-79E3D80CD5D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7AA3-189A-4936-97CB-F97E8C6188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93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Архитектура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08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179_15_04_2011_arhitektura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70524133921David_Fish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rchitecture1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-IMG_e68d5e63af7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future-architecture_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HDpic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20:05Z</dcterms:created>
  <dc:creator>User</dc:creator>
  <dc:description/>
  <dc:language>en-US</dc:language>
  <cp:lastModifiedBy>Legion</cp:lastModifiedBy>
  <dcterms:modified xsi:type="dcterms:W3CDTF">2017-09-22T10:18:45Z</dcterms:modified>
  <cp:revision>6</cp:revision>
  <dc:subject/>
  <dc:title>Архитектура</dc:title>
</cp:coreProperties>
</file>