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F291-E8C1-4A40-B759-1D916C7125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F76-34D0-4A13-9433-0300FDDF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007-EB33-4C53-927D-4406188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82E-87FD-4211-B39B-EDCA9F09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740-27AF-4BD4-B682-1CF94C20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FB76-05F9-4A33-85F0-46AFC46E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344A-F4A3-4F9E-AB5E-4BEA3EEB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B6CE-EC40-434B-8B09-08CD8AC6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846A-35C4-44C4-A727-34DCAB2B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B555-F1B4-4E9D-A5F6-322B0285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BB5E-3728-49F4-9224-1E0B84D0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DF67-C206-432C-9FD6-FAB5AFBD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509-6955-42A7-AB2D-6ECA5ABC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BD22-7CE1-4DA4-B57C-904695B9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FAA6-EB2B-4D7A-AE66-FD89BA57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7850-F99E-40E4-8B81-12F84D99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D916-9598-4F38-97F9-8CEF4798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85AA-BFED-4AB3-8A1E-15D0A884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CA2-5878-45F1-A705-228EF98C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C29-EAD4-49C1-9E56-A66173EA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CFB-2C15-4B99-938B-84689DC0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EE4-976F-4E13-9121-F76B3ED4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420-118D-4D15-967C-E507BA56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632-282E-4B61-8E75-AEB666D7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3A4-1D20-4589-8DCF-A581D8F5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7399-D228-49AF-88D9-56AE322695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329A-2E3C-4EC2-B121-83084D1147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08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79_15_04_2011_arhitektura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70524133921David_Fis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rchitecture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-IMG_e68d5e63af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uture-architecture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Dpi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20:05Z</dcterms:created>
  <dc:creator>User</dc:creator>
  <dc:description/>
  <dc:language>en-US</dc:language>
  <cp:lastModifiedBy>Legion</cp:lastModifiedBy>
  <dcterms:modified xsi:type="dcterms:W3CDTF">2017-09-22T10:18:45Z</dcterms:modified>
  <cp:revision>6</cp:revision>
  <dc:subject/>
  <dc:title>Архитектура</dc:title>
</cp:coreProperties>
</file>