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D2D6-6EEB-486C-A6D2-2BB374E3633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стерои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стероид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4AECF-995D-44E3-A26B-3878AF513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5ABF3-A006-479B-9016-B81B7482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327B2-81C4-4B01-A950-93E331406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FE31E-8324-4F75-BC32-8B4AEC9A0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D1CD-57DA-4782-9C4B-94AACAAC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265F-6E5B-4851-855D-890F03BE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75B8-5A4F-40D6-98A7-7C18B8A8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9A67-5D6F-4BCF-AF7B-AB87906D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7D5E-2936-4412-B974-4B1328EF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1B38-69C0-4A8A-8292-46C10A42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3FF8-AD87-475D-B587-7D25E660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7E522-8D19-4BC4-B2F0-0853AD4A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9DD7-FA7E-4637-9CB0-2446B662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D8C3-AFA7-4D82-971C-87F7375A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A97C-7CBD-43B5-975C-A23A8522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DB98-50FC-4699-9156-490DA1099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C70B-C9D5-4986-B6EE-BF7346A09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F142B-8559-4157-8E11-14D21C55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18D07-BFA0-4F54-816A-DAF9C371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56AAE-96E9-44BE-88B9-EAF4232D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4AEBA-96B3-471B-A24E-42BC296C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8F998-B394-4F24-949B-C69EA00C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0ED85-7F56-454A-BA20-3E16509D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B4069-9979-47DF-BEC2-BAD2959B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83C6-938C-4CA7-99E0-36FB7A11E2E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3D81-0157-4E32-94CE-1617C98C64C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ff00"/>
                </a:solidFill>
                <a:latin typeface="Arial"/>
              </a:rPr>
              <a:t>Астероиды</a:t>
            </a: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124080" y="386028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1600x1200_%25D0%2590%25D1%2581%25D1%2582%25D0%25B5%25D1%2580%25D0%25BE%25D0%25B8%25D0%25B4%25D1%258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9273a06ac4978774f457109c042611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ast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asteroids_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asteroid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asteroidyi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gal_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6:38:12Z</dcterms:created>
  <dc:creator>User</dc:creator>
  <dc:description/>
  <dc:language>en-US</dc:language>
  <cp:lastModifiedBy>Legion</cp:lastModifiedBy>
  <dcterms:modified xsi:type="dcterms:W3CDTF">2017-09-22T10:20:01Z</dcterms:modified>
  <cp:revision>6</cp:revision>
  <dc:subject/>
  <dc:title>Астероиды</dc:title>
</cp:coreProperties>
</file>