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0A24F-1F43-4025-B379-DDFA38BE954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строном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66"/>
                </a:solidFill>
                <a:latin typeface="Arial"/>
              </a:rPr>
              <a:t>Астрономия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F6F3-7D04-4BB0-9DD2-25B69CC28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628D-85EA-4854-B82B-F51AD39E8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E100-3DE3-413F-ADCF-4CF7B0ECD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B389-24EF-410B-B539-FA6FA674B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D99BC-320D-4E02-A761-B343F0300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23AB3-D28D-43D0-B425-11A5EEE9A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B7BF7-1526-496E-95F8-12A73D3F0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172F9-3062-4327-BBCA-9BC74712F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E8959-127B-4189-B7F1-5BE6EBBB7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A9C37-B23F-4E3A-9A80-C5F5824E8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2F23C-8AE6-44CD-8510-4DDB1644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1490-088C-46A2-A553-EFF4E57BE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5FD41-4A3A-45F2-B885-A9FDB6A3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E7E1E-EBF0-4C34-B722-66D9799ED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12374-73A2-4027-ACBF-16AA038D2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7473F-0250-45C5-ACF8-E4E4F982B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01C13-5C61-42ED-BD96-14332BA43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B337-0E53-4620-B0EB-BEF51C484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93AF-F6BC-49C5-8AE7-9A88C1C8D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365C-A947-426A-B55E-ACFA64BB3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003D-E1A4-4306-8B72-0CB000C29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16E6-69A0-43E0-934F-141BA6A66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B2EA-0F3F-49FE-978B-333D700DC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079C-1BC3-439A-BEF3-4AC8B35F9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3DE78-EDDA-4AAA-8F66-191233F1852A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679DA-7FD3-4219-8609-CDE28C83834C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529920" y="1269360"/>
            <a:ext cx="810648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3366"/>
                </a:solidFill>
                <a:latin typeface="Arial"/>
              </a:rPr>
              <a:t>Астрономия</a:t>
            </a:r>
            <a:r>
              <a:rPr b="1" lang="ru-RU" sz="9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9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788000" y="4797000"/>
            <a:ext cx="4013280" cy="182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9" name="Рисунок 6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Picture 4" descr="1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Picture 4" descr="1-i-astronomij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Picture 4" descr="26_mai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Picture 4" descr="300px-Crab_Nebul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Picture 4" descr="Andromed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7" name="Picture 4" descr="astronomiya(1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1" name="Picture 4" descr="astronomiy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5" name="Picture 4" descr="Astronomy-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6:52:55Z</dcterms:created>
  <dc:creator>User</dc:creator>
  <dc:description/>
  <dc:language>en-US</dc:language>
  <cp:lastModifiedBy>Legion</cp:lastModifiedBy>
  <dcterms:modified xsi:type="dcterms:W3CDTF">2017-09-22T10:21:22Z</dcterms:modified>
  <cp:revision>5</cp:revision>
  <dc:subject/>
  <dc:title>Астрономия</dc:title>
</cp:coreProperties>
</file>