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17FE-DA33-4628-BF4B-CFF9CCBA1AE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строном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Астроном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5B94-715B-4435-9141-AFEEDDC8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D5BA-8502-4F87-B0EE-724D562C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FFB-1DB7-4480-A555-936A6C79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FDF-4503-4916-B8ED-05080CE8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6384-D565-46FE-B5FD-D185A4AE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032B-B959-4DC8-8050-C2412AE0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47A1-1BF8-4E2B-88A2-49AAD426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BEA7-1356-4AD8-B02A-07B204E9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5246-FCFD-4021-8EDE-573547A3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8A3C-9A0E-4678-9835-CADA4402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C670-3F61-4AF9-9029-755B65C0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4DE-1FD1-424F-B136-32AB5BD8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DE76-DA32-493D-B47C-996AF950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CCF6-8A0B-46F9-8742-8E281787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B39D-054F-4D85-BBB6-54E6AEC9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B91B-8F8E-45B4-8E88-815C6655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1CBC-5CF9-40D1-9756-459DBBD9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1A0-0107-4143-BBDE-7EF82A10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BF6B-E8A0-462E-8290-97BF0E8C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5D4-08F6-4E91-AD78-6B4501DF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3583-5244-46C5-8BF4-1CC9094E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5E1-FCB2-425F-811F-35FE702E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B745-F4A0-4094-82AF-209B9FA5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591-47BC-4900-807A-C4940A80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ADCA-1EC8-4CF1-86E5-95A8EFB4CAC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F6A0-6CDB-4023-AC9F-E17BE991BE5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29920" y="1269360"/>
            <a:ext cx="810648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3366"/>
                </a:solidFill>
                <a:latin typeface="Arial"/>
              </a:rPr>
              <a:t>Астрономия</a:t>
            </a:r>
            <a:r>
              <a:rPr b="1" lang="ru-RU" sz="9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788000" y="479700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4" descr="1-i-astronom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26_m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300px-Crab_Nebu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4" descr="Androme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4" descr="astronomiy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astronomiy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4" descr="Astronomy-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52:55Z</dcterms:created>
  <dc:creator>User</dc:creator>
  <dc:description/>
  <dc:language>en-US</dc:language>
  <cp:lastModifiedBy>Legion</cp:lastModifiedBy>
  <dcterms:modified xsi:type="dcterms:W3CDTF">2017-09-22T10:21:22Z</dcterms:modified>
  <cp:revision>5</cp:revision>
  <dc:subject/>
  <dc:title>Астрономия</dc:title>
</cp:coreProperties>
</file>