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0048-CD47-4AA1-B5AC-DAA93355F1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A9E-1E3B-492B-9190-E55DDF3B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920-C5A2-44BB-8576-BF7EB1A9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60A-0008-433C-BD12-2BD84590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814-DE04-48EA-B0E7-3C8B1C7F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C4DF-7B0C-45E8-80EE-56498EFD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DCCE-53D5-4F94-86F5-B996A73E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019B-387C-468F-A846-C97EE930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C4EA-81B8-4CF2-AAD5-887F441D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D4B5-774D-4FFE-B3B4-311938EF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79AE-BB50-402A-8A14-B16AA411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D43F-8680-4EF9-9FBA-A652409E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946-66E1-43E7-B261-3E39E4EE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1727-7A67-4D7D-B0EB-671FBFF3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989E-AA5C-49E8-ABD5-A979F129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CC10-353F-4F97-986B-ED614418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4397-8F5B-4CEB-B545-0B5FEF1A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4796-C88C-4ED6-B1B4-C7F9D7A2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D8A-57CA-47D3-AC89-2DB8A544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0D8-2B86-48BC-8A8E-2913D915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701-0701-4A03-87EC-A0BDB3D3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902-35CB-478F-9F08-DFA68068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746-BE27-43A5-A5F9-0563206C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4F3-1622-44CA-ADE9-8438F2BE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037-9715-4C07-AECC-B793879F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7D93-F9C2-4EB2-AC4C-8863FF9CB9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BF41-E74A-4165-A5E8-F3D897F053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5770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330066"/>
                </a:solidFill>
                <a:latin typeface="Arial"/>
              </a:rPr>
              <a:t>Атмосфера </a:t>
            </a:r>
            <a:endParaRPr b="1" lang="en-US" sz="10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3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2534259_5c92b6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327501503_atmosfera-zeml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atmosfer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tmosfer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tmosfera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tmosf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01:22Z</dcterms:created>
  <dc:creator>User</dc:creator>
  <dc:description/>
  <dc:language>en-US</dc:language>
  <cp:lastModifiedBy>Legion</cp:lastModifiedBy>
  <dcterms:modified xsi:type="dcterms:W3CDTF">2017-09-22T10:23:02Z</dcterms:modified>
  <cp:revision>5</cp:revision>
  <dc:subject/>
  <dc:title>Атмосфера</dc:title>
</cp:coreProperties>
</file>