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6050-F4C0-40C9-A419-3D206351061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тмосф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тмосфе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97CB-4C3A-4478-9777-47C4680C6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7AC0-F7C7-40E6-AABF-FEA95800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2EBD-CA8F-4FAA-9B85-D1664358B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2A72-1963-48DE-8A79-B7B88DCB5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26C2-A820-42F6-861B-A563FC8BE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EE711-7669-49FD-A242-F5420087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E8A5-0207-435A-A07F-C49BBB99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722C-9B54-4D44-9FC8-168D598A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5DE5-2075-476B-87E5-D710ED53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0471-5C81-40DC-B057-F5C99E21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2390-C1FA-481A-B625-0E1F008F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C441-9C53-41C6-8EC0-3EE9A2DD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CAB3-97EC-4583-9B00-DB205416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EE45-F5AB-4A73-8584-40AD7AB4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E617-4ED7-4441-90F7-DC0A5408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5C26-9BC6-4D1D-BA27-4D113E3E8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BDE3-9485-4E0F-BC88-284A7EBCA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3A2E-9E3D-4D79-B849-A04D2999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A876-901E-4D79-9650-3982F63D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9C56-7873-418A-86CB-F59CE73B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A890-F358-4A5D-9E99-43834903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8CE2-00B8-4A49-87D5-AC9FCF77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F7BA-1DBF-47B0-8C24-88C59E81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7AB3-5D95-4924-9D37-B762C144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F606-67EF-4642-B6E5-E105E1E19B1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C82D-C5CF-4FAD-9EE8-5A2A50321E3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5770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330066"/>
                </a:solidFill>
                <a:latin typeface="Arial"/>
              </a:rPr>
              <a:t>Атмосфера </a:t>
            </a:r>
            <a:endParaRPr b="1" lang="en-US" sz="10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31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2534259_5c92b62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1327501503_atmosfera-zeml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atmosfera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atmosfera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Atmosfera(3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atmosfer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7:01:22Z</dcterms:created>
  <dc:creator>User</dc:creator>
  <dc:description/>
  <dc:language>en-US</dc:language>
  <cp:lastModifiedBy>Legion</cp:lastModifiedBy>
  <dcterms:modified xsi:type="dcterms:W3CDTF">2017-09-22T10:23:02Z</dcterms:modified>
  <cp:revision>5</cp:revision>
  <dc:subject/>
  <dc:title>Атмосфера</dc:title>
</cp:coreProperties>
</file>