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C6B-1991-48AF-A21C-B261B33F93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Атмосфе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759-0B15-4752-A5A6-DDE24BA7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98F-50C4-41A5-A384-B21193EC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3D4E-9787-49C0-B99B-52BBAC44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0E9-4473-4739-8D25-D7321D238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6E3-9E21-49AC-8286-F7F556CD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00B7-3904-4D8C-B7FD-10BD857F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A81F-B75A-4610-B900-C9DC2534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F7D15-E081-4019-B812-77ABEA078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FBC4-8AAC-48FF-8156-47C26903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E9F7E-FEA3-4B31-9627-DBFA4E0B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243E-0164-4046-BB01-55ECA466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9D8B-8494-42AD-AD34-387D8A7D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600D-1390-455B-9FA6-7FA4B997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A6BC-2099-4A13-87FD-F8DE1EE6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8068-34D3-4BEB-9616-1CADFF64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7E23-28AB-4789-9CB2-0E49C710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3A83-445B-4793-BEF3-785C620F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4F7-50CF-4C24-8201-755955BA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6D3-5062-4A78-9467-0FAF52C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799-6F61-4589-BF49-1FC52424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C09-7518-4B1B-A857-990820EE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0E-EB00-4F67-8E02-392F3CF7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A666-1567-4F19-A6E8-D07993C4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869-BF84-47F5-99A2-93729EDE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E88E-2586-47C0-92F6-E79F8F00FF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2475-34B6-4AD5-8B9D-DF93CBD6899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5720" y="466200"/>
            <a:ext cx="85770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330066"/>
                </a:solidFill>
                <a:latin typeface="Arial"/>
              </a:rPr>
              <a:t>Атмосфера </a:t>
            </a:r>
            <a:endParaRPr b="1" lang="en-US" sz="10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31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2534259_5c92b62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1327501503_atmosfera-zeml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atmosfera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atmosfera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Atmosfera(3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atmosfe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7:01:22Z</dcterms:created>
  <dc:creator>User</dc:creator>
  <dc:description/>
  <dc:language>en-US</dc:language>
  <cp:lastModifiedBy>Legion</cp:lastModifiedBy>
  <dcterms:modified xsi:type="dcterms:W3CDTF">2017-09-22T10:23:02Z</dcterms:modified>
  <cp:revision>5</cp:revision>
  <dc:subject/>
  <dc:title>Атмосфера</dc:title>
</cp:coreProperties>
</file>