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F32C-C03A-494A-BBE0-27C2619FBD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ная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CAC-6C96-455E-B366-3BC21726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7CF-0E99-46A2-84D3-404A7BFB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3AE-2713-4DF9-B1F9-8F900F37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611-DB6B-4BFE-8CAD-3A3AD874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95C3-EBB3-445A-A488-E7679C4B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AD9D-891C-4AA3-845B-9C3AD528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F057-60E8-4E14-A76B-DDF07247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7724-AE53-48BA-98A5-9E0CB6D8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0EF0-9702-4CCC-B578-B1E6F546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D3C5-4014-4E56-BF88-804DD61B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A58A-604E-43B9-8802-738F4D6F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8AB-501D-400C-8DD3-4F024138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5B4E-E2A0-446B-972A-E588EA24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D53E-1D90-48C6-AEDA-26D6900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E58A-3E29-442E-9EDC-5EC965CE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87E9-90D5-4B99-A4E9-5CEF62BC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A0B1-9D02-4418-8032-13A69D76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EE0-9BC0-450B-8CF5-DC872149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EF7-B384-48A8-80C4-EDCE83F1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3DB-F301-42ED-A569-01111A00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F68-7A21-4E98-ACB5-5CE9BC05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1C7-8A7A-46E3-9CAF-CCF34ECB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796-9179-409A-8D12-21776D42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051-6828-42B1-8AB4-576C847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76C6-53FB-457F-83A9-BB39B70CD08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5D0B-BF77-47DE-8A60-BB7ABC1E30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23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Атомная</a:t>
            </a:r>
            <a:br>
              <a:rPr sz="10000"/>
            </a:b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энергия</a:t>
            </a:r>
            <a:endParaRPr b="0" lang="en-US" sz="10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_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0d6e3c6c4de50e7de564ce759b25f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87fe018e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50px-Operation_Upshot-Knothole_-_Badger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53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131105_a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energetika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uclear-for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11:54Z</dcterms:created>
  <dc:creator>User</dc:creator>
  <dc:description/>
  <dc:language>en-US</dc:language>
  <cp:lastModifiedBy>Legion</cp:lastModifiedBy>
  <dcterms:modified xsi:type="dcterms:W3CDTF">2017-09-22T10:24:11Z</dcterms:modified>
  <cp:revision>6</cp:revision>
  <dc:subject/>
  <dc:title>Атомная энергия</dc:title>
</cp:coreProperties>
</file>