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D9BD-2443-4E30-A06E-35C4A8D0FE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омная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не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EB3-9DF6-4191-A41C-A3178C56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C78-80BD-42AB-B01D-197C970C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056C-68A4-47FE-A638-2F5CAD1C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1C21-99FA-4406-A9A5-9ADC7962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0186-332E-4268-AEE0-486100AA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2141-47BD-4E46-81BC-8719E640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098E-D606-4A98-9503-CB18CB8A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4ABF-DF63-4EB3-8BC9-1E7EE6A8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2D50-0FAC-4388-A014-A314DE46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CF99-F982-44BE-A5BE-54EF51D4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9E80-8D35-4977-8412-4C56920B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A90-895C-4E9E-B538-472867EE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C66C-D1C5-42B2-944F-1C2487BC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6F46-9DA4-49EB-B1ED-FE5765CF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DACB-A9A5-415B-9964-31A9A438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B6F0-CAE6-4B82-ABC1-950449E8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4339-889F-48BF-B368-3A50D3E0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2E9B-AEB6-420D-939C-80E423A0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E39-87F7-4C79-9E8E-F8B22D41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BB45-24F0-4DA1-8942-55A1AA55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0EFA-7083-4FFD-9C01-5F7570C1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A3E6-CB3A-4CC6-90C9-92ECA9CE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0642-C7C9-47AF-A892-3BE912C6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940-D440-410A-A7EB-6209783D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6B5E-4880-40F4-916F-892E30EC92D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8A0F-2E57-4CDA-B703-97E597625B0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23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6633"/>
                </a:solidFill>
                <a:latin typeface="Garamond"/>
              </a:rPr>
              <a:t>Атомная</a:t>
            </a:r>
            <a:br>
              <a:rPr sz="10000"/>
            </a:br>
            <a:r>
              <a:rPr b="0" lang="ru-RU" sz="10000" spc="-1" strike="noStrike">
                <a:solidFill>
                  <a:srgbClr val="006633"/>
                </a:solidFill>
                <a:latin typeface="Garamond"/>
              </a:rPr>
              <a:t>энергия</a:t>
            </a:r>
            <a:endParaRPr b="0" lang="en-US" sz="10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5_1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70d6e3c6c4de50e7de564ce759b25f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087fe018e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250px-Operation_Upshot-Knothole_-_Badger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537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20131105_a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energetika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nuclear-for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11:54Z</dcterms:created>
  <dc:creator>User</dc:creator>
  <dc:description/>
  <dc:language>en-US</dc:language>
  <cp:lastModifiedBy>Legion</cp:lastModifiedBy>
  <dcterms:modified xsi:type="dcterms:W3CDTF">2017-09-22T10:24:11Z</dcterms:modified>
  <cp:revision>6</cp:revision>
  <dc:subject/>
  <dc:title>Атомная энергия</dc:title>
</cp:coreProperties>
</file>