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4B30-F8F2-4B00-8F37-7738F83652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50B-328E-4A80-AD28-5E42E05D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B02-39D5-45E0-ADFE-90CE62C2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C15-B187-4CD5-9534-0B892347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AF2-4E8A-4D72-93F2-144595F0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A6E0-A415-4203-974F-3C02E482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525B-84B0-4EC9-B1D4-6FC566B3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3A2D-3921-453C-B7F2-A34C3352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0B3F-868B-45DA-A588-71A69DA5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E3E1-2CE8-4BFB-B65D-E380BCEB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521E-804D-4392-B900-18A4C788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AAED-46EF-42A8-BB5B-06950135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4BA-992D-4922-94FC-C0DCA363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DB2E-4E08-48E7-9B86-23CDA36D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58F3-E5A7-4C37-84A2-61D444B6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E232-2186-4BF1-845E-A4CBCDE1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41FF-630C-4949-BF82-4FC74C71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C743-BE6B-444B-9386-5B1DDB10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4AE-2B6C-4299-A228-0E0EEE22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183-2AC9-4E5E-83D4-14F39DAC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732-FB8B-44EF-AB6D-FB54BF0E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F9D-74E9-40B9-89F6-C54A4481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6FF-6908-4A99-BAA8-D6C3794B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33F-5949-4642-95B1-703180CA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9BE-A706-4FE3-9B0B-3D04AE6E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8A46-2B2B-49C6-A1B4-4D8EB5FC24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2574-CE0F-4555-9DA7-6341A3D4324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333399"/>
                </a:solidFill>
                <a:latin typeface="Tahoma"/>
              </a:rPr>
              <a:t>Атомы </a:t>
            </a:r>
            <a:endParaRPr b="0" lang="en-US" sz="10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3d_1548-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97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109970niBCRIKyL8kn5M5w4ON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1002300_PH01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atom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at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atom_kak_plane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atomy-i-molekuly-chasticy-veshhest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23:07Z</dcterms:created>
  <dc:creator>User</dc:creator>
  <dc:description/>
  <dc:language>en-US</dc:language>
  <cp:lastModifiedBy>Legion</cp:lastModifiedBy>
  <dcterms:modified xsi:type="dcterms:W3CDTF">2017-09-22T10:25:31Z</dcterms:modified>
  <cp:revision>5</cp:revision>
  <dc:subject/>
  <dc:title>Атомы</dc:title>
</cp:coreProperties>
</file>