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707A-F790-49DF-B4B4-2872352625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67D-92F2-4F07-9CC6-72D40810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276-9A89-40E6-9A0F-F261A8BE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9D2-85AE-455B-9CEC-4B8C7647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0AC-ED5B-4F55-A3ED-87F18910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1BB3-60D9-4976-B167-5A30D5BC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CA37-872D-4952-8802-F87CE239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8FC-F683-470D-AAAF-DD5997DC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56FE-E2C5-4A7B-980D-F356ACA6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8379-76FE-467D-932F-004D98DB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E92B-3F58-4117-AE9B-F9A07820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39B5-9193-4272-928A-378E5052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F88-581C-46A7-ACC8-5EADA280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7EF6-9CE0-4335-A435-5564A8DC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E0E6-7C82-4FFC-BA5D-9040C1C3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B76F-E247-4D88-8EAA-0AD9F97E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1FDD-C1B5-4FA3-AFB4-7822CA8A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600C-A5B6-422E-86A1-7532DE89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C1E-4589-48A3-9FD8-6395C182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107-2391-4D36-90E2-17E44229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048-181E-40C6-AD55-BB7A6ED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0C7-3BA8-402D-B48A-964D4866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E00-7BC5-4F32-A0E0-5933A0E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688-F68E-4574-9792-73855AE2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1CE-6A1E-4D21-8D19-941229F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8AD4-1753-412B-9BB3-242B26144E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F5EC-808C-4DED-9882-A5A4505539A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333399"/>
                </a:solidFill>
                <a:latin typeface="Tahoma"/>
              </a:rPr>
              <a:t>Атомы </a:t>
            </a:r>
            <a:endParaRPr b="0" lang="en-US" sz="10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3d_1548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97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109970niBCRIKyL8kn5M5w4ON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1002300_PH01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atom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at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atom_kak_plane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atomy-i-molekuly-chasticy-veshhest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23:07Z</dcterms:created>
  <dc:creator>User</dc:creator>
  <dc:description/>
  <dc:language>en-US</dc:language>
  <cp:lastModifiedBy>Legion</cp:lastModifiedBy>
  <dcterms:modified xsi:type="dcterms:W3CDTF">2017-09-22T10:25:31Z</dcterms:modified>
  <cp:revision>5</cp:revision>
  <dc:subject/>
  <dc:title>Атомы</dc:title>
</cp:coreProperties>
</file>