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6944-A338-4EF0-8EB0-4A2060D748D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о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Атом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EC9-AA59-420B-AD49-73FF5B02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857-5BCA-48CC-8049-4A65781E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716-4309-4F00-8503-D0CCB3F0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E87-0402-4087-A1FA-334FABAA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E38D-642D-43F6-B1D1-26255DE5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3AB0-52A7-41C1-B5DF-924BA696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6BB0-F269-4EE0-BE3B-D4DB8279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AD19-F7A6-427C-AFCA-0B70B2BB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A69F-2181-4E53-B50D-D45D1AAD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5823-983C-4E4D-AFF7-D0CD51F2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E312-C64E-40CE-BE82-33BDB122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D78F-8503-4610-8832-FB95C62A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6918-5B6C-4926-8588-2D18E0EC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C76D-96C8-44D1-B20E-389D1727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E8C5-230C-46E6-B823-64E63E84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4E6D-C0BA-41B7-9534-DE85E410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23B9-E1B1-4A69-9C47-731F3361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3E9-63CE-49C0-A924-EC136FB1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A4C-F333-41B6-AD1F-CDE50309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D6B-7C4A-4B4B-AF01-7FDC4402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DB9-CE82-4C0D-BCAD-50E91C6F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8BA7-CA78-4A27-B91C-BBD69663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8CFE-B1E9-4726-AE3A-7C7E6261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900-27DD-40F8-A755-67D3B167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3719-30B3-4062-A34F-EADD00A5D4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6B32-169B-4F7E-8895-4EA8C15F4AC3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333399"/>
                </a:solidFill>
                <a:latin typeface="Tahoma"/>
              </a:rPr>
              <a:t>Атомы </a:t>
            </a:r>
            <a:endParaRPr b="0" lang="en-US" sz="10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3d_1548-1024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977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109970niBCRIKyL8kn5M5w4ON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4" descr="1002300_PH01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atom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at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atom_kak_plane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atomy-i-molekuly-chasticy-veshhest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23:07Z</dcterms:created>
  <dc:creator>User</dc:creator>
  <dc:description/>
  <dc:language>en-US</dc:language>
  <cp:lastModifiedBy>Legion</cp:lastModifiedBy>
  <dcterms:modified xsi:type="dcterms:W3CDTF">2017-09-22T10:25:31Z</dcterms:modified>
  <cp:revision>5</cp:revision>
  <dc:subject/>
  <dc:title>Атомы</dc:title>
</cp:coreProperties>
</file>