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F2F-1D1A-400A-A47F-38A5FD12FD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Атом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956-E3CB-4BBB-87AC-62D6EBF2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D8B-AD8B-48D3-97E1-5374147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D94-5502-4777-85F8-E19C94DE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7C5-F9FA-412C-A3F6-3295F786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575A-A62F-494B-92BB-3480F33D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3E94-3A44-40D3-88AD-D95B9FF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D27F-6529-49D2-9590-667067D7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1C6-B220-4410-B825-A83CEF5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4ED4-3D3C-44CC-8CB3-20A6BBEF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E4DD-2D37-4868-B339-3803B7E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D521-ACAA-4620-8DC9-5F1745D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949-50D3-40BD-84B3-E52A2158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3ACB-51D3-4C8E-A4F1-7C6000F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06B-8A02-4966-A6D5-05933D4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5F08-E4D6-4206-8B7F-E5729FC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EF90-AB0B-4946-BBB0-EC5753B5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B96F-9D3D-4B72-B218-395E3C0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CCA-E952-4D16-8902-8652E20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903-7FF7-4DA9-855D-98EF1F9E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A70-B8A7-4344-828E-ED2D25E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033-0B92-47EE-92B5-A8837FA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883-8680-4DEC-BAAB-3C33ED3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10A-0214-47E3-9CB9-80B450F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4FA-5FA7-4DFD-9D09-7DB5F8F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B3D-7AF8-46A8-B7B9-4519F7CC4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AFF-A1F2-4BBE-8971-A422C515B72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333399"/>
                </a:solidFill>
                <a:latin typeface="Tahoma"/>
              </a:rPr>
              <a:t>Атомы </a:t>
            </a:r>
            <a:endParaRPr b="0" lang="en-US" sz="10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3d_1548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977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109970niBCRIKyL8kn5M5w4O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1002300_PH01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atom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at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atom_kak_plane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atomy-i-molekuly-chasticy-veshhest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23:07Z</dcterms:created>
  <dc:creator>User</dc:creator>
  <dc:description/>
  <dc:language>en-US</dc:language>
  <cp:lastModifiedBy>Legion</cp:lastModifiedBy>
  <dcterms:modified xsi:type="dcterms:W3CDTF">2017-09-22T10:25:31Z</dcterms:modified>
  <cp:revision>5</cp:revision>
  <dc:subject/>
  <dc:title>Атомы</dc:title>
</cp:coreProperties>
</file>