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16B7-16ED-4436-BB4B-5F385B52D9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Африка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DF7-B95A-4840-BD68-D34B4F6A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FEF-F982-47CD-8BE4-FA5EB0C2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D3B-4AC1-4DA9-880B-CBD60C7D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E4E-1CD4-4215-8DD0-100C9822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C99E-000E-491B-9443-1CA7144E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E6D4-6140-412A-9DFD-4B8D56EE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690D-9FB0-438B-BA55-924ACE71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5E66-6F8C-4E46-92A9-6E0851B5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46CF-5406-4345-86DA-3A06C641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3CA0-B282-49EB-B6B8-4D5930DF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D3E8-C3DD-4823-B916-71E3FC50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808-A02D-44DE-8503-41A849BC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BEA7-95D0-494E-842B-2E228C86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8CB1-A758-43EC-99A0-D947097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F990-4907-4BFA-AC92-C8CA9081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B9DB-7CEC-445C-86B1-345FA045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F845-33E0-4D70-A687-A95EA782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EA8A-6D0D-490D-9483-FFB354F5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F8C-E109-4B3D-966A-62FADDE3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3CF-B44E-4FDA-B914-F7FBE2F4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B4C-E2AE-4EED-947B-FF9FB767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18F-D3F8-45D5-AC83-329E283B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72D-3A45-4D5F-AAC1-BE8224ED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475-88A3-4CA0-A795-AF47BB0E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ECD5-32AE-4837-9733-D5295450F4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EC80-5765-4F33-8D7D-96F1E5F959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b0f0"/>
                </a:solidFill>
                <a:latin typeface="Comic Sans MS"/>
              </a:rPr>
              <a:t>Африка</a:t>
            </a: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1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1397642341_7850711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Africa_0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africa-s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afrika1"/>
          <p:cNvPicPr/>
          <p:nvPr/>
        </p:nvPicPr>
        <p:blipFill>
          <a:blip r:embed="rId1"/>
          <a:srcRect l="0" t="23754" r="0" b="74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afrika-peo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bbc-afrika-scene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30:53Z</dcterms:created>
  <dc:creator>User</dc:creator>
  <dc:description/>
  <dc:language>en-US</dc:language>
  <cp:lastModifiedBy>Legion</cp:lastModifiedBy>
  <dcterms:modified xsi:type="dcterms:W3CDTF">2017-09-22T10:27:23Z</dcterms:modified>
  <cp:revision>6</cp:revision>
  <dc:subject/>
  <dc:title>Слайд 1</dc:title>
</cp:coreProperties>
</file>