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7E83-625B-4A52-8D27-9FBABBDF66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ф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Африка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FA1-950F-4C7A-B8D1-47440B80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A5C-8731-4E8C-A4D7-B7D3C27B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1ED7-6A01-4184-9EC0-37F0C34A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6E5-82DB-42AC-A34B-55D59EB6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FFFD-8B39-4449-AE3B-B2AB1FFB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34F6-33D5-4DFA-9630-BE1BF788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5EC2-AC7E-4C76-8597-5970F59C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6DA5-9DCF-4E95-B9F2-8C55207C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C8B0-1B9B-46E4-807F-D9E51713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1B47-A22E-4CC5-9287-BEB435A3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08AD-61F6-4A7F-9D31-DA2183BD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A24-1831-4915-BA2F-DABEDC3D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CB88-E88A-437C-A9E9-7C6FC830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3406-E777-43DF-92D6-48B9C672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BC8D-3E98-48D0-8B07-F61B1618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35D6-9573-49A7-886B-5CBC8DAE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8506-25FE-4C6F-8DEF-C3FC24A1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619-7210-4C4B-8083-A421374E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A659-48D8-459D-A58C-B904561D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07C-55D3-4BA6-956E-E9BAF8B5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BD57-301A-4B8E-9D28-792ACAD3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623-26AD-4819-B3FF-8A3F8FB3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FF0-E962-4A47-BB36-D02F5A67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B2A-79FA-40E6-936B-F23443F7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321D-94BA-4015-9AF3-C6F197E05F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8E6B-CEE2-465A-96C6-7E7F9E21B8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b0f0"/>
                </a:solidFill>
                <a:latin typeface="Comic Sans MS"/>
              </a:rPr>
              <a:t>Африка</a:t>
            </a:r>
            <a:r>
              <a:rPr b="0" lang="ru-RU" sz="9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1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1397642341_7850711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Africa_0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africa-s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afrika1"/>
          <p:cNvPicPr/>
          <p:nvPr/>
        </p:nvPicPr>
        <p:blipFill>
          <a:blip r:embed="rId1"/>
          <a:srcRect l="0" t="23754" r="0" b="74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afrika-peo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bbc-afrika-scene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30:53Z</dcterms:created>
  <dc:creator>User</dc:creator>
  <dc:description/>
  <dc:language>en-US</dc:language>
  <cp:lastModifiedBy>Legion</cp:lastModifiedBy>
  <dcterms:modified xsi:type="dcterms:W3CDTF">2017-09-22T10:27:23Z</dcterms:modified>
  <cp:revision>6</cp:revision>
  <dc:subject/>
  <dc:title>Слайд 1</dc:title>
</cp:coreProperties>
</file>