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7C6-3FCB-4EA6-801D-A0B2B9A65E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цте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D8AC-6598-4D2D-AB2A-C824DB97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F40-1FB9-4730-BB64-9E95DE5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28C9-066A-44A7-B2DA-6C852B86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665-8543-439F-9B8E-C75A5D5B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22D4-C9A5-4906-BDE0-2064DF7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FCDA-CE4D-4A4A-B15F-20C93F76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910E-AABC-473A-A755-F60B1AF8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5706-5C18-4055-A661-598143D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C187-544A-4611-A784-9ED10ED2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0E66-4D8A-4B06-919A-58AF4EF4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78CB-F54A-4FE3-BAF3-7456194D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87FE-25F6-40D6-9BB0-411DC76A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716C-9DF6-496E-9F3B-E44AEA6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322-2781-4492-BFB0-C80C74E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3368-4A0D-4B5C-96FD-F6AF51C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017-E29A-4D4D-8D6A-2D332D17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BEDA-2772-43D7-946F-98E5F26D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453-EA25-4455-AC07-340A1B7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A62-7E10-42A2-BDDD-A5631C9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F8F1-C6B2-4CB8-A3D7-F2AF1983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6D3-B6FC-4605-AA23-9DB77B4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0758-50F0-4BF3-B676-2D97AAD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F35-FE1F-4F9E-AEE5-8764FF8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DDD-FE3F-4F8E-A7D3-E0C55E8C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D73-FC09-47A5-A1F4-379BD827AD1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278A-2246-4F71-8FD5-BC52AEAD1E6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Ацтеки</a:t>
            </a: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411280" y="4254480"/>
            <a:ext cx="6400800" cy="2021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38160" rIns="38160" tIns="38160" bIns="3816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b0f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782a87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07097gDBYCV000nbZYD15pzw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1332672307_pisc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01306061231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actecs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azte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Aztec-Armies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8:00:14Z</dcterms:created>
  <dc:creator>User</dc:creator>
  <dc:description/>
  <dc:language>en-US</dc:language>
  <cp:lastModifiedBy>Legion</cp:lastModifiedBy>
  <dcterms:modified xsi:type="dcterms:W3CDTF">2017-09-22T10:28:38Z</dcterms:modified>
  <cp:revision>5</cp:revision>
  <dc:subject/>
  <dc:title>Ацтеки</dc:title>
</cp:coreProperties>
</file>