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84D3-1DD7-42D3-8CDD-347F8623AB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цте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цте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DE20-B303-4ECC-9AB3-4BD0D11B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1D8-20E7-4140-B6C7-69809096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9629-7CC4-42F4-91A3-4ABD8867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E3B9-69C7-482B-BC0F-A6D298CD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A2B8-E7C9-444E-A5A3-AD2F9BC9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54DE-3B7E-4028-BC8C-975D34D1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DEED-F5CB-4F3F-89EE-7B05448C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4F0A-7192-49BF-9065-B6156957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7E6B-9B93-480A-8D0B-BDF90D43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FB47-1F67-44D5-858B-DA050174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AFEF-9059-4F46-AD84-E25A53A2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F25F-C902-4AA2-B053-2B4B9D74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F7C4-8912-4426-9A45-06CA9E14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541F-2801-44B2-9B24-A6B47A42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14A5-998F-41DD-9BDD-2E30B0E9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3A9E-E4F0-480A-93EA-68E5A9F4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9952-DC74-4220-9761-F65ECECD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E47-26A9-47BF-A7F8-99F76DB7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B0F3-25EC-4CBA-9526-861A26D4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2656-CE10-4D92-A3F5-2E2E035B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B7EF-6C77-4853-9892-9F098718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C69-162F-4B91-908A-C5378A85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CAB-D63D-4924-B257-69C3F43E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C59-18E9-4980-8084-FB5C8890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6CFD-5311-4B53-A3E2-D0CAE20FF0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DD48-5301-4F24-8128-973550AFC7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Ацтеки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411280" y="4254480"/>
            <a:ext cx="6400800" cy="20210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782a87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007097gDBYCV000nbZYD15pzw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332672307_pisc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20130606123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actecs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azte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ztec-Armies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8:00:14Z</dcterms:created>
  <dc:creator>User</dc:creator>
  <dc:description/>
  <dc:language>en-US</dc:language>
  <cp:lastModifiedBy>Legion</cp:lastModifiedBy>
  <dcterms:modified xsi:type="dcterms:W3CDTF">2017-09-22T10:28:38Z</dcterms:modified>
  <cp:revision>5</cp:revision>
  <dc:subject/>
  <dc:title>Ацтеки</dc:title>
</cp:coreProperties>
</file>