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  <p:custShowLst>
    <p:custShow name="Произвольный показ 1" id="0">
      <p:sldLst>
        <p:sld r:id="rId10"/>
        <p:sld r:id="rId11"/>
        <p:sld r:id="rId12"/>
        <p:sld r:id="rId13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AF6E4-9A68-4890-A63E-CBFD3FEF483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эропорт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эропорт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Верхний колонтитул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5330-E51E-47EB-A263-B3F8F41AC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2551-AFA4-4898-837F-F021AAF3A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9945-A3F2-4335-BCEA-8019BC2C6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EE17-4294-4E2C-BC4D-D811FAE3E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95ACE-4245-4AC3-8CC4-377DD207A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23D10-6F26-4CC9-B278-D09E61785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FF68B-0F04-431E-8C23-A08B06B2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30D52-D69E-4366-9BBE-96E9FC7A9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18927-3752-4E17-945F-3743BE3AE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D50D6-4367-441F-86E7-84CF13BEA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1A518-CB3A-472E-8B4C-5B4A9086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903B-1B19-49C7-8918-2F583734C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3D90B-A5A4-4A4B-A182-6FA881AA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1DF3E-C1E0-4940-B2C1-32715413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63E10-D9B2-4DA0-A876-D719A2374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9E25E-5428-415D-9540-7AF4496BD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B158E-5CC0-4329-AA40-25E60CF8D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4353D-C6A5-43A4-AD59-AB9E6C139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78916-AAD9-4CE8-A424-C5781928C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80433-5ADC-4918-A2ED-9A7E1C875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4AD82-6C35-4B75-9751-642A15D9E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E9534-2C7D-4D6B-89E2-CC13C9D32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212A-BD20-4BDB-B04B-E16932769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7A553-9B43-4E68-90B8-C1A49E36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8C672-85B7-41FF-8B7E-AA91FEFFC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D0751-6F64-4979-9718-53ED9EF2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F0CBF-B3D5-4723-AD3A-9129E1E0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57E5B-AF7A-417D-9235-47F31C3B4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D3910-3C72-4687-BCBE-544ADBD1C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313F8-41EC-4728-8B8C-834E8C444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9D3DB-E07B-4751-B263-60BA933F0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CAA5E-EA4E-4F42-B444-16F74D182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808DD-8A91-49EA-ACB5-BD4B771B2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DEB9-5A0E-471D-9140-BE3F022D8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3E6D0-2581-44F4-927E-F3696216E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2EC79-D666-4761-B3C6-57965E75D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C9FF3-52CF-4420-BBBF-BA6E28F22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E97DD-6BBB-403C-AF25-54065516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A4E03-6D62-41F3-A264-DFF5D672B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F9C10-2D53-42EB-A456-95A1EC4A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A48DB-FE02-4C96-A6F3-CCF9BC4C0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FB4E9-1DAF-4CC8-95F5-92B138752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25249-5ADB-447B-9F2E-E262F6B0A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0BF4D-C768-4A40-9E7A-DD3C2D406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BDEC-5BDC-43CB-96CD-004665DA2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E8165-7551-4765-8AEE-5DB4419A8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C06D2-E058-4DA1-8582-537531451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DF4EA-423A-4ED8-8297-868226FB9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4FF87-7DAA-473E-9095-74303F8D8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744AD-E796-4DF4-8A81-1A664EC20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DEEF3-0531-4D88-BFB7-DC64C762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F78CD-C00D-4659-B11C-D6613B66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986F1-1261-44E5-8E4B-E6901D57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05BE6-D5A6-4180-9C6B-6CD46D8B4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051AD-36C8-4EE1-87E0-E61D9E3D0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80E7-B3E1-4F5C-95A1-546B224DD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45B94-90DB-48EF-A8C8-E2A26D69A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B4DE4-52DA-4BEC-AC49-6293727E9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7E210-BB3A-4B27-83E7-D704F5F43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412E6-7E72-41BA-B8FE-4CC1C0BE5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EAFF8-079C-495A-A021-1C17A391C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920B6-4340-4DA8-B4F8-030821EAE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70DF2-9540-4F31-97AC-171271F98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1FD6F-8D0E-40DA-8917-728700C1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52983-78A0-4CD4-988D-412889F7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2C149-ADB1-4F44-9964-E339EFFB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E72D-D3F7-492C-BD75-DCA3956F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D920AB-54D2-4E0B-827D-DFDA9291D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AE7A9-D466-4A2E-9D41-43123DEC9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40DB0-E677-4962-BD84-B09830D67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9A74-A8E7-446A-B180-6C3EE46D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6E2A-BEBA-4F4A-AB00-6474A1AE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ecd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3E846-9CD4-4583-BC7C-F089C94166E5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4FC22-3065-49BF-89DF-BB32AACB8F0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ecd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4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57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60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0DBF4-E958-473B-B7CF-4E2B9DB810AF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BF5EA-5F18-4AD2-BABC-014701C4028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ecd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7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10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E4029-1E40-4510-A047-BD02A022C519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35AC0-35C9-4C2A-9212-C4480DAFDFA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ecd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54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57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60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63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918B7-E8AA-43ED-B5F8-C837AAFEBBB6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8CC29-1896-42B0-90B2-ECBF73060A6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ecd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07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10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13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216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73D85-765B-4653-805A-6EFFE43881B1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5F5D-3EC1-4353-B7CA-8D12A9A95FF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ecd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60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63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66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69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18BA5-4351-40A4-BF0D-E13BE5684832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F9C44-0A59-4110-8A26-27A3EF89840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23640" y="1341360"/>
            <a:ext cx="8458200" cy="12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4e3b30"/>
                </a:solidFill>
                <a:latin typeface="Arial"/>
              </a:rPr>
              <a:t>Аэропорты</a:t>
            </a:r>
            <a:r>
              <a:rPr b="0" lang="ru-RU" sz="8600" spc="-1" strike="noStrike">
                <a:solidFill>
                  <a:srgbClr val="4e3b30"/>
                </a:solidFill>
                <a:latin typeface="Arial"/>
              </a:rPr>
              <a:t> </a:t>
            </a:r>
            <a:endParaRPr b="0" lang="en-US" sz="8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68000" y="4941720"/>
            <a:ext cx="8458200" cy="17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43329"/>
              </a:solidFill>
              <a:latin typeface="Arial"/>
            </a:endParaRPr>
          </a:p>
        </p:txBody>
      </p:sp>
      <p:sp>
        <p:nvSpPr>
          <p:cNvPr id="321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55" name="Рисунок 4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6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5"/>
          <p:cNvSpPr/>
          <p:nvPr/>
        </p:nvSpPr>
        <p:spPr>
          <a:xfrm>
            <a:off x="1000080" y="142920"/>
            <a:ext cx="5643720" cy="85716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ffecd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5" descr="7-charles-de-gaulle-airpor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4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3"/>
          <p:cNvSpPr/>
          <p:nvPr/>
        </p:nvSpPr>
        <p:spPr>
          <a:xfrm>
            <a:off x="357120" y="1143000"/>
            <a:ext cx="835812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1000080" y="142920"/>
            <a:ext cx="5643720" cy="85716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ffecd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5" descr="6785178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8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304920" y="1142640"/>
            <a:ext cx="86868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1000080" y="214200"/>
            <a:ext cx="5643720" cy="78588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ffecd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5" descr="1306389412_munich-airport-german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2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Заголовок 1"/>
          <p:cNvSpPr/>
          <p:nvPr/>
        </p:nvSpPr>
        <p:spPr>
          <a:xfrm>
            <a:off x="3714840" y="1714680"/>
            <a:ext cx="5000400" cy="37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1071720" y="285840"/>
            <a:ext cx="5357520" cy="78732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ffecd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5" descr="1386763597_369737_9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6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39" name="Picture 4" descr="aeropor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0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43" name="Picture 4" descr="ajeroporty-mira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4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47" name="Picture 4" descr="cXHuZdOx_6LVTNWDH08pv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8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51" name="Picture 4" descr="frankfurt-airpor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2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17:23:38Z</dcterms:created>
  <dc:creator>Your User Name</dc:creator>
  <dc:description/>
  <dc:language>en-US</dc:language>
  <cp:lastModifiedBy>Legion</cp:lastModifiedBy>
  <dcterms:modified xsi:type="dcterms:W3CDTF">2017-09-22T10:29:59Z</dcterms:modified>
  <cp:revision>180</cp:revision>
  <dc:subject/>
  <dc:title>Слайд 1</dc:title>
</cp:coreProperties>
</file>