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  <p:custShowLst>
    <p:custShow name="Произвольный показ 1" id="0">
      <p:sldLst>
        <p:sld r:id="rId10"/>
        <p:sld r:id="rId11"/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0431-5987-4EAD-A459-D21B9B541F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эропор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по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0B8-F09F-4037-A36C-47610144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A00-CFCF-449C-BE6F-24080F07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A74-AEE1-435A-80C3-71E2A3D7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830-B9AC-4DAE-B00B-610519E3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5916-6202-4998-991D-09DBBC8B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C133-DCD3-4D0B-8D55-EC9804BA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7083-0298-404C-99F8-D2D9DA77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6E1A-E0C0-4AC2-8BCF-BA822096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63A3-CC99-4162-A5CC-07DF46F4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EBDF-4CD1-4649-BEB4-E05FFB49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F785-0C9E-4AA1-91C6-32DC1F6A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64C-6C20-47D5-A12A-33E62D2F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5EF6-B413-448F-86F7-CB106434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9FBC-1C70-4C14-89A0-298375F0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D26D-D801-42A5-A1BF-27B33248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0057-4F0C-4301-8DA0-85E6AED3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01CD-67BC-4CF0-903C-DB86FCBF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FABCD-35A5-4B18-8388-7C72335E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A9144-E07D-491A-98B3-71284F50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96F7D-662E-447D-8427-064128CE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1589-B182-4092-9BB2-5B03C965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10D20-D2E8-4C09-8C3A-5E13276E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C87-76CD-4FE4-AC03-3F8EDBF5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FA66F-AB4A-483C-9AD7-2F38AFAB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50FCE-227E-4737-BFD8-2D8F5499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F86BE-DF27-4D90-B4CA-E9DA22CC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EFE90-22A3-4C7D-8988-B5FFF09C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A8615-B8A5-40BB-88CD-CFC693FA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3BB87-4E6D-4ED8-B323-E82AA4A0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2B9CC-FF7C-4FE4-9D00-E1FAFE18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4BBD7-D448-4C10-B87B-0F4A81D8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5EA50-3A80-49E6-B740-28D24594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62B97-C014-4D61-8C01-A62D7265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6F6-DEC3-4C07-A64B-8D972AE7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2CEAB-56D9-44D5-BE5B-A68A77CA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CC999-A0E5-4B3C-BD0E-295D1608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B5E98-E01C-4A73-A29E-D5CCBBAC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4D7A2-D1BD-48D3-BFE2-F462A4B4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914D2-F135-4C98-9EEB-D7537DCA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03CFE-E550-4FE3-ADD1-F8D0A8ED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67DD3-EE12-4E7D-8634-B19DD6FC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2A183-ABC0-4129-8F8B-52513600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E40EF-DC83-4C11-B20F-940C2812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58BDC-EBF3-44B8-8EC9-C216E7CB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ED0-7B37-4EAB-A6A5-71236B0C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C5EC0-278A-4104-8F69-4296372E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31CF2-970B-4ABA-8287-DB9E97DC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CBE8E-1140-4DBA-9033-D29BD42A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F71B5-B559-4EDB-8808-EFB36BB4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218F2-9626-40EB-B4F5-66C8230E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B2B61-577C-41A7-A0FC-32BAA7CA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93F30-F9CD-4343-BB37-3E70559D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83B52-FC31-40F4-AB3C-FED69E64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84066-3262-4E1F-902B-1A59C62C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384F3-FDA6-451B-BEA8-E9872A56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E776-B14C-4BFC-A63D-55A85F23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66464-742A-4D27-8A3F-705AF77B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37503-62B8-48E9-A821-73F25B54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EAA39-7A2D-49B4-BDE9-0CAA352E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C7689-1B14-4912-B54D-B6A8C328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B5F93-F90A-4B85-B44A-21538DEB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43454-3C7D-4029-AF4E-D0A5FA3D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347C8-DAFB-4727-9B13-53E2C7AD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E9884-3452-4F57-AD7D-481991E9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5151E-2841-4B4B-8EF4-BFB7A6D0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07794-A541-4D9D-B376-1FEA94CC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FF6-0BC0-48AF-AD93-2FF6C49C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9BC18-720B-4E38-B2D3-31DE941A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448A7-C33A-43F8-9504-12191CCF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2DD77-E9A5-4207-8C68-253EAC2C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04E-AC58-4322-9185-2EC2E5AD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C0CA-516D-4677-B91F-8AE6CAFE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6816-DE51-4B33-82E9-6620A17F5D1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B4F8-C0A7-4579-BDCB-568FC0343FC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7FC8-5AA1-489E-8399-50D4D9DEB262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C030-3BF6-4B22-9193-17AFCD12885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2A1D-4538-4CE6-92AE-B09D09B44A2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1F94-E533-4A9F-85E2-8ED1745E06E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EA10-452D-4AD3-A71E-B701BD488C63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979B-ED0E-4027-8F16-6941630B704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21DA-CF7F-4ADB-ADC4-D5C5FEF325A2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344A-22A9-4C04-8DF7-5F9CC04C341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759D-AC69-4B13-8EBD-9C6F815D0BF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6010-0320-46E4-BFD2-8E521355748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3640" y="134136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4e3b30"/>
                </a:solidFill>
                <a:latin typeface="Arial"/>
              </a:rPr>
              <a:t>Аэропорты</a:t>
            </a:r>
            <a:r>
              <a:rPr b="0" lang="ru-RU" sz="86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8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68000" y="4941720"/>
            <a:ext cx="845820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43329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5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5"/>
          <p:cNvSpPr/>
          <p:nvPr/>
        </p:nvSpPr>
        <p:spPr>
          <a:xfrm>
            <a:off x="1000080" y="142920"/>
            <a:ext cx="5643720" cy="85716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7-charles-de-gaulle-air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357120" y="1143000"/>
            <a:ext cx="83581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1000080" y="142920"/>
            <a:ext cx="5643720" cy="85716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67851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04920" y="11426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000080" y="214200"/>
            <a:ext cx="5643720" cy="78588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1306389412_munich-airport-german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Заголовок 1"/>
          <p:cNvSpPr/>
          <p:nvPr/>
        </p:nvSpPr>
        <p:spPr>
          <a:xfrm>
            <a:off x="3714840" y="1714680"/>
            <a:ext cx="500040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071720" y="285840"/>
            <a:ext cx="5357520" cy="78732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1386763597_369737_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9" name="Picture 4" descr="aero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3" name="Picture 4" descr="ajeroporty-mir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7" name="Picture 4" descr="cXHuZdOx_6LVTNWDH08pv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1" name="Picture 4" descr="frankfurt-air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7:23:38Z</dcterms:created>
  <dc:creator>Your User Name</dc:creator>
  <dc:description/>
  <dc:language>en-US</dc:language>
  <cp:lastModifiedBy>Legion</cp:lastModifiedBy>
  <dcterms:modified xsi:type="dcterms:W3CDTF">2017-09-22T10:29:59Z</dcterms:modified>
  <cp:revision>180</cp:revision>
  <dc:subject/>
  <dc:title>Слайд 1</dc:title>
</cp:coreProperties>
</file>