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B7E1-8175-4187-8716-0CCC53A4654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учреждения и организации, в которых осуществляется научный тру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ределения 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учреждения и организации, в которых осуществляется научный труд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развития науки происходит постоянное обновление знаний, идей и концепций, более ранние представления становятся частными случаями новых теорий. Научная картина мира не догма и не абсолютная истина. Научные представления об окружающем мире основаны на всей совокупности доказанных фактов и установленных причинно-следственных связей, что позволяет с определённой степенью уверенности делать способствующие развитию человеческой цивилизации заключения и прогнозы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 реальности. В таком развитии — суть научного мет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АЯ КАРТИН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цессе развития науки происходит постоянное обновление знаний, идей и концепций, более ранние представления становятся частными случаями новых теорий. Научная картина мира не догма и не абсолютная истина. Научные представления об окружающем мире основаны на всей совокупности доказанных фактов и установленных причинно-следственных связей, что позволяет с определённой степенью уверенности делать способствующие развитию человеческой цивилизации заключения и прогнозы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 реальности. В таком развитии — суть научного мет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ый и объективный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я о науке и научном методе — методология науки, со временем меня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у современного научного метода, то есть способа построения новых знаний, входя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абстра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(синтез) и формулирование гипотез, тео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: формулирование следствий из предложенной гипотезы или принятой теории с помощью дедукции, индукции или других логических мет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ЫЙ МЕТ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метный и объективный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ставления о науке и научном методе — методология науки, со временем менялис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труктуру современного научного метода, то есть способа построения новых знаний, входя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абстрак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бщение (синтез) и формулирование гипотез, теор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: формулирование следствий из предложенной гипотезы или принятой теории с помощью дедукции, индукции или других логических метод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новных направления в научных исследов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даментальные научные исследования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фундаментальность (лат. fundare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ые научные исследования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технолог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ие и опытно-конструкторские разработки (НИОКР) — здесь соединяется наука с производством, тем самым обеспечивая как научные, так и технические и инженерные проработки данного проекта. Иногда полученные результаты могут привести к научно-технической револю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основных направления в научных исследования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даментальные научные исследования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фундаментальность (лат. fundare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ладные научные исследования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технолог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о-исследовательские и опытно-конструкторские разработки (НИОКР) — здесь соединяется наука с производством, тем самым обеспечивая как научные, так и технические и инженерные проработки данного проекта. Иногда полученные результаты могут привести к научно-технической револю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́чно-техни́ческая революция (НТР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техническая революция в узком смысле — коренная перестройка технических основ материального производства, начавшееся в середине XX в., на основе превращения науки в ведущий фактор производства, в результате которого происходит трансформация индустриального общества в постиндустриаль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Т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́чно-техни́ческая революция (НТР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о-техническая революция в узком смысле — коренная перестройка технических основ материального производства, начавшееся в середине XX в., на основе превращения науки в ведущий фактор производства, в результате которого происходит трансформация индустриального общества в постиндустриально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иен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иенти́зм (фр. scientisme, от лат. scientia — наука, знание) — общее название идейной позиции, представляющей научное знание наивысшей культурной ценностью и основополагающим фактором взаимодействия человека с миром. Нередко сциентисты считают «образцовыми науками» физику или математику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циент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циенти́зм (фр. scientisme, от лат. scientia — наука, знание) — общее название идейной позиции, представляющей научное знание наивысшей культурной ценностью и основополагающим фактором взаимодействия человека с миром. Нередко сциентисты считают «образцовыми науками» физику или математику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циен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циент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сциенти́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сциенти́зм (от греч. anti- — против и лат. scientia — знания) — философско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ие виды антисциентизма базировались на отличных от науки формах сознания, таких как религия, искусство, нрав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сциенти́зм (от греч. anti- — против и лат. scientia — знания) — философско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нние виды антисциентизма базировались на отличных от науки формах сознания, таких как религия, искусство, нравственност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469E-0DAC-487A-98C5-9CC7E175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C6CD-0A1C-474F-9377-FE559B0A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28C-C803-4E75-968A-AD380B30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5B83-E0AB-4C90-9E94-694B75A6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0143-A593-4589-B838-8321C8BE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798B-A8C4-4CF5-B0D3-9AC80085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2D50-D09B-4528-A0AC-7596488A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7DF0-580C-444F-A4C2-355E9E03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37C9-1723-4E07-929F-69A8CDF2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0BD5-BEBD-422F-B523-DA3D5FC6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BEF2-2BC6-436A-A30F-AE97123E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53A-EC21-485D-8D21-595F67A3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557C-BDBD-4584-B5FA-421C7A4E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D60F-64B2-440C-B7DE-FCDAD695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C19C-70A7-4A79-B07A-6510C4A1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9517-F8E4-4123-B23A-56F25FAE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9FCB-CDED-437B-B540-5E41326F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6BC3E-6D17-49BB-B7AC-837095E7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8F8FD-B6B1-4B0C-99B9-8A563DDA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0F7F0-BAA0-4C0D-9524-5681D7BC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C9838-4AED-491C-A261-F96E6DF6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BF634-9A6E-4E2D-B6FA-EB27ED02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507-E4B2-46C1-98B8-5F7899D6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57DF6-A127-476E-A134-6957AB17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64BEA-8002-48B1-A146-FA3554A3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79BE3-7BAE-4738-AE4E-3BB9FB4D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CEF26-869A-42BF-B8AE-84547367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56738-A15B-4DD2-8F21-8F82C097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506C2-D81C-4D94-B2DA-05935702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5B997-2A3B-4DBD-8301-FC3268DA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0DC02D-FFAA-4E91-AEC4-054FE587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236809-F3FF-4A56-A01C-0F7AA6E6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D34620-6DCE-427E-A0EC-3B344E1D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62FE-3637-46EF-822B-1E6823A3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17DE41-1207-4DE1-8947-ABECD06F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EC86AD-3E47-4A36-83F8-568E3BAC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EC9D2A-8364-4730-A347-5F492484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EA7987-4EDA-44BA-B505-01EC368E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8E2B9A-B09F-4508-B2CE-339B75DB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E41DAB-8642-4078-B379-F3226460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220347-99DF-4756-8020-0D24176F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C6AB88-35C4-48E6-99EC-76E48E57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DE43D3-559F-4E5B-A973-2CF9FA84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1E08F-8B5E-4B57-9E92-40417250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07F-41F2-4F91-8AA5-B3DAD43B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BB0A9-EF03-462C-BAB7-C36D8C22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26020-FF20-425B-8511-F321ED9D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0BE09-03E2-45AF-9F9B-A6185541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57320-708E-4CC2-B745-D035806F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FFDE4-08E5-4D15-ABC6-502076AE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03A23-0A6E-468B-9FAA-C05B7D9E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1992B-F599-49E6-BD00-97343FB0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1D2EF-6D7E-416C-AE81-1E2156EC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64084-7577-4D9F-9688-35A331B7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62B00-6B26-4E7C-9515-7E22FC6D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B3CE-5D86-4420-8885-BF9BDDF3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2D964-7F15-4D5B-9E07-CABE2556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6F557-C678-438F-B79B-416527F7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9241C-12BF-4A53-AD24-54C572F8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D6027-2159-4F12-9E7E-4F3B9F76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71695-59E3-480A-9DCD-96920D12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32524-3F0C-486A-8984-80C96B08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90B50-4C18-40AD-BC91-94AECDB9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25060-1917-4586-9E46-CF3D5A13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FB108-DB60-4732-891F-1FDD6114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CD584-3A64-4CCA-BBDD-A9AE114E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5051-5E65-492E-BBA6-FCBD2B2D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02D5A-8743-46D6-AF7D-5A56874F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CA02D-C4B6-4501-ABF7-F75F5288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A8338-7B7F-49C1-B492-546FF80F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8D336-CF76-4A0C-80E8-B772DF74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516A1-ADCB-4106-98C8-D6050041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A63CC-55C0-4FDE-A243-10053EB8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78950-AF78-4DD5-8B58-8EF6B105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3DAAA-AB56-4855-B8AC-330E7B67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D3275-66E2-4B07-BEF0-B151D8C7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B3E75-DA5F-48B6-9AEA-1AF08D41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9082-FCDC-485B-A37C-43B14B89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A2F1D-63B1-4BCC-B934-4DF3BD1C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3BF46-AD9B-4169-A193-10DA12D1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F73A3-1E56-4C1A-A3F9-43F8F986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A6249-C7DD-40FE-8B65-EA98423B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12ACF-052E-4700-BD20-55FF1F28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61AC-9A82-41F5-848F-31430CBE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83A3-987C-4CFA-97E5-2ACE77A69DD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76EA-906B-4A5B-B45D-188D0AEBD6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7B5B-7D63-428C-8AC6-EAA00E62620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45A4-F991-4592-B14E-0338E59F93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F498-93CB-4017-9B72-8B88C4533E0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2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2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5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BD1F-1251-457C-9C71-3E05B91C6C2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D913-C2D7-4410-9AF8-2B636E070DC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85;&#1072;&#1085;&#1080;&#1077;" TargetMode="External"/><Relationship Id="rId2" Type="http://schemas.openxmlformats.org/officeDocument/2006/relationships/hyperlink" Target="http://ru.wikipedia.org/wiki/&#1048;&#1076;&#1077;&#1103;" TargetMode="External"/><Relationship Id="rId3" Type="http://schemas.openxmlformats.org/officeDocument/2006/relationships/hyperlink" Target="http://ru.wikipedia.org/wiki/&#1050;&#1086;&#1085;&#1094;&#1077;&#1087;&#1094;&#1080;&#1103;" TargetMode="External"/><Relationship Id="rId4" Type="http://schemas.openxmlformats.org/officeDocument/2006/relationships/hyperlink" Target="http://ru.wikipedia.org/w/index.php?title=&#1063;&#1072;&#1089;&#1090;&#1085;&#1099;&#1081;_&#1089;&#1083;&#1091;&#1095;&#1072;&#1081;&amp;action=edit&amp;redlink=1" TargetMode="External"/><Relationship Id="rId5" Type="http://schemas.openxmlformats.org/officeDocument/2006/relationships/hyperlink" Target="http://ru.wikipedia.org/wiki/&#1058;&#1077;&#1086;&#1088;&#1080;&#1103;" TargetMode="External"/><Relationship Id="rId6" Type="http://schemas.openxmlformats.org/officeDocument/2006/relationships/hyperlink" Target="http://ru.wikipedia.org/wiki/&#1044;&#1086;&#1075;&#1084;&#1072;&#1090;" TargetMode="External"/><Relationship Id="rId7" Type="http://schemas.openxmlformats.org/officeDocument/2006/relationships/hyperlink" Target="http://ru.wikipedia.org/wiki/&#1040;&#1073;&#1089;&#1086;&#1083;&#1102;&#1090;&#1085;&#1072;&#1103;_&#1080;&#1089;&#1090;&#1080;&#1085;&#1072;" TargetMode="External"/><Relationship Id="rId8" Type="http://schemas.openxmlformats.org/officeDocument/2006/relationships/hyperlink" Target="http://ru.wikipedia.org/wiki/&#1044;&#1086;&#1082;&#1072;&#1079;&#1072;&#1085;&#1085;&#1099;&#1081;_&#1092;&#1072;&#1082;&#1090;" TargetMode="External"/><Relationship Id="rId9" Type="http://schemas.openxmlformats.org/officeDocument/2006/relationships/hyperlink" Target="http://ru.wikipedia.org/wiki/&#1055;&#1088;&#1080;&#1095;&#1080;&#1085;&#1085;&#1086;-&#1089;&#1083;&#1077;&#1076;&#1089;&#1090;&#1074;&#1077;&#1085;&#1085;&#1072;&#1103;_&#1089;&#1074;&#1103;&#1079;&#1100;" TargetMode="External"/><Relationship Id="rId10" Type="http://schemas.openxmlformats.org/officeDocument/2006/relationships/hyperlink" Target="http://ru.wikipedia.org/wiki/&#1062;&#1080;&#1074;&#1080;&#1083;&#1080;&#1079;&#1072;&#1094;&#1080;&#1103;" TargetMode="External"/><Relationship Id="rId11" Type="http://schemas.openxmlformats.org/officeDocument/2006/relationships/hyperlink" Target="http://ru.wikipedia.org/wiki/&#1055;&#1088;&#1086;&#1075;&#1085;&#1086;&#1079;" TargetMode="External"/><Relationship Id="rId12" Type="http://schemas.openxmlformats.org/officeDocument/2006/relationships/hyperlink" Target="http://ru.wikipedia.org/wiki/&#1053;&#1072;&#1091;&#1095;&#1085;&#1099;&#1081;_&#1084;&#1077;&#1090;&#1086;&#1076;" TargetMode="External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8;&#1077;&#1082;&#1090;&#1080;&#1074;&#1085;&#1072;&#1103;_&#1088;&#1077;&#1072;&#1083;&#1100;&#1085;&#1086;&#1089;&#1090;&#1100;" TargetMode="External"/><Relationship Id="rId2" Type="http://schemas.openxmlformats.org/officeDocument/2006/relationships/hyperlink" Target="http://ru.wikipedia.org/wiki/&#1052;&#1077;&#1090;&#1086;&#1076;&#1086;&#1083;&#1086;&#1075;&#1080;&#1103;_&#1085;&#1072;&#1091;&#1082;&#1080;" TargetMode="External"/><Relationship Id="rId3" Type="http://schemas.openxmlformats.org/officeDocument/2006/relationships/hyperlink" Target="http://ru.wikipedia.org/wiki/&#1053;&#1072;&#1091;&#1095;&#1085;&#1099;&#1081;_&#1084;&#1077;&#1090;&#1086;&#1076;" TargetMode="External"/><Relationship Id="rId4" Type="http://schemas.openxmlformats.org/officeDocument/2006/relationships/hyperlink" Target="http://ru.wikipedia.org/wiki/&#1040;&#1073;&#1089;&#1090;&#1088;&#1072;&#1082;&#1094;&#1080;&#1103;" TargetMode="External"/><Relationship Id="rId5" Type="http://schemas.openxmlformats.org/officeDocument/2006/relationships/hyperlink" Target="http://ru.wikipedia.org/wiki/&#1043;&#1080;&#1087;&#1086;&#1090;&#1077;&#1079;&#1072;" TargetMode="External"/><Relationship Id="rId6" Type="http://schemas.openxmlformats.org/officeDocument/2006/relationships/hyperlink" Target="http://ru.wikipedia.org/wiki/&#1058;&#1077;&#1086;&#1088;&#1080;&#1103;" TargetMode="External"/><Relationship Id="rId7" Type="http://schemas.openxmlformats.org/officeDocument/2006/relationships/hyperlink" Target="http://ru.wikipedia.org/wiki/&#1044;&#1077;&#1076;&#1091;&#1082;&#1094;&#1080;&#1103;" TargetMode="External"/><Relationship Id="rId8" Type="http://schemas.openxmlformats.org/officeDocument/2006/relationships/hyperlink" Target="http://ru.wikipedia.org/wiki/&#1048;&#1085;&#1076;&#1091;&#1082;&#1090;&#1080;&#1074;&#1085;&#1086;&#1077;_&#1091;&#1084;&#1086;&#1079;&#1072;&#1082;&#1083;&#1102;&#1095;&#1077;&#1085;&#1080;&#1077;" TargetMode="External"/><Relationship Id="rId9" Type="http://schemas.openxmlformats.org/officeDocument/2006/relationships/hyperlink" Target="http://ru.wikipedia.org/wiki/&#1051;&#1086;&#1075;&#1080;&#1082;&#1072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0;&#1091;&#1085;&#1076;&#1072;&#1084;&#1077;&#1085;&#1090;&#1072;&#1083;&#1100;&#1085;&#1086;&#1089;&#1090;&#1100;&amp;action=edit&amp;redlink=1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58;&#1077;&#1093;&#1085;&#1086;&#1083;&#1086;&#1075;&#1080;&#1103;" TargetMode="External"/><Relationship Id="rId4" Type="http://schemas.openxmlformats.org/officeDocument/2006/relationships/hyperlink" Target="http://ru.wikipedia.org/wiki/&#1053;&#1048;&#1054;&#1050;&#1056;" TargetMode="External"/><Relationship Id="rId5" Type="http://schemas.openxmlformats.org/officeDocument/2006/relationships/hyperlink" Target="http://ru.wikipedia.org/wiki/&#1055;&#1088;&#1086;&#1080;&#1079;&#1074;&#1086;&#1076;&#1089;&#1090;&#1074;&#1086;" TargetMode="External"/><Relationship Id="rId6" Type="http://schemas.openxmlformats.org/officeDocument/2006/relationships/hyperlink" Target="http://ru.wikipedia.org/wiki/&#1053;&#1072;&#1091;&#1095;&#1085;&#1086;-&#1090;&#1077;&#1093;&#1085;&#1080;&#1095;&#1077;&#1089;&#1082;&#1072;&#1103;_&#1088;&#1077;&#1074;&#1086;&#1083;&#1102;&#1094;&#1080;&#1103;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X_&#1074;&#1077;&#1082;" TargetMode="External"/><Relationship Id="rId2" Type="http://schemas.openxmlformats.org/officeDocument/2006/relationships/hyperlink" Target="http://ru.wikipedia.org/wiki/&#1053;&#1072;&#1091;&#1082;&#1072;" TargetMode="External"/><Relationship Id="rId3" Type="http://schemas.openxmlformats.org/officeDocument/2006/relationships/hyperlink" Target="http://ru.wikipedia.org/wiki/&#1048;&#1085;&#1076;&#1091;&#1089;&#1090;&#1088;&#1080;&#1072;&#1083;&#1100;&#1085;&#1086;&#1077;_&#1086;&#1073;&#1097;&#1077;&#1089;&#1090;&#1074;&#1086;" TargetMode="External"/><Relationship Id="rId4" Type="http://schemas.openxmlformats.org/officeDocument/2006/relationships/hyperlink" Target="http://ru.wikipedia.org/wiki/&#1055;&#1086;&#1089;&#1090;&#1080;&#1085;&#1076;&#1091;&#1089;&#1090;&#1088;&#1080;&#1072;&#1083;&#1100;&#1085;&#1086;&#1077;_&#1086;&#1073;&#1097;&#1077;&#1089;&#1090;&#1074;&#1086;" TargetMode="External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53;&#1072;&#1091;&#1082;&#1072;" TargetMode="External"/><Relationship Id="rId4" Type="http://schemas.openxmlformats.org/officeDocument/2006/relationships/hyperlink" Target="http://ru.wikipedia.org/wiki/&#1050;&#1091;&#1083;&#1100;&#1090;&#1091;&#1088;&#1085;&#1099;&#1077;_&#1094;&#1077;&#1085;&#1085;&#1086;&#1089;&#1090;&#1080;" TargetMode="External"/><Relationship Id="rId5" Type="http://schemas.openxmlformats.org/officeDocument/2006/relationships/hyperlink" Target="http://ru.wikipedia.org/wiki/&#1060;&#1080;&#1079;&#1080;&#1082;&#1072;" TargetMode="External"/><Relationship Id="rId6" Type="http://schemas.openxmlformats.org/officeDocument/2006/relationships/hyperlink" Target="http://ru.wikipedia.org/wiki/&#1052;&#1072;&#1090;&#1077;&#1084;&#1072;&#1090;&#1080;&#1082;&#1072;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7;&#1095;&#1077;&#1089;&#1082;&#1080;&#1081;_&#1103;&#1079;&#1099;&#1082;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60;&#1080;&#1083;&#1086;&#1089;&#1086;&#1092;&#1080;&#1103;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AutoShape 9"/>
          <p:cNvSpPr/>
          <p:nvPr/>
        </p:nvSpPr>
        <p:spPr>
          <a:xfrm>
            <a:off x="0" y="-2052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4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16" descr="%D0%BD%D0%B0%D1%83%D0%BA%D0%B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Arial"/>
              </a:rPr>
              <a:t>НАУ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20"/>
          <p:cNvSpPr/>
          <p:nvPr/>
        </p:nvSpPr>
        <p:spPr>
          <a:xfrm>
            <a:off x="3591000" y="2262240"/>
            <a:ext cx="196200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22"/>
          <p:cNvSpPr/>
          <p:nvPr/>
        </p:nvSpPr>
        <p:spPr>
          <a:xfrm>
            <a:off x="3591000" y="2262240"/>
            <a:ext cx="196200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1" descr="Наука"/>
          <p:cNvPicPr/>
          <p:nvPr/>
        </p:nvPicPr>
        <p:blipFill>
          <a:blip r:embed="rId1"/>
          <a:stretch/>
        </p:blipFill>
        <p:spPr>
          <a:xfrm>
            <a:off x="457200" y="1994040"/>
            <a:ext cx="4038480" cy="37368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2" descr="225px-Empedokles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5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6" descr="Две конформации одной и той же полимерной цепи - клубок и глобула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llegro BT"/>
              </a:rPr>
              <a:t>Определения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учреждения и организации, в которых осуществляется научны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6"/>
          <p:cNvSpPr/>
          <p:nvPr/>
        </p:nvSpPr>
        <p:spPr>
          <a:xfrm>
            <a:off x="0" y="-20520"/>
            <a:ext cx="2505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8" descr="Наука и образование"/>
          <p:cNvPicPr/>
          <p:nvPr/>
        </p:nvPicPr>
        <p:blipFill>
          <a:blip r:embed="rId1"/>
          <a:stretch/>
        </p:blipFill>
        <p:spPr>
          <a:xfrm>
            <a:off x="4643280" y="1557360"/>
            <a:ext cx="4392720" cy="4608360"/>
          </a:xfrm>
          <a:prstGeom prst="rect">
            <a:avLst/>
          </a:prstGeom>
          <a:ln w="0">
            <a:noFill/>
          </a:ln>
        </p:spPr>
      </p:pic>
      <p:sp>
        <p:nvSpPr>
          <p:cNvPr id="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УЧНАЯ КАРТИНА МИ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процессе развития науки происходит постоянное обновлени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знан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иде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концепц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более ранние представления становятс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частными случаям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нов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теор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Научная картина мира н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догм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н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абсолютная истин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Научные представления об окружающем мире основаны на всей совокупност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доказанных фактов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установленн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причинно-следственных связе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что позволяет с определённой степенью уверенности делать способствующие развитию человеческ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цивилизаци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заключения 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прогнозы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реальности. В таком развитии — суть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научного метод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УЧНЫЙ МЕТОД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482436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метный и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объективны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ставления о науке и научном методе —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методология наук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со временем менялис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03280" y="2060280"/>
            <a:ext cx="414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структуру современного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научного мето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то есть способа построения новых знаний, входят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абстра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бобщение (синтез) и формулирование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гипотез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теори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гноз: формулирование следствий из предложенной гипотезы или принятой теории с помощью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деду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инду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или других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логических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методов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и основных направления в научных исследования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Фундаментальные научные исследования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фундаментальность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2"/>
              </a:rPr>
              <a:t>лат.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fundare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Прикладные научные исследования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3"/>
              </a:rPr>
              <a:t>технологий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Научно-исследовательские и опытно-конструкторские разработки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4"/>
              </a:rPr>
              <a:t>НИОКР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) — здесь соединяется наука с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5"/>
              </a:rPr>
              <a:t>производством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, тем самым обеспечивая как научные, так и технические и инженерные проработки данного проекта. Иногда полученные результаты могут привести к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6"/>
              </a:rPr>
              <a:t>научно-технической революции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0" descr="научная деятельность"/>
          <p:cNvPicPr/>
          <p:nvPr/>
        </p:nvPicPr>
        <p:blipFill>
          <a:blip r:embed="rId7"/>
          <a:stretch/>
        </p:blipFill>
        <p:spPr>
          <a:xfrm>
            <a:off x="4643280" y="1557360"/>
            <a:ext cx="4105440" cy="460836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Т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́чно-техни́ческая ре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но-техническая ре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узком смысле — коренная перестройка технических основ материального производства, начавшееся в середине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XX 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 основе превращения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нау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ведущий фактор производства, в результате которого происходит трансформация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индустриального об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постиндустриаль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циент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циенти́з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scientis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т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scient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н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общее название идейной позиции, представляюще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научное зн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ивысше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ультурной ценн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сновополагающим фактором взаимодействия человека с миром. Нередко сциентисты считают «образцовыми науками»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физ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математ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циент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Сциентизм и антисциентизм"/>
          <p:cNvPicPr/>
          <p:nvPr/>
        </p:nvPicPr>
        <p:blipFill>
          <a:blip r:embed="rId1"/>
          <a:stretch/>
        </p:blipFill>
        <p:spPr>
          <a:xfrm>
            <a:off x="789120" y="1600200"/>
            <a:ext cx="3375000" cy="4525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1" descr="Сциентизм"/>
          <p:cNvPicPr/>
          <p:nvPr/>
        </p:nvPicPr>
        <p:blipFill>
          <a:blip r:embed="rId2"/>
          <a:stretch/>
        </p:blipFill>
        <p:spPr>
          <a:xfrm>
            <a:off x="4572000" y="1557360"/>
            <a:ext cx="4176720" cy="4608360"/>
          </a:xfrm>
          <a:prstGeom prst="rect">
            <a:avLst/>
          </a:prstGeom>
          <a:ln w="0">
            <a:noFill/>
          </a:ln>
        </p:spPr>
      </p:pic>
      <p:sp>
        <p:nvSpPr>
          <p:cNvPr id="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реч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anti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против и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scienti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знания) —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философск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нние виды антисциентизма базировались на отличных от науки формах сознания, таких как религия, искусство, нравствен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1:29:26Z</dcterms:created>
  <dc:creator>victor</dc:creator>
  <dc:description/>
  <dc:language>en-US</dc:language>
  <cp:lastModifiedBy>Legion</cp:lastModifiedBy>
  <dcterms:modified xsi:type="dcterms:W3CDTF">2017-09-22T10:35:50Z</dcterms:modified>
  <cp:revision>5</cp:revision>
  <dc:subject/>
  <dc:title>Слайд 1</dc:title>
</cp:coreProperties>
</file>