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308D-94B3-455F-BEC7-E321E6B4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46CC-96D1-438F-8D31-4F51407E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32DB-29A3-4721-9258-2EBD712E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DF25-BD09-4DC5-9DF2-B8050045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8884-6FC0-4DC7-BDAD-B30B5F66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284C-1932-465E-862F-21FAA67C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D042-99C2-43FA-BA54-BD2B1AEA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0FA5-2445-4510-929A-F7FA74E5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49CF-FB3B-4C0F-9782-CE9D4E3F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CC32-1BCD-4564-8AA4-D47D8BEE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75D6-59C4-41F5-84C9-FB6D2BA0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B693-5E5C-4BE2-A78B-65161BE9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62FA-F774-4330-9E8C-0D43F32F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869C-F8A9-4D94-9225-6678C47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D0BD-7F8C-4A92-8ED3-511537CC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E156-0DD7-48D6-8C8E-A715E9EB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50EC-657B-4A1C-8C9B-60998BB7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803A-3B4C-4F14-8490-FCFC9FA6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6F15-2EE4-4083-9C1A-A69D3C4C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5FEF-1E83-497D-A9D5-742C3291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B489-D2AB-4203-8EA4-94C4F9A6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AF0FD-138A-495A-8677-DC378EDB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F12C-DD30-42DC-8CF8-E468217D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8139-8DBC-48D6-8B43-28FDCA78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7D7C-77F9-4F3D-853B-0A432CDAB5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F73D-F618-4CBE-9961-9CC93C4D3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сихологическая уравновешенность. Стресс. Влияние стресса на человека.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храрова Владисла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 класс 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е симптомы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риз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пыльчивость, раздраж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озможность расслаб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жиданные приступы па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одино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прессия, постоянные перепады настр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янное чувство вины, нервозность, трев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ждебность, гн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лонность к суиц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адекватная реакция на мелкие неприя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230120" cy="145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6000" y="3789360"/>
            <a:ext cx="12189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Физические признаки стрес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дание и б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рипение зубами, сжимание челю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животе, изж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окружение, тошн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енное сердцебиение, боль в гру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трудненное дых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ик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ые просту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ожание рук, ног,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спине, шее, мышечные спа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он в уш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тлив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пивница, зуд, сып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лергия без видимых прич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абость, вялость, уста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095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Поведенческие признаки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едание или, напротив, перее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нормально короткий или долгий с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изоляция от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небрежение своими обязан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, алкоголь или нарко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пульсивные покупки, азарт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ульсивное или навязчив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мочущая, быстрая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озрительность или чрезмерная защ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сти в 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2725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йкость и поверхностное обая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Специалисты считают, что психопат скрывается под симпатичной и приятной маской здравомысл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ндиозное восприятие себ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часто считают, что они умнее или могущественнее, чем они есть на самом де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ая потребность в стим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Тишина и спокойствие не являются чертами психопатов. Им нужны постоянные развлечения и ак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утствие патологической лж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 врет по любому поводу, вводя в заблуждение незначительной ложью и огромными выдуманными истор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личные уровни манип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Всем психопатам свойственна хитрость, и они способны заставить людей делать вещи, которые те обычно не делают. Психопаты могут вызвать чувство вины, использовать силу и другие способы для манипуля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сутствие чувства вин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Отсутствие вины или угрызений совести является признаком психопат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фект или эмоциональная реакц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демонстрируют слабую эмоциональную реакцию на смерть, травмы, ранения или другие события, которые должны вызывать более глубокий откли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знь всяческих домашних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80440" y="4986360"/>
            <a:ext cx="1663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80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Отличительные черты уравновешенного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м, как на практике выглядит эмоциональная уравновешенность, ведь определившись с конкретными целями можно дотянуть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этого эфемерного состояния души и разума мудрейш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овешенность предполагает гармонию мыслей, эмоций и поступков человека, без каких либо внезапных или противоречивых про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58040" y="4336920"/>
            <a:ext cx="885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ияние стресса н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нергетика человека под воздействием стресса снижается, появляется быстрая утомляемость. Силы истощаются, и возникает такое ощущение, что ничего не хочется делать. Нет сил, чтоб успешно справляться с раб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ая сфера страдает, снижается настроение, появляются депрессивные мысли. Человек начинает концентрироваться на плохом, а это приводит к тому, что плохое только усиливается. И получается замкнутый круг, из которого нужно выходить с помощью освобождения от отрицательных эмо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зическое здоровье дает сбои. Обостряются хронические заболевания или появляются новые, такие как гипертония, диабет, болезни желудочно-кишечного тракта, болезни сердца и многие другие. Так же под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иянием стресса у челове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ышается риск заболевание онколог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под влиянием стресса может поправиться. Это происходит потому, что еда начинает выполнять защитную функцию, происходит заедание стресса и естественно это отражается на вашей фигуре не самым лучшим обра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5084640"/>
            <a:ext cx="17654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избавиться от влия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стресса?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нны с морской солью или эфирными ма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 хорошо принимать после работы. Помогают расслабиться и снять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улки на свеже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о успокаивают и приводят мысли в порядок. Кроме того помогают укрепить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акс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око известный и рекомендуемый способ для расслабления ума и тела. Для его осуществления достаточно включить приятную спокойную музыку, удобно расположиться и расслабиться. Чтоб было приятней можно еще и во время сеанса визуализировать приятные картинки. Например, берег моря, или прогулку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дых на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рода обладает целительным действием. Она помогает снятию стресса и дарит гармо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72360" y="5450040"/>
            <a:ext cx="259236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ТРЕВ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П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0733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сихология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я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 наука, изучающая закономерности возникновения, развития и функционирования психики и психической деятельности человека и групп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3162240" cy="3362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4000" y="21337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Трудно сконцентрировать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144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Все физические 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2676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Невозмож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расслаб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24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остоянное чув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006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6530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есс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591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ответная реакция организма человека на перенапряжение, негативные эмоции или просто на монотонную суету. Во время стресса, организм человека вырабатывает гормон адреналин, который заставляет искать выход. Стресс в небольших количествах нужен всем, так как он заставляет думать, искать выход из проблемы, без стресса вообще жизнь была бы скучной. Но с другой стороны, если стрессов становится слишком много, организм слабеет, теряет силы и способность решать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1971720"/>
            <a:ext cx="8208360" cy="3815280"/>
            <a:chOff x="431640" y="1971720"/>
            <a:chExt cx="8208360" cy="3815280"/>
          </a:xfrm>
        </p:grpSpPr>
        <p:cxnSp>
          <p:nvCxnSpPr>
            <p:cNvPr id="115" name="_s3175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90440" y="244188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31757"/>
            <p:cNvCxnSpPr>
              <a:stCxn id="119" idx="0"/>
              <a:endCxn id="117" idx="2"/>
            </p:cNvCxnSpPr>
            <p:nvPr/>
          </p:nvCxnSpPr>
          <p:spPr>
            <a:xfrm flipV="1">
              <a:off x="4536000" y="3497040"/>
              <a:ext cx="3600" cy="76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1756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717640" y="244224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31752"/>
            <p:cNvSpPr/>
            <p:nvPr/>
          </p:nvSpPr>
          <p:spPr>
            <a:xfrm>
              <a:off x="3304440" y="197172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у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1753"/>
            <p:cNvSpPr/>
            <p:nvPr/>
          </p:nvSpPr>
          <p:spPr>
            <a:xfrm>
              <a:off x="4316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и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1754"/>
            <p:cNvSpPr/>
            <p:nvPr/>
          </p:nvSpPr>
          <p:spPr>
            <a:xfrm>
              <a:off x="33044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моциональ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1755"/>
            <p:cNvSpPr/>
            <p:nvPr/>
          </p:nvSpPr>
          <p:spPr>
            <a:xfrm>
              <a:off x="617760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сихологическ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Эу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нятие имеет два значения — «стресс, вызванный положительными эмоциями» и «несильный стресс, мобилизующий организм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Ди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гативный тип стресса, с которым организм не в силах справиться. Он подрывает здоровье человека и может привести к тяжелым заболеваниям. От стресса страда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мунная систем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В стрессовом состоянии люди чаще оказываются жертвами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поскольку продукция иммунных клеток заметно падает в период физического или психического стресс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й 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ым стрессом называю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оциональные процесс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сопровождающие стресс, и ведущие к неблагоприятным изменениям в организме. Во время стресса, эмоциональная реакция развивается раньше других. При длительном или многократно повторяющемся стрессе эмоциональное возбуждение может застаиваться, а функционирование организма — разлажи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ческий 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ий стресс, как вид стресса, понимается разными авторами по-разному, но многие авторы определяют его как стресс, обусловленный социальными факто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запоминается нов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ывчивость, беспорядок, неорганиз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о принять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сконцентрировать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альнови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ссим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чки мыс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е чувство 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сонница или ночные кош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3763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9:45:23Z</dcterms:created>
  <dc:creator>Deafult User</dc:creator>
  <dc:description/>
  <dc:language>en-US</dc:language>
  <cp:lastModifiedBy>Deafult User</cp:lastModifiedBy>
  <dcterms:modified xsi:type="dcterms:W3CDTF">2015-04-09T12:22:33Z</dcterms:modified>
  <cp:revision>4</cp:revision>
  <dc:subject/>
  <dc:title>Психологическая уравновешенность. Стресс. Влияние стресса на человека. </dc:title>
</cp:coreProperties>
</file>