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A234-E7E9-49BE-8189-FDD04852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17800-14CE-4700-824D-C06578E3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3A492-27BE-4C93-9A8F-AE5C8F3F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1505A-32EA-4B83-B069-156561C5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04CA-8FC1-4000-80F5-676CF549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976E-5F63-42EC-B62D-A9DAFE33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00ED-B2FD-487E-82DF-7B363060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655D-8BF8-42C3-8763-6D31459F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223C-21B5-4056-BE8B-A8BC8BAE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B989-55E6-4382-9FF0-FC9C3EA3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277D-053A-44AA-BE11-D2FC49F2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8451-AEAF-4FDE-AF46-6D1F446B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AF4E-9287-4580-8426-B0F9CA94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DA6B-FE12-483A-B29F-D6C082CF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EA30-208D-4428-BE5F-B4969486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4C32-99BA-47C4-A001-ED5D4FE4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C649-8AA2-4BED-B4CB-049EB0AE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BA5BF-6E58-42DB-99E7-269C6929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9B32E-EE89-4874-A301-A05BF62C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722E-02D7-49BD-B1EA-E4C42EFA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072B-10F6-4DFE-B665-F875426F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B925B-1BA1-4286-99D5-6863C9C1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BB65-09D6-4AAF-B143-8FF5B085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41F4-E190-43BE-BADA-859D8819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7539-314B-44BE-899C-3CA44628F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E8D0-A235-4E67-96EC-520421FAB6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сихологическая уравновешенность. Стресс. Влияние стресса на человека.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Ахрарова Владисла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7 класс 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Эмоциональные симптомы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приз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пыльчивость, раздраж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возможность расслаб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жиданные приступы па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пере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одино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прессия, постоянные перепады настро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янное чувство вины, нервозность, трев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ждебность, гн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лонность к суици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адекватная реакция на мелкие неприя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93080" y="1916280"/>
            <a:ext cx="1230120" cy="145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236000" y="3789360"/>
            <a:ext cx="12189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Физические признаки стрес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дание и бо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рипение зубами, сжимание челю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 в животе, изж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окружение, тошн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ащенное сердцебиение, боль в гру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трудненное дых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ик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тые просту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рожание рук, ног, г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 в спине, шее, мышечные спаз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вон в уш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тлив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ухость во р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пивница, зуд, сып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ллергия без видимых прич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абость, вялость, устал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095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Поведенческие признаки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оедание или, напротив, перее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нормально короткий или долгий с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изоляция от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небрежение своими обязан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рение, алкоголь или нарко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пульсивные покупки, азартны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ульсивное или навязчивое по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рмочущая, быстрая 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озрительность или чрезмерная защ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ности в об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27255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психоп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йкость и поверхностное обаян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Специалисты считают, что психопат скрывается под симпатичной и приятной маской здравомысл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ндиозное восприятие себ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ы часто считают, что они умнее или могущественнее, чем они есть на самом де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ая потребность в стимуля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Тишина и спокойствие не являются чертами психопатов. Им нужны постоянные развлечения и актив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сутствие патологической лж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 врет по любому поводу, вводя в заблуждение незначительной ложью и огромными выдуманными истор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психоп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личные уровни манипуля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Всем психопатам свойственна хитрость, и они способны заставить людей делать вещи, которые те обычно не делают. Психопаты могут вызвать чувство вины, использовать силу и другие способы для манипуля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сутствие чувства вин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Отсутствие вины или угрызений совести является признаком психопат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ффект или эмоциональная реакц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ы демонстрируют слабую эмоциональную реакцию на смерть, травмы, ранения или другие события, которые должны вызывать более глубокий откли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знь всяческих домашних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480440" y="4986360"/>
            <a:ext cx="1663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ическая уравновеш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8803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ическая уравновеш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Отличительные черты уравновешенного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им, как на практике выглядит эмоциональная уравновешенность, ведь определившись с конкретными целями можно дотянуть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этого эфемерного состояния души и разума мудрейш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овешенность предполагает гармонию мыслей, эмоций и поступков человека, без каких либо внезапных или противоречивых проя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58040" y="4336920"/>
            <a:ext cx="8859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лияние стресса н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нергетика человека под воздействием стресса снижается, появляется быстрая утомляемость. Силы истощаются, и возникает такое ощущение, что ничего не хочется делать. Нет сил, чтоб успешно справляться с работ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моциональная сфера страдает, снижается настроение, появляются депрессивные мысли. Человек начинает концентрироваться на плохом, а это приводит к тому, что плохое только усиливается. И получается замкнутый круг, из которого нужно выходить с помощью освобождения от отрицательных эмо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изическое здоровье дает сбои. Обостряются хронические заболевания или появляются новые, такие как гипертония, диабет, болезни желудочно-кишечного тракта, болезни сердца и многие другие. Так же под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иянием стресса у челове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повышается риск заболевание онколог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, под влиянием стресса может поправиться. Это происходит потому, что еда начинает выполнять защитную функцию, происходит заедание стресса и естественно это отражается на вашей фигуре не самым лучшим образ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5084640"/>
            <a:ext cx="176544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избавиться от влия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стресса?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нны с морской солью или эфирными мас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 хорошо принимать после работы. Помогают расслабиться и снять напря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улки на свежем воздух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о успокаивают и приводят мысли в порядок. Кроме того помогают укрепить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акс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роко известный и рекомендуемый способ для расслабления ума и тела. Для его осуществления достаточно включить приятную спокойную музыку, удобно расположиться и расслабиться. Чтоб было приятней можно еще и во время сеанса визуализировать приятные картинки. Например, берег моря, или прогулку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дых на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рода обладает целительным действием. Она помогает снятию стресса и дарит гармо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372360" y="5450040"/>
            <a:ext cx="259236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73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ТРЕВ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ПА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30733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сихология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сихология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 наука, изучающая закономерности возникновения, развития и функционирования психики и психической деятельности человека и групп лю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3162240" cy="3362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4000" y="21337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Трудно сконцентрировать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Чувство пере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3144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Все физические при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стр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2676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чка 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Невозмож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расслаб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624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чка 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Постоянное чув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беспокойства и повышенная трев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006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65300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есс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5916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ответная реакция организма человека на перенапряжение, негативные эмоции или просто на монотонную суету. Во время стресса, организм человека вырабатывает гормон адреналин, который заставляет искать выход. Стресс в небольших количествах нужен всем, так как он заставляет думать, искать выход из проблемы, без стресса вообще жизнь была бы скучной. Но с другой стороны, если стрессов становится слишком много, организм слабеет, теряет силы и способность решать 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1640" y="1971720"/>
            <a:ext cx="8208360" cy="3815280"/>
            <a:chOff x="431640" y="1971720"/>
            <a:chExt cx="8208360" cy="3815280"/>
          </a:xfrm>
        </p:grpSpPr>
        <p:cxnSp>
          <p:nvCxnSpPr>
            <p:cNvPr id="115" name="_s31758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590440" y="2441880"/>
              <a:ext cx="763560" cy="2873520"/>
            </a:xfrm>
            <a:prstGeom prst="bentConnector3">
              <a:avLst>
                <a:gd name="adj1" fmla="val 1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31757"/>
            <p:cNvCxnSpPr>
              <a:stCxn id="119" idx="0"/>
              <a:endCxn id="117" idx="2"/>
            </p:cNvCxnSpPr>
            <p:nvPr/>
          </p:nvCxnSpPr>
          <p:spPr>
            <a:xfrm flipV="1">
              <a:off x="4536000" y="3497040"/>
              <a:ext cx="3600" cy="76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31756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2717640" y="2442240"/>
              <a:ext cx="763560" cy="2873520"/>
            </a:xfrm>
            <a:prstGeom prst="bentConnector3">
              <a:avLst>
                <a:gd name="adj1" fmla="val 1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31752"/>
            <p:cNvSpPr/>
            <p:nvPr/>
          </p:nvSpPr>
          <p:spPr>
            <a:xfrm>
              <a:off x="3304440" y="197172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у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31753"/>
            <p:cNvSpPr/>
            <p:nvPr/>
          </p:nvSpPr>
          <p:spPr>
            <a:xfrm>
              <a:off x="43164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и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1754"/>
            <p:cNvSpPr/>
            <p:nvPr/>
          </p:nvSpPr>
          <p:spPr>
            <a:xfrm>
              <a:off x="330444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моциональны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1755"/>
            <p:cNvSpPr/>
            <p:nvPr/>
          </p:nvSpPr>
          <p:spPr>
            <a:xfrm>
              <a:off x="617760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сихологическ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Эустресс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нятие имеет два значения — «стресс, вызванный положительными эмоциями» и «несильный стресс, мобилизующий организм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Дистресс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гативный тип стресса, с которым организм не в силах справиться. Он подрывает здоровье человека и может привести к тяжелым заболеваниям. От стресса страда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мунная систем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В стрессовом состоянии люди чаще оказываются жертвами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екци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поскольку продукция иммунных клеток заметно падает в период физического или психического стресс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Эмоциональный стресс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Эмоциональным стрессом называют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оциональные процессы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сопровождающие стресс, и ведущие к неблагоприятным изменениям в организме. Во время стресса, эмоциональная реакция развивается раньше других. При длительном или многократно повторяющемся стрессе эмоциональное возбуждение может застаиваться, а функционирование организма — разлажива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сихологический стресс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ий стресс, как вид стресса, понимается разными авторами по-разному, но многие авторы определяют его как стресс, обусловленный социальными факто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запоминается нов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ывчивость, беспорядок, неорганиз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о принять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сконцентрировать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альновид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ссим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чки мыс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ое чувство беспокойства и повышенная трев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сонница или ночные кош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1052640"/>
            <a:ext cx="23763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9:45:23Z</dcterms:created>
  <dc:creator>Deafult User</dc:creator>
  <dc:description/>
  <dc:language>en-US</dc:language>
  <cp:lastModifiedBy>Deafult User</cp:lastModifiedBy>
  <dcterms:modified xsi:type="dcterms:W3CDTF">2015-04-09T12:22:33Z</dcterms:modified>
  <cp:revision>4</cp:revision>
  <dc:subject/>
  <dc:title>Психологическая уравновешенность. Стресс. Влияние стресса на человека. </dc:title>
</cp:coreProperties>
</file>