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3038-D24B-413F-8F8E-13B2A9F8C7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сихологической  диагностики в семейной психолог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рофимова И.М. психолог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федра клинической психологии ЮУрГ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49D2-806B-4BA5-9003-16E47BBAA8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Методы психологической  диагностики в семейной психологии  и психотерап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еловек,  набираемых в группу 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ю  прохождения курса выдается сертификат  государственного образ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телеф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7-97-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E9D8-CBFF-4D1E-B174-7A74A5424D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Цель курс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рок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3166-EED8-44C4-A3CA-5FCB67ADEF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труктура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основа психодиагностики в семейной психологии и 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108B-D87A-4382-A73D-0B70E2A26F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99"/>
                </a:solidFill>
                <a:latin typeface="Calibri"/>
              </a:rPr>
              <a:t>Теоретические основы психодиагностики в семейной психологии и  психо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Модели  и функции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руктура семьи и стадии ее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емья как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BDCB-B936-4D99-A306-4B5A1C74EF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A7AE-FC78-415A-94F0-8B4CD6C1B8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кулярное 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  по  генограм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7EB2-CA9A-4DF8-8DD7-2A3AB4D7AA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оективные методы в  психодиагностике семейных взаимоотношения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етический рисунок семьи (КР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м-тест Рене Ж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ый тест  отношений (С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ая соци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исьмо супр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сиходрамы и сказкотерапии как психодиагностического инстру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A7F0-785D-43AD-8A7B-664084B61B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взаимодействие родитель-ребенок (ВР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«Подростки о  родителях» (П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родительского отношения (Т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сплоч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измерения родительских установок и реакций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B436-8B42-4D35-BBDB-974FDE366D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уровень удовлетворенности бра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супружескую совмест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Шкала любви и симпат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 сплоч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ых взаимоотнош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Семейные ро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ой трево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561B-C177-42BC-BE05-0B800D799B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9CB-CC61-44D7-BB48-3F63F663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71F-55AC-4AD0-85AC-A5F9A0F8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5EC-C55A-4502-A4E9-13CA5833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C4D-283D-43EF-8E9D-342591B5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614-E5C1-4B5B-8338-A2255CFF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C23-A018-467F-8372-EA824C89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3F6-9EB8-4C66-A901-771F4C6E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C32-A5A2-40DB-AA76-D7C622DB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850-4225-4082-B04A-12F4866E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8FD-57CB-4B6B-9178-0CE5408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78C-CA37-4497-8BAE-B14F3BC0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F78-229B-436E-A408-54F4BA0A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38AD-C651-4E33-A94B-D5B8AD15D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психологической  диагностики в семейной психологии  и психотерап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фимова И.М. 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клинической психологии ЮУр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Курсы повышения квалификац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тоды психологической  диагностики в семейной психологии  и психотерап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7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еловек,  набираемых в группу  -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кончанию  прохождения курса выдается сертификат  государственного образ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актный телеф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7-97-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" y="1628280"/>
            <a:ext cx="9010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Цель курс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Срок обучения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72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Структура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ая основа психодиагностики в семейной психологии и 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0920" y="1197000"/>
            <a:ext cx="1873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5219640" y="1197000"/>
            <a:ext cx="1728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оретические основы психодиагностики в семейной психологии и  псих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одели  и 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руктура семьи и стадии е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емья как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2565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рное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ью  по  генограм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оективные методы в  психодиагностике семейных взаимоотношен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етический рисунок семьи (КР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нок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ьм-тест Рене Жи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й тест  отношений (С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ая соци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е письмо суп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психодрамы и сказкотерапии как психодиагностического инстр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взаимодействие родитель-ребенок (ВР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«Подростки о  родителях» (П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родительского отношения (Т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сплоч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мерения родительских установок и реакци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уровень удовлетворенности бра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супружескую совместим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Шкала любви и симпат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 сплоч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ых взаимоотнош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Семейные ро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ой трев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23:03Z</dcterms:created>
  <dc:creator>user</dc:creator>
  <dc:description/>
  <dc:language>en-US</dc:language>
  <cp:lastModifiedBy>LEGION</cp:lastModifiedBy>
  <dcterms:modified xsi:type="dcterms:W3CDTF">2014-11-12T07:38:39Z</dcterms:modified>
  <cp:revision>8</cp:revision>
  <dc:subject/>
  <dc:title>Методы психологической  диагностики в семейной психологии  и психотерапии</dc:title>
</cp:coreProperties>
</file>