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5568-7FA6-46BF-A152-154FC9771B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сихолого-педагогический Факультет</a:t>
            </a:r>
            <a:br>
              <a:rPr sz="12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4E05-F72C-474C-9004-3BC4686A64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 обучения В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ите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и исследовать психологические проблемы социального взаимодействия людей в конкретных жизненных ситуациях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и моделировать социально-психологические явления в процессе массовой коммун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е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консультирования в области социально-психологических пробл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с группой и проведения социально-психологического тренин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й работы в сфере массовой коммуникации и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я социальной психологии и профильных дисциплин в вуз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64D0-C77D-43D3-ADCB-0AB7DDEA7E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еры деятельности выпускников магист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научно-исследовательских организациях, учреждениях и центр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сфере образования в качестве преподавателей социальной психологии и практических психологов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осударственных и частных консультационных пунктах по оказанию психологической помощи и поддержки отдельным лицам или группам людей (психолог-консультант, трене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качестве специалиста в области анализа и моделирования социально-психологических явлений в массовой коммуникации и рекла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сфере управления в качестве специалиста по регуляции групповых процессов (администратор, руководи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0E20-F493-4AC6-93E3-E71522FDFF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186 г. Санкт-Петербур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. р. Мойки, 48,корпус 11, ауд. 4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федра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. (812) 571 9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D1C2-4C3A-46BC-B231-D23A58829D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ь и задачи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специалистов в области социальной психологии человеческих отношений, имеющих углубленную подготовку по проблемам взаимодействия в социальной практике совместной жизнедеятельности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понятийным аппаратом, описывающим проблемные поля теоретической и прикладной социальной псих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методологией социально-психологического анализа процессов социального взаимодействия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опыта анализа психологических проблем социального взаимодействия людей в конкретных жизненных ситуац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функциями научно-исследовательской работы в выбранной специализации и преподавания социальной психологии и профильных дисципл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мений работы с группой и навыков практического применения методов социально-психологического консульт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4A6D-F84B-49BF-85CD-9FBCFAB2B3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е содержание магистерской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еоретическая ч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, методология, а также современные проблемы науки и производства. Актуальные проблемы социальной психологии. Психология социального взаимодействия. Основные направления практической социальной психологии: промышленное производство, управление, организационное развитие, массовая коммуникация и реклама, школьная психологическая служба и служба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учно-исследовательская раб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ые основания психологии социальных отношений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 основы социального поведения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возрастных взаимодействий и возрастных субкульту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этнический отношений и этнического взаимо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жизненных ситу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гендер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актическая ч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ое консультир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роблем общения и межличностного взаимодействия; способы работы с трудностями, возникающими у человека как члена различных социальных групп, как больших, так и малых. Социально-психологический тренин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93C1-7A84-4AEF-A2F6-87A0652025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тельная структура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подготовки магистра, специалиста в области социальной психологии состоит из основной образовательной программы бакалавра программы специализированной подготовки магистра, которая формир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федерального компон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общую теоретическую и практическую значим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национально-регионального компонента и специальных дисцип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теоретическую значимость для специалиста в области социальной псих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по выб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содержательно дополняют дисциплины в каждом цикле,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ой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B184-2FBB-4F8A-8F3C-625A5415C8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компонент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науки и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вторы 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феров В.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ецин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.С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сель Ю.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, доцент, доктора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 и методология науки и производства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вторы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ремеев Б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илова С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годова С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ые технологии в науке и производстве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втор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ляков О.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F569-012C-4F83-A46D-D72B49BC42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6D6E-C018-4C1A-88A1-6C6636E4CE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 (дисциплины по выбору)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DC11-4257-4608-B44C-B3F3429BF6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социального взаим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анферов В.Н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, заведующий кафедрой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Актуальные проблемы социаль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лецин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.С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д.п.н., Поссель Ю.А.,  к.п.н., доцен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этн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икевич З.В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с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етодика преподавания социаль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лецина И.С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работы с групп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илова С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ческие основы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Терешкина И.Б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езгодова С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-педагогическая практи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кова Е.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-исследовательская практика: Еремеев Б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584C-2D52-431D-B154-EFC1E055FB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е дисциплин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выб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дерная 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Клецина И.С., д.п.н., професс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й практик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: Барсукова О.В., 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в области социально-псих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Румянцева П.В., к.п.н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психология массовидных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психология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а Ю.Е. к.п.н. доцент кафедры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69E6-C5FF-4804-AF72-44064DD0EC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4EC-2409-4A33-B8A6-51F2B8A2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972A-8222-4C19-9BD2-D93C3116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BE04-8AF3-46A1-9DC9-3C0966FD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C7D-A8A9-4856-BBB0-0A22E113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5449-0E2F-499E-9B25-13B81910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330E-6864-426C-8616-A9D709FC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66D1-AAC7-4B65-B4FD-BB6B8A60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7CA2-1608-4614-89DA-12E3DB4B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40F2-66EA-444E-9A4C-6DCBED7E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0A3C-2B6F-4F0B-9B96-160F44CF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2B29-4433-44EF-85FA-7B42578B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A11-3820-4F28-811B-94621D48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93FC-CC54-42D9-9867-C914C980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44FC-4CD8-4A7C-80FE-4F84338D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91AB-5529-40F5-8F81-A4EA1C4C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82FB-A0AC-4BFF-9FF3-65A1ED1C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3AD4-D6B7-44DC-9EBA-22270E5E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F4B-BDE7-440D-8FE6-54E1E063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037-A932-42CA-BAA8-A381528E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7AA-7C5B-430C-84A7-6B88157E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3CE-6FDE-412E-B9DA-D5517799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2DE-B3AF-4376-8DB8-47B01A81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687-5917-4902-BF77-35B4B9B3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E51-6C01-4BF9-87C9-58B07AA7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8D29-45E0-464C-8B81-B19CEA5D70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5F3E-FB15-43EA-B9B8-507602A9F5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3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сихолого-педагогический Факультет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2286000" y="4038480"/>
            <a:ext cx="55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А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ОГ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гистерская программ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езультате обучения В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е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ть и исследовать психологические проблемы социального взаимодействия людей в конкретных жизненных ситуациях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ировать и моделировать социально-психологические явления в процессе массовой коммун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ладеет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вы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го консультирования в области социально-психологических пробл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ы с группой и проведения социально-психологического тренин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ой работы в сфере массовой коммуникации и рекла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ния социальной психологии и профильных дисциплин в вуз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феры деятельности выпускников магист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научно-исследовательских организациях, учреждениях и цент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сфере образования в качестве преподавателей социальной психологии и практических психологов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государственных и частных консультационных пунктах по оказанию психологической помощи и поддержки отдельным лицам или группам людей (психолог-консультант, тренер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качестве специалиста в области анализа и моделирования социально-психологических явлений в массовой коммуникации и рекла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сфере управления в качестве специалиста по регуляции групповых процессов (администратор, руководите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1186 г. Санкт-Петербур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. р. Мойки, 48,корпус 11, ауд. 4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федра психологи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 (812) 571 9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Цель и задачи программы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ка специалистов в области социальной психологии человеческих отношений, имеющих углубленную подготовку по проблемам взаимодействия в социальной практике совместной жизнедеятельности люд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понятийным аппаратом, описывающим проблемные поля теоретической и прикладной социальной психолог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ство с методологией социально-психологического анализа процессов социального взаимодействия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обретение опыта анализа психологических проблем социального взаимодействия людей в конкретных жизненных ситуаци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функциями научно-исследовательской работы в выбранной специализации и преподавания социальной психологии и профильных дисципл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умений работы с группой и навыков практического применения методов социально-психологического консуль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е содержание магистерской програм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оре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рия, методология, а также современные проблемы науки и производства. Актуальные проблемы социальной психологии. Психология социального взаимодействия. Основные направления практической социальной психологии: промышленное производство, управление, организационное развитие, массовая коммуникация и реклама, школьная психологическая служба и служба сем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учно-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птуальные основания психологии социальных отношений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ческие основы социального поведения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возрастных взаимодействий и возрастных субкульту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этнический отношений и этнического взаимодейств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жизненных ситу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гендер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сихологическое консультиров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бласти проблем общения и межличностного взаимодействия; способы работы с трудностями, возникающими у человека как члена различных социальных групп, как больших, так и малых. Социально-психологический тренин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тельная структура программ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55640" y="1700280"/>
            <a:ext cx="792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образовательная программа подготовки магистра, специалиста в области социальной психологии состоит из основной образовательной программы бакалавра программы специализированной подготовки магистра, которая формир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000" spc="-1" strike="noStrike" u="sng">
                <a:solidFill>
                  <a:srgbClr val="5a84d8"/>
                </a:solidFill>
                <a:uFillTx/>
                <a:latin typeface="Arial"/>
                <a:hlinkClick r:id="rId1" action="ppaction://hlinksldjump"/>
              </a:rPr>
              <a:t>дисциплин федерального компон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меющих общую теоретическую и практическую значи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000" spc="-1" strike="noStrike" u="sng">
                <a:solidFill>
                  <a:srgbClr val="5a84d8"/>
                </a:solidFill>
                <a:uFillTx/>
                <a:latin typeface="Arial"/>
                <a:hlinkClick r:id="rId2" action="ppaction://hlinksldjump"/>
              </a:rPr>
              <a:t>дисциплин национально-регионального компонен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специальных дисцип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меющих теоретическую значимость для специалиста в области социальной психолог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циплин по выб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содержательно дополняют дисциплины в каждом цикле,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но-исследовательской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Федеральный компонент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проблемы науки и производ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вторы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феров В.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ец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.С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сель Ю.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п.н, доцент, доктор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и методология науки и производ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вторы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ремеев Б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илова С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годова С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ые технологии в науке и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втор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яков О.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11280" y="5805360"/>
            <a:ext cx="649080" cy="503280"/>
          </a:xfrm>
          <a:prstGeom prst="leftArrow">
            <a:avLst>
              <a:gd name="adj1" fmla="val 50000"/>
              <a:gd name="adj2" fmla="val 32242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84360" y="1557360"/>
            <a:ext cx="243972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оциальной идент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мянцева П.В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859280" y="1628640"/>
            <a:ext cx="252108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возрастного взаимо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ляева А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Mikljaeva"/>
          <p:cNvPicPr/>
          <p:nvPr/>
        </p:nvPicPr>
        <p:blipFill>
          <a:blip r:embed="rId1"/>
          <a:stretch/>
        </p:blipFill>
        <p:spPr>
          <a:xfrm>
            <a:off x="7524720" y="1700280"/>
            <a:ext cx="1212840" cy="1262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2340000" y="4149720"/>
            <a:ext cx="22320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жизненных ситу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жова Е.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д.п.н., професс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Korzhova"/>
          <p:cNvPicPr/>
          <p:nvPr/>
        </p:nvPicPr>
        <p:blipFill>
          <a:blip r:embed="rId2"/>
          <a:stretch/>
        </p:blipFill>
        <p:spPr>
          <a:xfrm>
            <a:off x="826920" y="4221000"/>
            <a:ext cx="1306800" cy="157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Vekilova"/>
          <p:cNvPicPr/>
          <p:nvPr/>
        </p:nvPicPr>
        <p:blipFill>
          <a:blip r:embed="rId3"/>
          <a:stretch/>
        </p:blipFill>
        <p:spPr>
          <a:xfrm>
            <a:off x="4648320" y="419112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6"/>
          <p:cNvSpPr/>
          <p:nvPr/>
        </p:nvSpPr>
        <p:spPr>
          <a:xfrm>
            <a:off x="6477120" y="4114800"/>
            <a:ext cx="22320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емейных 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ил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795672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Румянцева"/>
          <p:cNvPicPr/>
          <p:nvPr/>
        </p:nvPicPr>
        <p:blipFill>
          <a:blip r:embed="rId4"/>
          <a:stretch/>
        </p:blipFill>
        <p:spPr>
          <a:xfrm>
            <a:off x="3124080" y="1676520"/>
            <a:ext cx="1319400" cy="1982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 (дисциплины по выбору)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038480" y="2362320"/>
            <a:ext cx="449604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оциального поведения лич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сель Ю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тоды и процедуры социально-психологических исследов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нова З.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395280" y="602136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Семенова"/>
          <p:cNvPicPr/>
          <p:nvPr/>
        </p:nvPicPr>
        <p:blipFill>
          <a:blip r:embed="rId1"/>
          <a:stretch/>
        </p:blipFill>
        <p:spPr>
          <a:xfrm>
            <a:off x="1905120" y="3733920"/>
            <a:ext cx="1752480" cy="2438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2"/>
          <p:cNvSpPr/>
          <p:nvPr/>
        </p:nvSpPr>
        <p:spPr>
          <a:xfrm>
            <a:off x="333864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1" descr="Rotation of DSC_0079"/>
          <p:cNvPicPr/>
          <p:nvPr/>
        </p:nvPicPr>
        <p:blipFill>
          <a:blip r:embed="rId2"/>
          <a:stretch/>
        </p:blipFill>
        <p:spPr>
          <a:xfrm>
            <a:off x="685800" y="1600200"/>
            <a:ext cx="1690560" cy="2538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циальные дисциплины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Rotation of DSC_0047"/>
          <p:cNvPicPr/>
          <p:nvPr/>
        </p:nvPicPr>
        <p:blipFill>
          <a:blip r:embed="rId1"/>
          <a:stretch/>
        </p:blipFill>
        <p:spPr>
          <a:xfrm>
            <a:off x="5791320" y="1143000"/>
            <a:ext cx="1454040" cy="2189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685800" y="1600200"/>
            <a:ext cx="548640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социального 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Панферов В.Н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, заведующий кафедрой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Актуальные проблемы социальной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ци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.С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д.п.н., Поссель Ю.А.,  к.п.н., доц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этнически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икевич З.В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с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тодика преподавания социальной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цина И.С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работы с груп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кил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ческие основы коммун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Терешкина И.Б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социаль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езгод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учно-педагогическая практи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кова Е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учно-исследовательская практика: Еремеев Б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795672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3" descr="Лена Юркова"/>
          <p:cNvPicPr/>
          <p:nvPr/>
        </p:nvPicPr>
        <p:blipFill>
          <a:blip r:embed="rId2"/>
          <a:stretch/>
        </p:blipFill>
        <p:spPr>
          <a:xfrm>
            <a:off x="6553080" y="2362320"/>
            <a:ext cx="1113120" cy="1676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6" descr="Panferov"/>
          <p:cNvPicPr/>
          <p:nvPr/>
        </p:nvPicPr>
        <p:blipFill>
          <a:blip r:embed="rId3"/>
          <a:stretch/>
        </p:blipFill>
        <p:spPr>
          <a:xfrm>
            <a:off x="7315200" y="762120"/>
            <a:ext cx="1666800" cy="16761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0"/>
          <p:cNvSpPr/>
          <p:nvPr/>
        </p:nvSpPr>
        <p:spPr>
          <a:xfrm>
            <a:off x="35146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9" descr="Re-exposure of Rotation of DSC_0109"/>
          <p:cNvPicPr/>
          <p:nvPr/>
        </p:nvPicPr>
        <p:blipFill>
          <a:blip r:embed="rId4"/>
          <a:stretch/>
        </p:blipFill>
        <p:spPr>
          <a:xfrm>
            <a:off x="7620120" y="3505320"/>
            <a:ext cx="137160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2" descr="Eremejev"/>
          <p:cNvPicPr/>
          <p:nvPr/>
        </p:nvPicPr>
        <p:blipFill>
          <a:blip r:embed="rId5"/>
          <a:stretch/>
        </p:blipFill>
        <p:spPr>
          <a:xfrm>
            <a:off x="7620120" y="502920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3" descr="Tereshkina"/>
          <p:cNvPicPr/>
          <p:nvPr/>
        </p:nvPicPr>
        <p:blipFill>
          <a:blip r:embed="rId6"/>
          <a:stretch/>
        </p:blipFill>
        <p:spPr>
          <a:xfrm>
            <a:off x="7696080" y="2286000"/>
            <a:ext cx="1287720" cy="117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4" descr="Vekilova"/>
          <p:cNvPicPr/>
          <p:nvPr/>
        </p:nvPicPr>
        <p:blipFill>
          <a:blip r:embed="rId7"/>
          <a:stretch/>
        </p:blipFill>
        <p:spPr>
          <a:xfrm>
            <a:off x="5486400" y="3429000"/>
            <a:ext cx="1371600" cy="1324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5" descr="Bezgodova"/>
          <p:cNvPicPr/>
          <p:nvPr/>
        </p:nvPicPr>
        <p:blipFill>
          <a:blip r:embed="rId8"/>
          <a:stretch/>
        </p:blipFill>
        <p:spPr>
          <a:xfrm>
            <a:off x="5715000" y="4952880"/>
            <a:ext cx="1224000" cy="149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6" descr="Possel"/>
          <p:cNvPicPr/>
          <p:nvPr/>
        </p:nvPicPr>
        <p:blipFill>
          <a:blip r:embed="rId9"/>
          <a:stretch/>
        </p:blipFill>
        <p:spPr>
          <a:xfrm>
            <a:off x="6705720" y="4114800"/>
            <a:ext cx="1055520" cy="13669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циальные дисциплины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по выбору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09480" y="2438280"/>
            <a:ext cx="54723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дерная псих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лецина И.С., д.п.н., професс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-психологический практику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ы: Барсукова О.В., 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ирование в области социально-психологическ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Румянцева П.В., к.п.н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психология массовидных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психология рекл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сева Ю.Е. к.п.н.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1" descr="Гусева"/>
          <p:cNvPicPr/>
          <p:nvPr/>
        </p:nvPicPr>
        <p:blipFill>
          <a:blip r:embed="rId1"/>
          <a:stretch/>
        </p:blipFill>
        <p:spPr>
          <a:xfrm>
            <a:off x="7543800" y="4114800"/>
            <a:ext cx="1163520" cy="1752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4" descr="Rumjanzeva"/>
          <p:cNvPicPr/>
          <p:nvPr/>
        </p:nvPicPr>
        <p:blipFill>
          <a:blip r:embed="rId2"/>
          <a:stretch/>
        </p:blipFill>
        <p:spPr>
          <a:xfrm>
            <a:off x="5715000" y="3581280"/>
            <a:ext cx="160812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5" descr="Barsukova"/>
          <p:cNvPicPr/>
          <p:nvPr/>
        </p:nvPicPr>
        <p:blipFill>
          <a:blip r:embed="rId3"/>
          <a:stretch/>
        </p:blipFill>
        <p:spPr>
          <a:xfrm>
            <a:off x="7238880" y="1981080"/>
            <a:ext cx="1447920" cy="1757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6" descr="Klezina"/>
          <p:cNvPicPr/>
          <p:nvPr/>
        </p:nvPicPr>
        <p:blipFill>
          <a:blip r:embed="rId4"/>
          <a:stretch/>
        </p:blipFill>
        <p:spPr>
          <a:xfrm>
            <a:off x="5410080" y="1676520"/>
            <a:ext cx="1597320" cy="15192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2:14Z</dcterms:created>
  <dc:creator>Marina</dc:creator>
  <dc:description/>
  <dc:language>en-US</dc:language>
  <cp:lastModifiedBy>LEGION</cp:lastModifiedBy>
  <dcterms:modified xsi:type="dcterms:W3CDTF">2014-11-12T07:39:16Z</dcterms:modified>
  <cp:revision>88</cp:revision>
  <dc:subject/>
  <dc:title>РОССИЙСКИЙ ГОСУДАРСТВЕННЫЙ ПЕДАГОГИЧЕСКИЙ УНИВЕРСИТЕТ  ИМ. А.И. ГЕРЦЕ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