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4B6C-1E0E-41CD-8A52-626BA71C9438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лужб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1DA-561E-406E-A5C6-F980CBC111C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6C31-202B-4E34-8526-CAFE57BB4DDA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7D0-0554-4404-B418-C34A476BBEC1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едколлекти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2206-4BEA-4CEC-8930-C8F6EA797835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7B55-7EB8-4E68-A27E-E1EF7A896C80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1BF6-D04F-4D20-88C9-9FAA9A19210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F361-2304-4B7B-B69C-5FC12451A7A8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безопа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2EB7-AD6C-4FA1-868A-BA180DABE799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Результаты анкетирования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0098-A20F-473A-B52A-C50B91489C64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D9B7-C9AC-4611-AC3A-B126BE911F3A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646B-3F68-4AB7-AEE0-1244F0A5C026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FFDC-BF5E-4B64-83BE-E3409886013D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привлечению внимания к психической жизн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27E8-6F45-4D5D-8460-BA5FE6CC66DF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E22-67CD-490E-AC26-33B0D25C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5B5-7390-4253-815D-34AA3B99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E40-52D0-4EA2-B1DE-D5F7B19F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86F-E80C-47AC-93B3-195C61F8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C94-3806-4A15-8387-B969F7A5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7B1-6600-4BDD-9F65-3F9BC1B5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4AC-0FCD-469C-B2B8-FF8E6757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C95-5E2E-4947-989E-67B83342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72F-8F56-4E42-840E-73E8369A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772-BA2F-4FF1-BE37-5B584BA5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DC1-B72F-4912-9AF6-9D66D03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A05-EC56-4EC1-A58D-722DF9D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0A3E-F9D8-485D-825C-27DA6D76A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6"/>
          <p:cNvSpPr txBox="1"/>
          <p:nvPr/>
        </p:nvSpPr>
        <p:spPr>
          <a:xfrm>
            <a:off x="1984320" y="1917720"/>
            <a:ext cx="66200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Психологическ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служба 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Психология 4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533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5" name="Object 1027"/>
          <p:cNvGraphicFramePr/>
          <p:nvPr/>
        </p:nvGraphicFramePr>
        <p:xfrm>
          <a:off x="1476360" y="1387440"/>
          <a:ext cx="649296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87440"/>
                    <a:ext cx="64929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03400" y="1424160"/>
          <a:ext cx="706896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424160"/>
                    <a:ext cx="70689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настоящий момен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08000" y="1484280"/>
          <a:ext cx="962640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96264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будущем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30320" y="1521000"/>
          <a:ext cx="941040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521000"/>
                    <a:ext cx="941040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а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44360" y="2230560"/>
          <a:ext cx="88203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2230560"/>
                    <a:ext cx="8820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324000" y="907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71280" y="2449440"/>
          <a:ext cx="8964720" cy="43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449440"/>
                    <a:ext cx="8964720" cy="43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кета школьной мотивации Лусканов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51200" y="806400"/>
          <a:ext cx="5789520" cy="1798560"/>
        </p:xfrm>
        <a:graphic>
          <a:graphicData uri="http://schemas.openxmlformats.org/drawingml/2006/table">
            <a:tbl>
              <a:tblPr/>
              <a:tblGrid>
                <a:gridCol w="566640"/>
                <a:gridCol w="522288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Уровни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V -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высокая и нормальная мотив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положительное отношение к школе; привлекает внеучебная ст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 -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низкая мотивация и дезадап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6" descr="4"/>
          <p:cNvPicPr/>
          <p:nvPr/>
        </p:nvPicPr>
        <p:blipFill>
          <a:blip r:embed="rId1"/>
          <a:stretch/>
        </p:blipFill>
        <p:spPr>
          <a:xfrm>
            <a:off x="142920" y="600120"/>
            <a:ext cx="8893080" cy="5637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педколлекти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Титова"/>
          <p:cNvPicPr/>
          <p:nvPr/>
        </p:nvPicPr>
        <p:blipFill>
          <a:blip r:embed="rId1"/>
          <a:stretch/>
        </p:blipFill>
        <p:spPr>
          <a:xfrm>
            <a:off x="324000" y="446040"/>
            <a:ext cx="8496000" cy="5965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26" descr="Восхождение к истокам 1-2"/>
          <p:cNvPicPr/>
          <p:nvPr/>
        </p:nvPicPr>
        <p:blipFill>
          <a:blip r:embed="rId1"/>
          <a:stretch/>
        </p:blipFill>
        <p:spPr>
          <a:xfrm>
            <a:off x="77760" y="189000"/>
            <a:ext cx="9036000" cy="6462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66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Психологичес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безопас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сре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547640" y="4510080"/>
            <a:ext cx="6050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зультаты анкетирования школьник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езультаты анкетиров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27"/>
          <p:cNvGraphicFramePr/>
          <p:nvPr/>
        </p:nvGraphicFramePr>
        <p:xfrm>
          <a:off x="2484360" y="2349360"/>
          <a:ext cx="3527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3527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8"/>
          <p:cNvGraphicFramePr/>
          <p:nvPr/>
        </p:nvGraphicFramePr>
        <p:xfrm>
          <a:off x="0" y="3890880"/>
          <a:ext cx="298764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90880"/>
                    <a:ext cx="29876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29"/>
          <p:cNvGraphicFramePr/>
          <p:nvPr/>
        </p:nvGraphicFramePr>
        <p:xfrm>
          <a:off x="5873760" y="1268280"/>
          <a:ext cx="3340080" cy="35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3760" y="1268280"/>
                    <a:ext cx="3340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5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0" y="2781360"/>
          <a:ext cx="37512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37512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2484360" y="0"/>
          <a:ext cx="43196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0"/>
                    <a:ext cx="43196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076720" y="2914560"/>
          <a:ext cx="40672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914560"/>
                    <a:ext cx="40672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3030513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1"/>
          <p:cNvSpPr/>
          <p:nvPr/>
        </p:nvSpPr>
        <p:spPr>
          <a:xfrm>
            <a:off x="885960" y="1700280"/>
            <a:ext cx="7416720" cy="2449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279600" y="592200"/>
            <a:ext cx="2629080" cy="66672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ическ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служба школ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2627280" y="1916280"/>
            <a:ext cx="163836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Тематические лекции для уч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3808440" y="2913120"/>
            <a:ext cx="160020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Развивающие занятия с учащимис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5865840" y="2913120"/>
            <a:ext cx="144792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оведение психотре-нинг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1814400" y="2913120"/>
            <a:ext cx="1447920" cy="87624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Консультации для род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048280" y="1916280"/>
            <a:ext cx="182880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еподавание предмета психолог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Text Box 40"/>
          <p:cNvSpPr/>
          <p:nvPr/>
        </p:nvSpPr>
        <p:spPr>
          <a:xfrm>
            <a:off x="3635280" y="4437000"/>
            <a:ext cx="2173320" cy="43200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профилак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2390760" y="5199120"/>
            <a:ext cx="206712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4572000" y="5199120"/>
            <a:ext cx="208764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и деятельност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79280" y="5029200"/>
            <a:ext cx="2100240" cy="1639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явлений в школьном коллективе, групп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6783480" y="4998960"/>
            <a:ext cx="2166840" cy="1656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Выявление психологических особенностей и их влияние на личность школь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Line 48"/>
          <p:cNvSpPr/>
          <p:nvPr/>
        </p:nvSpPr>
        <p:spPr>
          <a:xfrm flipH="1">
            <a:off x="392220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Line 50"/>
          <p:cNvSpPr/>
          <p:nvPr/>
        </p:nvSpPr>
        <p:spPr>
          <a:xfrm flipH="1">
            <a:off x="1618920" y="4653000"/>
            <a:ext cx="198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Line 51"/>
          <p:cNvSpPr/>
          <p:nvPr/>
        </p:nvSpPr>
        <p:spPr>
          <a:xfrm flipV="1">
            <a:off x="5838840" y="4653000"/>
            <a:ext cx="1973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81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4608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Line 57"/>
          <p:cNvSpPr/>
          <p:nvPr/>
        </p:nvSpPr>
        <p:spPr>
          <a:xfrm>
            <a:off x="4284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Line 58"/>
          <p:cNvSpPr/>
          <p:nvPr/>
        </p:nvSpPr>
        <p:spPr>
          <a:xfrm flipV="1">
            <a:off x="5003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Line 59"/>
          <p:cNvSpPr/>
          <p:nvPr/>
        </p:nvSpPr>
        <p:spPr>
          <a:xfrm flipH="1">
            <a:off x="543348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Line 60"/>
          <p:cNvSpPr/>
          <p:nvPr/>
        </p:nvSpPr>
        <p:spPr>
          <a:xfrm>
            <a:off x="161928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826920" y="1159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1024" descr="Без имени-1"/>
          <p:cNvPicPr/>
          <p:nvPr/>
        </p:nvPicPr>
        <p:blipFill>
          <a:blip r:embed="rId1"/>
          <a:stretch/>
        </p:blipFill>
        <p:spPr>
          <a:xfrm>
            <a:off x="395280" y="981000"/>
            <a:ext cx="8280360" cy="57722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6" descr="Психология 1"/>
          <p:cNvPicPr/>
          <p:nvPr/>
        </p:nvPicPr>
        <p:blipFill>
          <a:blip r:embed="rId1"/>
          <a:stretch/>
        </p:blipFill>
        <p:spPr>
          <a:xfrm>
            <a:off x="179280" y="625320"/>
            <a:ext cx="8785440" cy="5607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8360" y="477720"/>
            <a:ext cx="5184720" cy="25196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антропологического подхода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43280" y="1125360"/>
            <a:ext cx="3384720" cy="6019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бразовательная сред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к система запросов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2095560"/>
            <a:ext cx="147636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Мониторинг запрос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35640" y="1952640"/>
            <a:ext cx="1728720" cy="8287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о-педагогический консилиум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75600" y="2095560"/>
            <a:ext cx="147312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ИСУ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340000" y="3176640"/>
            <a:ext cx="6553080" cy="8287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истемы традиционных этнических цен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(коллективизм, соборность, общинность)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40000" y="4292640"/>
            <a:ext cx="6553080" cy="1228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рофессиональных компетент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учителей. Совершенствование психологической культур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овышение квалификации педагогическ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чественные изменения кадров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340000" y="5805360"/>
            <a:ext cx="6553080" cy="6858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Взаимодействие с семьей,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как источника «культуры национального чувства и патриотической верности» (И. Ильин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478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8850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630072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419640" y="1773360"/>
            <a:ext cx="5508360" cy="42480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оздание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ически безопасной среды для всех участников образовательного пространств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на основ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спешности в обучени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эмоциональной устойчив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готовности к психологическим нагрузкам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толерантн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мения принимать решения  и нести ответственность за их последств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26"/>
          <p:cNvSpPr txBox="1"/>
          <p:nvPr/>
        </p:nvSpPr>
        <p:spPr>
          <a:xfrm>
            <a:off x="1547640" y="1773360"/>
            <a:ext cx="7417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Инновацион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дея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3573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оссийско-германском семинаре "Школа без стресс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российской конференции "Преподавание психологии как предмет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рамках Российско-германского проекта "Школа без стресса, май 2006 г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 – X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х рождественских образовательных чтения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псих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ют привлечению внимания к психической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7:16:14Z</dcterms:created>
  <dc:creator>Dmitry</dc:creator>
  <dc:description/>
  <dc:language>en-US</dc:language>
  <cp:lastModifiedBy>LEGION</cp:lastModifiedBy>
  <dcterms:modified xsi:type="dcterms:W3CDTF">2014-11-12T08:52:51Z</dcterms:modified>
  <cp:revision>27</cp:revision>
  <dc:subject/>
  <dc:title>Rr</dc:title>
</cp:coreProperties>
</file>