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0903-F7AF-4BA6-BF25-65392497835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лужб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8145-C6AF-4DB6-B9B7-D0754376A23D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0EEC-02CE-4DC9-B2DC-4145BC3B1E07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CC2C-64B0-487C-B6A4-BDA34614559D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едколлекти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1009-0580-4A85-92C4-90400CA233D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3074-B147-4AEB-B84E-7BD14E58F7D8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4CB2-1126-4DA0-A887-80CC3DB5A731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8BF8-80EB-43C4-A224-45DD9BB32440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безопа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DB46-15F9-4081-BEFC-C5A5020BDB9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Результаты анкетирования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222-DD98-496C-B823-D4B5794EE8A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F531-2D6A-4963-A2E1-98C7180F2F01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2E7A-AFB2-4826-A067-E562E837ED9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1A84-746F-44F1-92A7-2B87A1A22C6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привлечению внимания к психической жизн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41A-FA48-4852-85DA-B44E4866501B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481-45F6-4EA2-9FCC-1BC77842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A4C-C6BC-4EFE-8706-5C2B56D5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879-E071-4587-8EAE-C5D6AF12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BFD-EBD5-4D36-B21B-5B433828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9AA-8423-475B-ACF0-A4EDB921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34A-8A47-4B0C-9F02-681A67BF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6B7-ECEA-444F-93B3-A83FF22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76A-AD8B-4C68-8E6C-753C9203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065-E0AB-4306-AF39-24C6BDF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D92-A406-41BB-B445-F760EE45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E5B-56AE-4358-AE07-3437E6DC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787-0D09-4853-B110-D998B24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4EB5-D5C1-42E0-BBB4-D15585A0A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6"/>
          <p:cNvSpPr txBox="1"/>
          <p:nvPr/>
        </p:nvSpPr>
        <p:spPr>
          <a:xfrm>
            <a:off x="1984320" y="1917720"/>
            <a:ext cx="66200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Психологическ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служба 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Психология 4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533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5" name="Object 1027"/>
          <p:cNvGraphicFramePr/>
          <p:nvPr/>
        </p:nvGraphicFramePr>
        <p:xfrm>
          <a:off x="1476360" y="1387440"/>
          <a:ext cx="649296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87440"/>
                    <a:ext cx="64929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03400" y="1424160"/>
          <a:ext cx="706896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424160"/>
                    <a:ext cx="70689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настоящий момен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08000" y="1484280"/>
          <a:ext cx="962640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96264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будущем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30320" y="1521000"/>
          <a:ext cx="941040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521000"/>
                    <a:ext cx="941040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а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44360" y="2230560"/>
          <a:ext cx="88203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2230560"/>
                    <a:ext cx="8820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324000" y="907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71280" y="2449440"/>
          <a:ext cx="8964720" cy="43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449440"/>
                    <a:ext cx="8964720" cy="43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кета школьной мотивации Лусканов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51200" y="806400"/>
          <a:ext cx="5789520" cy="1798560"/>
        </p:xfrm>
        <a:graphic>
          <a:graphicData uri="http://schemas.openxmlformats.org/drawingml/2006/table">
            <a:tbl>
              <a:tblPr/>
              <a:tblGrid>
                <a:gridCol w="566640"/>
                <a:gridCol w="522288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Уровни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V -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высокая и нормальная мотив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положительное отношение к школе; привлекает внеучебная ст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 -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низкая мотивация и дезадап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6" descr="4"/>
          <p:cNvPicPr/>
          <p:nvPr/>
        </p:nvPicPr>
        <p:blipFill>
          <a:blip r:embed="rId1"/>
          <a:stretch/>
        </p:blipFill>
        <p:spPr>
          <a:xfrm>
            <a:off x="142920" y="600120"/>
            <a:ext cx="8893080" cy="5637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педколлекти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Титова"/>
          <p:cNvPicPr/>
          <p:nvPr/>
        </p:nvPicPr>
        <p:blipFill>
          <a:blip r:embed="rId1"/>
          <a:stretch/>
        </p:blipFill>
        <p:spPr>
          <a:xfrm>
            <a:off x="324000" y="446040"/>
            <a:ext cx="8496000" cy="5965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26" descr="Восхождение к истокам 1-2"/>
          <p:cNvPicPr/>
          <p:nvPr/>
        </p:nvPicPr>
        <p:blipFill>
          <a:blip r:embed="rId1"/>
          <a:stretch/>
        </p:blipFill>
        <p:spPr>
          <a:xfrm>
            <a:off x="77760" y="189000"/>
            <a:ext cx="9036000" cy="6462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66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Психологичес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безопас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сре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547640" y="4510080"/>
            <a:ext cx="6050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зультаты анкетирования школьник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езультаты анкетиров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27"/>
          <p:cNvGraphicFramePr/>
          <p:nvPr/>
        </p:nvGraphicFramePr>
        <p:xfrm>
          <a:off x="2484360" y="2349360"/>
          <a:ext cx="3527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3527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8"/>
          <p:cNvGraphicFramePr/>
          <p:nvPr/>
        </p:nvGraphicFramePr>
        <p:xfrm>
          <a:off x="0" y="3890880"/>
          <a:ext cx="298764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90880"/>
                    <a:ext cx="29876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29"/>
          <p:cNvGraphicFramePr/>
          <p:nvPr/>
        </p:nvGraphicFramePr>
        <p:xfrm>
          <a:off x="5873760" y="1268280"/>
          <a:ext cx="3340080" cy="35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3760" y="1268280"/>
                    <a:ext cx="3340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5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0" y="2781360"/>
          <a:ext cx="37512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37512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2484360" y="0"/>
          <a:ext cx="43196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0"/>
                    <a:ext cx="43196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076720" y="2914560"/>
          <a:ext cx="40672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914560"/>
                    <a:ext cx="40672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3030513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1"/>
          <p:cNvSpPr/>
          <p:nvPr/>
        </p:nvSpPr>
        <p:spPr>
          <a:xfrm>
            <a:off x="885960" y="1700280"/>
            <a:ext cx="7416720" cy="2449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279600" y="592200"/>
            <a:ext cx="2629080" cy="66672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ическ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служба школ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2627280" y="1916280"/>
            <a:ext cx="163836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Тематические лекции для уч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3808440" y="2913120"/>
            <a:ext cx="160020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Развивающие занятия с учащимис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5865840" y="2913120"/>
            <a:ext cx="144792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оведение психотре-нинг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1814400" y="2913120"/>
            <a:ext cx="1447920" cy="87624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Консультации для род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048280" y="1916280"/>
            <a:ext cx="182880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еподавание предмета психолог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Text Box 40"/>
          <p:cNvSpPr/>
          <p:nvPr/>
        </p:nvSpPr>
        <p:spPr>
          <a:xfrm>
            <a:off x="3635280" y="4437000"/>
            <a:ext cx="2173320" cy="43200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профилак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2390760" y="5199120"/>
            <a:ext cx="206712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4572000" y="5199120"/>
            <a:ext cx="208764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и деятельност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79280" y="5029200"/>
            <a:ext cx="2100240" cy="1639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явлений в школьном коллективе, групп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6783480" y="4998960"/>
            <a:ext cx="2166840" cy="1656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Выявление психологических особенностей и их влияние на личность школь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Line 48"/>
          <p:cNvSpPr/>
          <p:nvPr/>
        </p:nvSpPr>
        <p:spPr>
          <a:xfrm flipH="1">
            <a:off x="392220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Line 50"/>
          <p:cNvSpPr/>
          <p:nvPr/>
        </p:nvSpPr>
        <p:spPr>
          <a:xfrm flipH="1">
            <a:off x="1618920" y="4653000"/>
            <a:ext cx="198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Line 51"/>
          <p:cNvSpPr/>
          <p:nvPr/>
        </p:nvSpPr>
        <p:spPr>
          <a:xfrm flipV="1">
            <a:off x="5838840" y="4653000"/>
            <a:ext cx="1973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81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4608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Line 57"/>
          <p:cNvSpPr/>
          <p:nvPr/>
        </p:nvSpPr>
        <p:spPr>
          <a:xfrm>
            <a:off x="4284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Line 58"/>
          <p:cNvSpPr/>
          <p:nvPr/>
        </p:nvSpPr>
        <p:spPr>
          <a:xfrm flipV="1">
            <a:off x="5003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Line 59"/>
          <p:cNvSpPr/>
          <p:nvPr/>
        </p:nvSpPr>
        <p:spPr>
          <a:xfrm flipH="1">
            <a:off x="543348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Line 60"/>
          <p:cNvSpPr/>
          <p:nvPr/>
        </p:nvSpPr>
        <p:spPr>
          <a:xfrm>
            <a:off x="161928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826920" y="1159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1024" descr="Без имени-1"/>
          <p:cNvPicPr/>
          <p:nvPr/>
        </p:nvPicPr>
        <p:blipFill>
          <a:blip r:embed="rId1"/>
          <a:stretch/>
        </p:blipFill>
        <p:spPr>
          <a:xfrm>
            <a:off x="395280" y="981000"/>
            <a:ext cx="8280360" cy="57722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6" descr="Психология 1"/>
          <p:cNvPicPr/>
          <p:nvPr/>
        </p:nvPicPr>
        <p:blipFill>
          <a:blip r:embed="rId1"/>
          <a:stretch/>
        </p:blipFill>
        <p:spPr>
          <a:xfrm>
            <a:off x="179280" y="625320"/>
            <a:ext cx="8785440" cy="5607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8360" y="477720"/>
            <a:ext cx="5184720" cy="25196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антропологического подхода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43280" y="1125360"/>
            <a:ext cx="3384720" cy="6019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бразовательная сред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к система запросов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2095560"/>
            <a:ext cx="147636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Мониторинг запрос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35640" y="1952640"/>
            <a:ext cx="1728720" cy="8287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о-педагогический консилиум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75600" y="2095560"/>
            <a:ext cx="147312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ИСУ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340000" y="3176640"/>
            <a:ext cx="6553080" cy="8287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истемы традиционных этнических цен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(коллективизм, соборность, общинность)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40000" y="4292640"/>
            <a:ext cx="6553080" cy="1228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рофессиональных компетент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учителей. Совершенствование психологической культур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овышение квалификации педагогическ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чественные изменения кадров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340000" y="5805360"/>
            <a:ext cx="6553080" cy="6858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Взаимодействие с семьей,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как источника «культуры национального чувства и патриотической верности» (И. Ильин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478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8850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630072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419640" y="1773360"/>
            <a:ext cx="5508360" cy="42480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оздание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ически безопасной среды для всех участников образовательного пространств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на основ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спешности в обучени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эмоциональной устойчив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готовности к психологическим нагрузкам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толерантн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мения принимать решения  и нести ответственность за их последств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26"/>
          <p:cNvSpPr txBox="1"/>
          <p:nvPr/>
        </p:nvSpPr>
        <p:spPr>
          <a:xfrm>
            <a:off x="1547640" y="1773360"/>
            <a:ext cx="7417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Инновацион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дея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3573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оссийско-германском семинаре "Школа без стресс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российской конференции "Преподавание психологии как предмет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рамках Российско-германского проекта "Школа без стресса, май 2006 г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 – X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х рождественских образовательных чтения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псих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ют привлечению внимания к психической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7:16:14Z</dcterms:created>
  <dc:creator>Dmitry</dc:creator>
  <dc:description/>
  <dc:language>en-US</dc:language>
  <cp:lastModifiedBy>LEGION</cp:lastModifiedBy>
  <dcterms:modified xsi:type="dcterms:W3CDTF">2014-11-12T08:52:51Z</dcterms:modified>
  <cp:revision>27</cp:revision>
  <dc:subject/>
  <dc:title>Rr</dc:title>
</cp:coreProperties>
</file>