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D08E-4C80-4047-8094-4345CDFC10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ведующая кабинетом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таева Оксана Николаев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12C5-AEA7-4801-AAC9-DEE8C361D6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кабинета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663A-2A1D-4A61-8B77-54AC4EBE00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ekton Pro Ext"/>
              </a:rPr>
              <a:t>Наличие посадочных мес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14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ekton Pro Ext"/>
              </a:rPr>
              <a:t>Наличие рабочих секторо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Консультат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Диагнос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Психологической разгрузки (релакс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Организационно-метод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ekton Pro Ext"/>
              </a:rPr>
              <a:t>Игр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E651-1B4F-40C6-A919-C0550B81D5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ekton Pro Ext"/>
              </a:rPr>
              <a:t>Каталог учебно-методической литературы и пособий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Литература по общей, педагогической, социальной и возрастной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Учебники по психологии детей и взросл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Словари, справ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Методические пособ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Картотека игр, упра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Периодические из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Видеоматериалы (видеокассеты, лазерные диски, слай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ekton Pro Ext"/>
              </a:rPr>
              <a:t>Аудиоматериалы (аудиокассеты, лазерные дис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F444-A819-428A-95F4-7FB1BBDC42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750-1098-419A-B0C9-9189BC7A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5566-610A-42A8-97CF-17FC8687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8703-CA7A-4E82-BEDD-1B04D38D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B6EF-09EE-4BB3-BDC0-6CD03584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8525-957C-4823-9C67-441C2F0D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5E5D-86C1-49C6-9A98-005D9C26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B35A-9C5C-4CA2-B215-34CE0CF5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7B39-1C46-4DE9-9002-84A0B580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D080-5813-41BE-949D-D12197E3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5180-B907-4494-951F-CB32AC8B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9A89-104F-4287-A3C5-68B928A4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268-FCA7-41B3-9E16-629CE07C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7979-841C-4D69-8BD1-6D82608C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E194-ED46-4ED2-873F-9F1E83FD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FCBC-0BC2-48C3-B867-89619EAA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1BD3-5095-45BB-A1C7-ABD0E8684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E84C-C67A-4EBD-B374-E81F0ADA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69D-BFF5-404C-B8CB-4D9CCD4B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2B15-2F44-4809-BE46-15F9D3B4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71BD-604D-4192-B6C1-AA3D7D70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1EC-0DF9-4643-87E7-74524717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331E-1784-47BA-BA69-E3058942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206-A2F8-4865-8F70-F87E1CF8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3E3-04B2-4D85-8203-C9F9BCBB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2D2A-F396-4200-AA4D-E1B9CA42BE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4AE8-233B-4535-86BB-2862D1EE34C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79640" y="4764240"/>
            <a:ext cx="67816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ведующая кабинетом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атаева Оксана Николаев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990720" y="1863720"/>
            <a:ext cx="7772400" cy="170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аспорт кабинета педагога-психолог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лан кабинета психолог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0" y="1052640"/>
            <a:ext cx="6443640" cy="5805360"/>
            <a:chOff x="0" y="1052640"/>
            <a:chExt cx="6443640" cy="5805360"/>
          </a:xfrm>
        </p:grpSpPr>
        <p:sp>
          <p:nvSpPr>
            <p:cNvPr id="110" name="Rectangle 8"/>
            <p:cNvSpPr/>
            <p:nvPr/>
          </p:nvSpPr>
          <p:spPr>
            <a:xfrm>
              <a:off x="0" y="1052640"/>
              <a:ext cx="6443640" cy="58053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Игровое простран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рганизационно-методическое пространство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                                        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Зона релакса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776920" y="5018040"/>
              <a:ext cx="592560" cy="13546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5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>
              <a:off x="4443840" y="6275880"/>
              <a:ext cx="1184760" cy="4834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258720" y="5985720"/>
              <a:ext cx="1036800" cy="870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6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740520" y="1244160"/>
              <a:ext cx="1184760" cy="290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 rot="5400000">
              <a:off x="5852160" y="2916000"/>
              <a:ext cx="774000" cy="333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 rot="5400000">
              <a:off x="5852160" y="1658160"/>
              <a:ext cx="774000" cy="33300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2592000" y="1244160"/>
              <a:ext cx="1184760" cy="290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4369680" y="1244160"/>
              <a:ext cx="1184760" cy="2901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4962240" y="3469680"/>
              <a:ext cx="1481040" cy="483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нсультативное пространство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4962240" y="4437360"/>
              <a:ext cx="1481040" cy="2901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3480840" y="4437360"/>
              <a:ext cx="1481400" cy="290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1999800" y="4437360"/>
              <a:ext cx="1481040" cy="290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21"/>
            <p:cNvSpPr/>
            <p:nvPr/>
          </p:nvSpPr>
          <p:spPr>
            <a:xfrm>
              <a:off x="5406840" y="3953520"/>
              <a:ext cx="518400" cy="3870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22"/>
            <p:cNvSpPr/>
            <p:nvPr/>
          </p:nvSpPr>
          <p:spPr>
            <a:xfrm>
              <a:off x="5703120" y="2695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23"/>
            <p:cNvSpPr/>
            <p:nvPr/>
          </p:nvSpPr>
          <p:spPr>
            <a:xfrm>
              <a:off x="5703120" y="3082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24"/>
            <p:cNvSpPr/>
            <p:nvPr/>
          </p:nvSpPr>
          <p:spPr>
            <a:xfrm>
              <a:off x="3925440" y="124416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25"/>
            <p:cNvSpPr/>
            <p:nvPr/>
          </p:nvSpPr>
          <p:spPr>
            <a:xfrm>
              <a:off x="5776920" y="114768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26"/>
            <p:cNvSpPr/>
            <p:nvPr/>
          </p:nvSpPr>
          <p:spPr>
            <a:xfrm>
              <a:off x="6073200" y="230868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27"/>
            <p:cNvSpPr/>
            <p:nvPr/>
          </p:nvSpPr>
          <p:spPr>
            <a:xfrm>
              <a:off x="5703120" y="1534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28"/>
            <p:cNvSpPr/>
            <p:nvPr/>
          </p:nvSpPr>
          <p:spPr>
            <a:xfrm>
              <a:off x="5703120" y="1921680"/>
              <a:ext cx="370080" cy="29016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29"/>
            <p:cNvSpPr/>
            <p:nvPr/>
          </p:nvSpPr>
          <p:spPr>
            <a:xfrm>
              <a:off x="266616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30"/>
            <p:cNvSpPr/>
            <p:nvPr/>
          </p:nvSpPr>
          <p:spPr>
            <a:xfrm>
              <a:off x="325872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31"/>
            <p:cNvSpPr/>
            <p:nvPr/>
          </p:nvSpPr>
          <p:spPr>
            <a:xfrm>
              <a:off x="451800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32"/>
            <p:cNvSpPr/>
            <p:nvPr/>
          </p:nvSpPr>
          <p:spPr>
            <a:xfrm>
              <a:off x="503640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33"/>
            <p:cNvSpPr/>
            <p:nvPr/>
          </p:nvSpPr>
          <p:spPr>
            <a:xfrm>
              <a:off x="1036800" y="2792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34"/>
            <p:cNvSpPr/>
            <p:nvPr/>
          </p:nvSpPr>
          <p:spPr>
            <a:xfrm>
              <a:off x="518400" y="3179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35"/>
            <p:cNvSpPr/>
            <p:nvPr/>
          </p:nvSpPr>
          <p:spPr>
            <a:xfrm>
              <a:off x="133308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36"/>
            <p:cNvSpPr/>
            <p:nvPr/>
          </p:nvSpPr>
          <p:spPr>
            <a:xfrm>
              <a:off x="812880" y="1534680"/>
              <a:ext cx="370080" cy="2901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37"/>
            <p:cNvSpPr/>
            <p:nvPr/>
          </p:nvSpPr>
          <p:spPr>
            <a:xfrm>
              <a:off x="296280" y="124416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38"/>
            <p:cNvSpPr/>
            <p:nvPr/>
          </p:nvSpPr>
          <p:spPr>
            <a:xfrm>
              <a:off x="2147760" y="1244160"/>
              <a:ext cx="370080" cy="290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39"/>
            <p:cNvSpPr/>
            <p:nvPr/>
          </p:nvSpPr>
          <p:spPr>
            <a:xfrm>
              <a:off x="1851480" y="3566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40"/>
            <p:cNvSpPr/>
            <p:nvPr/>
          </p:nvSpPr>
          <p:spPr>
            <a:xfrm>
              <a:off x="1258920" y="3953520"/>
              <a:ext cx="370080" cy="2901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41"/>
            <p:cNvSpPr/>
            <p:nvPr/>
          </p:nvSpPr>
          <p:spPr>
            <a:xfrm rot="19411800">
              <a:off x="624600" y="3178080"/>
              <a:ext cx="1376280" cy="762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иагностическое пространство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42"/>
            <p:cNvSpPr/>
            <p:nvPr/>
          </p:nvSpPr>
          <p:spPr>
            <a:xfrm>
              <a:off x="296280" y="6566040"/>
              <a:ext cx="1258920" cy="290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43"/>
            <p:cNvSpPr/>
            <p:nvPr/>
          </p:nvSpPr>
          <p:spPr>
            <a:xfrm>
              <a:off x="2147760" y="6275880"/>
              <a:ext cx="740520" cy="580320"/>
            </a:xfrm>
            <a:prstGeom prst="flowChartMerg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Group 44"/>
            <p:cNvGrpSpPr/>
            <p:nvPr/>
          </p:nvGrpSpPr>
          <p:grpSpPr>
            <a:xfrm>
              <a:off x="0" y="1824840"/>
              <a:ext cx="295920" cy="387000"/>
              <a:chOff x="0" y="1824840"/>
              <a:chExt cx="295920" cy="387000"/>
            </a:xfrm>
          </p:grpSpPr>
          <p:sp>
            <p:nvSpPr>
              <p:cNvPr id="147" name="Line 45"/>
              <p:cNvSpPr/>
              <p:nvPr/>
            </p:nvSpPr>
            <p:spPr>
              <a:xfrm>
                <a:off x="0" y="2115360"/>
                <a:ext cx="22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46"/>
              <p:cNvSpPr/>
              <p:nvPr/>
            </p:nvSpPr>
            <p:spPr>
              <a:xfrm>
                <a:off x="0" y="1824840"/>
                <a:ext cx="22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47"/>
              <p:cNvSpPr/>
              <p:nvPr/>
            </p:nvSpPr>
            <p:spPr>
              <a:xfrm>
                <a:off x="222120" y="2115360"/>
                <a:ext cx="73800" cy="9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Rectangle 48"/>
          <p:cNvSpPr/>
          <p:nvPr/>
        </p:nvSpPr>
        <p:spPr>
          <a:xfrm>
            <a:off x="6680160" y="1748880"/>
            <a:ext cx="2284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– рабочий стол психолога; 2 – журнальный столик; 3 – стол ученический; 4 – стул ученический; 5 – диван; 6 – кресло; 7 – большой цветок; 8 –.шкаф с картотеками; 9 – книжный шкаф; 10 – шкаф с игруш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Tekton Pro Ext"/>
              </a:rPr>
              <a:t>Наличие посадочных мест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Monotype Corsiva"/>
              </a:rPr>
              <a:t> </a:t>
            </a:r>
            <a:r>
              <a:rPr b="1" i="1" lang="ru-RU" sz="4000" spc="-1" strike="noStrike" u="sng">
                <a:solidFill>
                  <a:srgbClr val="ffffb7"/>
                </a:solidFill>
                <a:uFillTx/>
                <a:latin typeface="Monotype Corsiva"/>
              </a:rPr>
              <a:t>14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2060280"/>
            <a:ext cx="80074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ekton Pro Ext"/>
              </a:rPr>
              <a:t>Наличие рабочих секторов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Консультативн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Диагност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Психологической разгрузки (релаксаци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Организационно-методиче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ekton Pro Ext"/>
              </a:rPr>
              <a:t>Игро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Tekton Pro Ext"/>
              </a:rPr>
              <a:t>Каталог учебно-методической литературы и пособий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Литература по общей, педагогической, социальной и возрастной псих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Учебники по психологии детей и взросл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Словари, справоч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Методические пособи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Картотека игр, упражн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Периодические из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Видеоматериалы (видеокассеты, лазерные диски, слайд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99ff66"/>
              </a:buClr>
              <a:buFont typeface="Tekton Pro Ex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ekton Pro Ext"/>
              </a:rPr>
              <a:t>Аудиоматериалы (аудиокассеты, лазерные диск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3:41:37Z</dcterms:created>
  <dc:creator>Катаева О.Н.</dc:creator>
  <dc:description/>
  <dc:language>en-US</dc:language>
  <cp:lastModifiedBy>LEGION</cp:lastModifiedBy>
  <dcterms:modified xsi:type="dcterms:W3CDTF">2014-11-12T09:31:53Z</dcterms:modified>
  <cp:revision>6</cp:revision>
  <dc:subject/>
  <dc:title>Слайд 1</dc:title>
</cp:coreProperties>
</file>