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848B-A248-4F4F-94D9-07F4050C93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едующая кабинетом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аева Оксана Николаев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BDC7-4265-4471-8755-FFB6123669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кабинета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1E8E-8652-4534-A02F-7DB1AE14FD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ekton Pro Ext"/>
              </a:rPr>
              <a:t>Наличие посадочных мес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1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Наличие рабочих сектор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Консульт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Диагно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Психологической разгрузки (релакс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Организационно-метод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Игр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7284-E1E1-47BE-B0CC-CA5E27BA75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E229-0259-4BA7-B66A-736DFCF19B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B9A-E1BF-4409-9091-81358014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024-6F2B-4EC0-A84F-27D92E47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161-CE82-4CD4-AD36-24D31873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BCB-2E70-4D79-A083-BA013B5F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AFDD-C24A-4DB8-ADF2-467FDEFB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75A9-6A21-4FC8-9F11-6E28992A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6DBA-9C9B-4C9D-994A-2941A946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1377-8059-4472-A727-A1997FA9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A5B4-09F8-4B8A-BDD2-332C7F9F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2C9F-6DE4-43A6-8D95-B34654F1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A029-868D-48F6-B3BF-EA8511F2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872-9829-4677-B6A5-4454D234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2C12-B141-4F94-AB75-60D5D238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33E8-39F3-418F-95F2-546BB8E4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0634-82E1-4C6A-A3B0-D5F12702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67A3-B126-4B11-96E7-1B4DF1DE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B912-E736-4F85-B7C9-6E9643D6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AFE-442C-4C8E-8CC1-D86A2586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82A-8376-43ED-816E-4096EABB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0D3-E069-47FF-B0A4-467A049A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F650-9A90-40A8-973A-7775C42C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178-7DC6-47DC-8139-ECC1B9C9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8DC-5985-4457-8E22-9859D368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A2B-6E1E-4B2D-9D32-7A278789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8A9A-8D90-4B33-A126-A898AD1EA4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D28A-EF3C-4766-BB34-5EFAE9A7C4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79640" y="4764240"/>
            <a:ext cx="67816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ведующая кабинетом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таева Оксана Николаев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90720" y="1863720"/>
            <a:ext cx="7772400" cy="170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спорт кабинета педагога-психолог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лан кабинета психолог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0" y="1052640"/>
            <a:ext cx="6443640" cy="5805360"/>
            <a:chOff x="0" y="1052640"/>
            <a:chExt cx="6443640" cy="5805360"/>
          </a:xfrm>
        </p:grpSpPr>
        <p:sp>
          <p:nvSpPr>
            <p:cNvPr id="110" name="Rectangle 8"/>
            <p:cNvSpPr/>
            <p:nvPr/>
          </p:nvSpPr>
          <p:spPr>
            <a:xfrm>
              <a:off x="0" y="1052640"/>
              <a:ext cx="6443640" cy="5805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гровое простран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рганизационно-методическое пространст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она релакс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776920" y="5018040"/>
              <a:ext cx="592560" cy="1354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4443840" y="6275880"/>
              <a:ext cx="1184760" cy="4834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258720" y="5985720"/>
              <a:ext cx="1036800" cy="87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74052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 rot="5400000">
              <a:off x="5852160" y="291600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 rot="5400000">
              <a:off x="5852160" y="165816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259200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36968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4962240" y="3469680"/>
              <a:ext cx="1481040" cy="483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сультативное простра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4962240" y="4437360"/>
              <a:ext cx="1481040" cy="290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3480840" y="4437360"/>
              <a:ext cx="1481400" cy="290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999800" y="4437360"/>
              <a:ext cx="1481040" cy="290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5406840" y="3953520"/>
              <a:ext cx="518400" cy="387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5703120" y="2695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23"/>
            <p:cNvSpPr/>
            <p:nvPr/>
          </p:nvSpPr>
          <p:spPr>
            <a:xfrm>
              <a:off x="5703120" y="3082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24"/>
            <p:cNvSpPr/>
            <p:nvPr/>
          </p:nvSpPr>
          <p:spPr>
            <a:xfrm>
              <a:off x="392544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25"/>
            <p:cNvSpPr/>
            <p:nvPr/>
          </p:nvSpPr>
          <p:spPr>
            <a:xfrm>
              <a:off x="5776920" y="1147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26"/>
            <p:cNvSpPr/>
            <p:nvPr/>
          </p:nvSpPr>
          <p:spPr>
            <a:xfrm>
              <a:off x="6073200" y="2308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>
              <a:off x="5703120" y="1534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8"/>
            <p:cNvSpPr/>
            <p:nvPr/>
          </p:nvSpPr>
          <p:spPr>
            <a:xfrm>
              <a:off x="5703120" y="1921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29"/>
            <p:cNvSpPr/>
            <p:nvPr/>
          </p:nvSpPr>
          <p:spPr>
            <a:xfrm>
              <a:off x="266616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30"/>
            <p:cNvSpPr/>
            <p:nvPr/>
          </p:nvSpPr>
          <p:spPr>
            <a:xfrm>
              <a:off x="325872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45180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32"/>
            <p:cNvSpPr/>
            <p:nvPr/>
          </p:nvSpPr>
          <p:spPr>
            <a:xfrm>
              <a:off x="50364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33"/>
            <p:cNvSpPr/>
            <p:nvPr/>
          </p:nvSpPr>
          <p:spPr>
            <a:xfrm>
              <a:off x="1036800" y="2792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34"/>
            <p:cNvSpPr/>
            <p:nvPr/>
          </p:nvSpPr>
          <p:spPr>
            <a:xfrm>
              <a:off x="518400" y="3179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35"/>
            <p:cNvSpPr/>
            <p:nvPr/>
          </p:nvSpPr>
          <p:spPr>
            <a:xfrm>
              <a:off x="13330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36"/>
            <p:cNvSpPr/>
            <p:nvPr/>
          </p:nvSpPr>
          <p:spPr>
            <a:xfrm>
              <a:off x="8128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37"/>
            <p:cNvSpPr/>
            <p:nvPr/>
          </p:nvSpPr>
          <p:spPr>
            <a:xfrm>
              <a:off x="29628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38"/>
            <p:cNvSpPr/>
            <p:nvPr/>
          </p:nvSpPr>
          <p:spPr>
            <a:xfrm>
              <a:off x="214776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39"/>
            <p:cNvSpPr/>
            <p:nvPr/>
          </p:nvSpPr>
          <p:spPr>
            <a:xfrm>
              <a:off x="1851480" y="3566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40"/>
            <p:cNvSpPr/>
            <p:nvPr/>
          </p:nvSpPr>
          <p:spPr>
            <a:xfrm>
              <a:off x="1258920" y="3953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41"/>
            <p:cNvSpPr/>
            <p:nvPr/>
          </p:nvSpPr>
          <p:spPr>
            <a:xfrm rot="19411800">
              <a:off x="624600" y="3178080"/>
              <a:ext cx="1376280" cy="762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иагностическое простран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2"/>
            <p:cNvSpPr/>
            <p:nvPr/>
          </p:nvSpPr>
          <p:spPr>
            <a:xfrm>
              <a:off x="296280" y="6566040"/>
              <a:ext cx="1258920" cy="290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43"/>
            <p:cNvSpPr/>
            <p:nvPr/>
          </p:nvSpPr>
          <p:spPr>
            <a:xfrm>
              <a:off x="2147760" y="6275880"/>
              <a:ext cx="740520" cy="580320"/>
            </a:xfrm>
            <a:prstGeom prst="flowChartMerg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44"/>
            <p:cNvGrpSpPr/>
            <p:nvPr/>
          </p:nvGrpSpPr>
          <p:grpSpPr>
            <a:xfrm>
              <a:off x="0" y="1824840"/>
              <a:ext cx="295920" cy="387000"/>
              <a:chOff x="0" y="1824840"/>
              <a:chExt cx="295920" cy="387000"/>
            </a:xfrm>
          </p:grpSpPr>
          <p:sp>
            <p:nvSpPr>
              <p:cNvPr id="147" name="Line 45"/>
              <p:cNvSpPr/>
              <p:nvPr/>
            </p:nvSpPr>
            <p:spPr>
              <a:xfrm>
                <a:off x="0" y="211536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46"/>
              <p:cNvSpPr/>
              <p:nvPr/>
            </p:nvSpPr>
            <p:spPr>
              <a:xfrm>
                <a:off x="0" y="182484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47"/>
              <p:cNvSpPr/>
              <p:nvPr/>
            </p:nvSpPr>
            <p:spPr>
              <a:xfrm>
                <a:off x="222120" y="2115360"/>
                <a:ext cx="73800" cy="9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Rectangle 48"/>
          <p:cNvSpPr/>
          <p:nvPr/>
        </p:nvSpPr>
        <p:spPr>
          <a:xfrm>
            <a:off x="6680160" y="1748880"/>
            <a:ext cx="228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– рабочий стол психолога; 2 – журнальный столик; 3 – стол ученический; 4 – стул ученический; 5 – диван; 6 – кресло; 7 – большой цветок; 8 –.шкаф с картотеками; 9 – книжный шкаф; 10 – шкаф с игруш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Tekton Pro Ext"/>
              </a:rPr>
              <a:t>Наличие посадочных мест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Monotype Corsiva"/>
              </a:rPr>
              <a:t> </a:t>
            </a:r>
            <a:r>
              <a:rPr b="1" i="1" lang="ru-RU" sz="4000" spc="-1" strike="noStrike" u="sng">
                <a:solidFill>
                  <a:srgbClr val="ffffb7"/>
                </a:solidFill>
                <a:uFillTx/>
                <a:latin typeface="Monotype Corsiva"/>
              </a:rPr>
              <a:t>14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ekton Pro Ext"/>
              </a:rPr>
              <a:t>Наличие рабочих сектор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Консультатив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Диагност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Психологической разгрузки (релакса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Организационно-метод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Игр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3:41:37Z</dcterms:created>
  <dc:creator>Катаева О.Н.</dc:creator>
  <dc:description/>
  <dc:language>en-US</dc:language>
  <cp:lastModifiedBy>LEGION</cp:lastModifiedBy>
  <dcterms:modified xsi:type="dcterms:W3CDTF">2014-11-12T09:31:53Z</dcterms:modified>
  <cp:revision>6</cp:revision>
  <dc:subject/>
  <dc:title>Слайд 1</dc:title>
</cp:coreProperties>
</file>