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78D6-2A0C-4154-907C-1CDF1DE6E6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ь психолога при работе в различных медицинских учреждениях </a:t>
            </a:r>
            <a:br>
              <a:rPr sz="1200"/>
            </a:br>
            <a:r>
              <a:rPr b="1" i="1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сихолог и медик: точки взаимодейст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А.Коваль-Зайц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ППУ, ф-т КС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нейро- и патопсих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6585-2A38-46FD-9A0A-75DB28EC51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сти, возникающие во взаимодействии врача и медицинского психоло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рачи клиниц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ют, чт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бождение или усиление тревоги в ходе психотерапии, приведет к подрыву позитивного эффекта лекарств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дицинские психолог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проблему в другом: редукция тревоги, быстро достигаемая за счет психотропной терапии, приводит к избеганию личностной активности вообще и активной роли пациента в процессе психологической коррекции и психотерапии в час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F8A6-B212-4563-BD7E-EAD1E40E21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«взаимодействия – прикрепл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медицинского психолога с соматическими больными с коморбидными психическими расстройствами, осуществляется в сотрудничестве с лечащим врачом, совместно обсуждаю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лоб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анамнеза бо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ый режим психотерапевтического или фармакологического лече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сотрудничества включен в дальнейшую работу врача.  Лечение касается  как  соматической, так и психической сфе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повторные консультации психологом тех же больных и повторные собеседования с врачом-интернистом. Модель позволяет преодолеть недостаточную осведомленность врачей-интернистов в области медицинской психологии/психиатрии, а также снизить потребность здравоохранения в специалистах психологах/психиат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B0BC-61B4-4DF2-B329-7C0749ADD5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«взаимодействия – прикрепл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долеть недостаточную осведомленность врачей-интернистов в области общей и медицинской псих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зить потребность здравоохранения в специалистах психологах/психиат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5159-6B91-45D2-9E48-837C206E8E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сихиатрического стацион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дифференциальной диагностики посредство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изированного экспериментального подхода с опорой на системный качественный анал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ого использования математических методов обработки, где это необходи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я качественных и количественных методов оце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BA67-5003-4DCC-BCDF-E0FE73A39C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типы взаимо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специализированного экспериментально-психологического исследования какого-либо определенного психического процесса (памяти, мышления, восприятия и т.п.) у аномальных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ычном диагностическом патопсихологическом обследовании детей, больных шизофренией с определенным набором расстройств (какой-либо фиксированный синдром, наличие сопутствующих расстройств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036D-6973-4177-8548-541568C6EC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обследования может опреде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кретизиру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е по основным вопросам и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авит собственную задачу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других видов деятельности (научной, коррекционной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FE9D-9289-45FC-8096-0E6F0A357B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й ти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заимодействия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и с патологией влеч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синдром патологии влечений (разного генеза), выявляется свой набор верифицируемых клинико-психологическими методами нарушений психического развития (снижение уровня обобщения, личностные особен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и с циклотимоподоб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ройствами  по большинству характеристик укладываются в рамки индивидуальных различий, важно, что особым образом знаком, соответствующим аффекту, окрашены все психологические параметры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58DC-8A09-4C2C-8270-D364FE3A2D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EA15-BCF1-49E3-9C21-666352490F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взаимодействия психологов и медиков в различ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оликлинического звена (на примере работы в женской консульт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соматической кли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сихиатрического стацион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44CB-C482-43ED-8811-8D876538AD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сихолога в условиях поликлинического звена медицинской помощ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 примере работы в женской консульта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правления женщин к психологу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едотвращении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фликтных ситуаций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мье, на работе и т.д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в выработк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тегии пове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обыч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рек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х откло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й сферы (депрессивные состояния, неустойчивость настроения, невротические реа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ение страхов и фобий различного гене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причины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ли психогенного факто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оянии пациен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F0E9-6BE9-485E-A4FE-E89B9730D5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ациентками в ходе психологической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ация запроса на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отивации на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возможные «плюсы» и «минусы» работы с психоло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сбор анамнеза и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1B3E-C8FE-47B7-BA34-47AAA19105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братной связи: устное обсуждение или написание заключения под возникающие за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денциальность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5511-AB71-41C9-8597-984B86E7D8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, необходимые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дицинские знания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ческие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3044-D12B-4BF7-B439-5311F3C03F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, необходимые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ведения психокоррекционной  работы, компетентность при оказании помощи в случае посттравматических расстройств (например, при потере ребе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работать с разного рода страхами (страх роженицы за свое здоровье, за здоровье ребенка, перед родами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й опыт групповой работы для создания в палатах отделения благоприятного психологического клим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в области семейной психологии и психотерап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ориентация в литературе по данному вопросу (в особенности научно-популярной и периодическ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3F24-0B95-4B58-909C-EC1B02824B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соматической клиники (модель «взаимодействие-прикрепление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ндивидуальной клинической модели болезни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дифференцированного алгоритма поэтапной тактики оказания медицинской помощи в зависимости от индивидуальной клинической картины боле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CFCD-7C79-4CA5-8800-454556964D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1CA-B589-4D01-A225-749A0CCB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A70A-F93F-4A36-85BE-CACEBEA7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CCE7-50BD-406D-8342-99C46F5B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C68-F8C2-43DE-9C27-16F0AFEC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3212-C79B-4A36-B1C3-9F9B6266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ED1D-750F-44CD-930A-EEE995FC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F173-1CB9-490F-B4D9-CD904B34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F032-416D-4DFD-84E8-4DCDBEAD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0FDC-5641-4382-A036-FD6D056A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FF27-059A-4AB7-A6E3-1900D10D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B917-495C-47AF-8C27-59A44188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963-A593-47D6-BFDE-D7B17E1F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BA54-3989-4F3B-8695-731659BD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B7A6-FFF3-4154-A806-D15CC3E0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B00F-77A7-411D-B076-94469AA4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FD0D-61F3-49B3-9A7C-F13113A4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0C20-F312-460C-AD7C-3F887F25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9EB7EA-6020-4E9F-A2FC-6038291A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7568B-92ED-4AFF-B889-C1076134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19580-9A24-4435-BFDF-A9488E03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77A6A-6482-4066-A516-74189706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A9522-9E71-4D33-A359-DB167D09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0F0-8C60-4A2C-B865-DE2A76A9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71841-7014-45D8-8C1C-289CE481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82F94-570A-4BE3-9798-E20D10C1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D0023-B8CA-4271-BE71-1662BC5C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ADC2B2-3F58-4C2F-BB5F-B73B90F2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6DCBC-0B7E-489D-B4D6-D5439A66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F6247-8480-4993-B694-30CFAEB3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73D3A9-F918-4146-8A71-12E4E8D4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E5954-3B55-4D08-85C5-C89B8C79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F4E9C-6F5B-4FB1-9FAF-A8DAB827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B27D6-D7D5-40A7-8C17-469B2565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443-E26E-44E8-85FE-1DCF16F4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08545-FBC4-4B99-9778-3913679D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EB7EA-775D-4C79-A42D-D304729A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63373-7C75-4A14-AE34-54D0CF5C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B5082-1128-4EDC-A5E8-7F638B58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24D1C-0ACE-493A-AD41-C3C3FDAD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CF799-EC1E-4FAB-B427-147BC1AC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5DFF0-CF6C-4402-9F0C-BAE1A4AD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42B9F-050A-4779-8D84-76F47CE4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7380F-DEDA-421C-B635-DB471FF4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7A71-40D7-459F-8BFD-F420B7E6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A98-E35F-4B03-BF47-B6260EAD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EB36-C523-4973-A5CF-92984569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516-2BB2-4AA7-94A7-8BB313BA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C27-735F-4FC3-B770-092AF715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9A09-30A6-4E8C-B605-0ADF6DEB04C0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C7C1-69D6-4C69-99FD-A25D9C609C5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219F-0162-45D4-B13C-C7AD24C58BD1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44D8-DA0F-4F11-BD51-AB75354CD0D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707E-33B0-4D95-AF40-F871FB8E4FF6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04E4-E1A7-4CE6-B03E-AA7ECD5CDB7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3517-989B-4D04-8A0A-C79FA624B21E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0017-FFE7-4C5E-A82D-A81C9E83BD3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ь психолога при работе в различных медицинских учреждениях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сихолог и медик: точки взаимодействия)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066680" y="3900240"/>
            <a:ext cx="685800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А.Коваль-Зайце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МГППУ, ф-т КСП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федра нейро- и патопсихолог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Рисунок 4" descr="Изображение 001(1).jpg"/>
          <p:cNvPicPr/>
          <p:nvPr/>
        </p:nvPicPr>
        <p:blipFill>
          <a:blip r:embed="rId1"/>
          <a:stretch/>
        </p:blipFill>
        <p:spPr>
          <a:xfrm>
            <a:off x="0" y="3886200"/>
            <a:ext cx="2209680" cy="29718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Трудности, возникающие во взаимодействии врача и медицинского психолога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рачи клиницисты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читают, что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вобождение или усиление тревоги в ходе психотерапии, приведет к подрыву позитивного эффекта лекарственного лече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Медицинские психологи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идят проблему в другом: редукция тревоги, быстро достигаемая за счет психотропной терапии, приводит к избеганию личностной активности вообще и активной роли пациента в процессе психологической коррекции и психотерапии в частнос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«взаимодействия – прикреплен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абота медицинского психолога с соматическими больными с коморбидными психическими расстройствами, осуществляется в сотрудничестве с лечащим врачом, совместно обсуждаются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жалобы,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собенности анамнеза больного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едлагаемый режим психотерапевтического или фармакологического лечения больного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тог сотрудничества включен в дальнейшую работу врача.  Лечение касается  как  соматической, так и психической сферы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озможны повторные консультации психологом тех же больных и повторные собеседования с врачом-интернистом. Модель позволяет преодолеть недостаточную осведомленность врачей-интернистов в области медицинской психологии/психиатрии, а также снизить потребность здравоохранения в специалистах психологах/психиатрах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«взаимодействия – прикреплен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1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дель позволя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3600" indent="1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одолеть недостаточную осведомленность врачей-интернистов в области общей и медицинской психолог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3600" indent="1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низить потребность здравоохранения в специалистах психологах/психиатр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психолога в условиях психиатрического стациона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шение вопросов дифференциальной диагностики посредством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дивидуализированного экспериментального подхода с опорой на системный качественный анализ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валифицированного использования математических методов обработки, где это необходим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менения качественных и количественных методов оценк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220968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ыделяют типы взаимодействия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рамках специализированного экспериментально-психологического исследования какого-либо определенного психического процесса (памяти, мышления, восприятия и т.п.) у аномальных дете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 обычном диагностическом патопсихологическом обследовании детей, больных шизофренией с определенным набором расстройств (какой-либо фиксированный синдром, наличие сопутствующих расстройств и др.)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динамическом (в том числе катамнестическом) экспериментальном наблюдении детей, впервые заболевших, или имеющих определенный тип  и тяжесть течения заболев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местный анализ индивидуальных сложных случаев (в виде мультидисциплинарных консилиумов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дельные типы взаимодействия, их сочетание в совместной работе над проблемой специфики проявлений психического дизонтогенеза при шизофрении в детском возраст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дачу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сихологического обследования может определять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рач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сихоло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нкретизируе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ее по основным вопросам ил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тавит собственную задачу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амках других видов деятельности (научной, коррекционной и т.п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316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мплексный тип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заимодействия специалис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патологией влечений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синдром патологии влечений (разного генеза), выявляется свой набор верифицируемых клинико-психологическими методами нарушений психического развития (снижение уровня обобщения, личностные особенности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циклотимоподобным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тройствами  по большинству характеристик укладываются в рамки индивидуальных различий, важно, что особым образом знаком, соответствующим аффекту, окрашены все психологические параметры деятельн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АСИБО ЗА ВНИМАНИ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Формы взаимодействия психологов и медиков в различных учреждениях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поликлинического звена (на примере работы в женской консультации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соматической клини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психиатрического стационар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Работа психолога в условиях поликлинического звена медицинской помощи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(на примере работы в женской консультации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Цели направления женщин к психологу 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щь в </a:t>
            </a: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разрешении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 предотвращении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нфликтных ситуаций (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емье, на работе и т.д. 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щь в выработке </a:t>
            </a: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стратегии поведения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необычной ситуаци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ррекция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сихосоматических отклонений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эмоциональной сферы (депрессивные состояния, неустойчивость настроения, невротические реакции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странение страхов и фобий различного генез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ыявление причины и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оли психогенного фактора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остоянии пациентки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с пациентками в ходе психологической консультац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кретизация запроса на помощ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мотивации на помощ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казать возможные «плюсы» и «минусы» работы с психолог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полнительный сбор анамнеза и диагност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ррекционная рабо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хнические пробле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уществление обратной связи: устное обсуждение или написание заключения под возникающие запро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иденциальность информа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ния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Медицинские знания-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сихологические зна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ния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Медицинские знания-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сихологические зна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выки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пыт ведения психокоррекционной  работы, компетентность при оказании помощи в случае посттравматических расстройств (например, при потере ребенка)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мение работать с разного рода страхами (страх роженицы за свое здоровье, за здоровье ребенка, перед родами и др.)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чальный опыт групповой работы для создания в палатах отделения благоприятного психологического клима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выки в области семейной психологии и психотерапи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вободная ориентация в литературе по данному вопросу (в особенности научно-популярной и периодической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абота психолога в условиях соматической клиники (модель «взаимодействие-прикрепление»)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2361960"/>
            <a:ext cx="91440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индивидуальной клинической модели болезни пац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дифференцированного алгоритма поэтапной тактики оказания медицинской помощи в зависимости от индивидуальной клинической картины болезн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9:54:42Z</dcterms:modified>
  <cp:revision>31</cp:revision>
  <dc:subject/>
  <dc:title>Роль психолога при работе в различных медицинских учреждениях  (психолог и медик: точки взаимодействия)</dc:title>
</cp:coreProperties>
</file>