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748C-3F1B-4756-8ADD-3FB03BAA39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1200"/>
            </a:b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0C4A-D91F-4C0B-974C-69D2C6F0BA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, возникающие во взаимодействии врача и медицинского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рачи клиниц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ют, чт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дицинские психолог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5E46-E91E-49EC-A8D0-F737E62E0C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лоб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анамнеза бо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ый режим психотерапевтического или фармакологического лече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124B-A59C-469B-B930-787E0D639D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1829-F4CE-4E3B-B842-977D60481E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дифференциальной диагностики посредство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я качественных и количественных методов оце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5153-655B-41DA-9E3C-75DD604799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типы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034C-843B-4000-B81B-1643AAE78C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обследования может опреде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кретиз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е по основным вопросам и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авит собственную задачу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ругих видов деятельности (научной, коррекционной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DE2E-90B4-453D-B8BB-5D60B9522C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й т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заимодействия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патологией влеч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циклотимоподоб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3572-36C2-4EF6-9AD7-3A64100DC3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6794-3DCF-49DB-93E2-A80D49C961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AF27-85F3-4492-AC7A-2BF012A7F8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правления женщин к психологу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едотвращен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фликтных ситуаций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мье, на работе и т.д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выработ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и пове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обыч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х откло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страхов и фобий различного гене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причины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ли психогенного фак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оянии пациен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F668-37E0-42E6-A469-094824C3D9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ациентками в ходе 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я запроса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отивации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возможные «плюсы» и «минусы» работы с психоло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сбор анамнеза и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F6E0-2EA5-45DB-9535-30AF91922E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сть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76E5-DF51-4858-A2A3-93A0343063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ие знания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ие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B6DD-6865-4BEF-950D-FF468013A9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в области семейной психологии и психотерап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3AA4-C1BD-46E2-9E8F-2B3BDB3F12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ндивидуальной клинической модели болезни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A267-8DD9-4E98-826C-045D7E1E61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4E8-EAA9-4339-A99E-CD6BEB69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B45-3F57-4C79-AC31-5592210C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F75-CA59-496F-BCF7-CAFE8C12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3F5-0282-4270-AF55-81882FA6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1D7E-205B-4F25-8446-5CAF4770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1C01-FCAA-4377-BF33-C42511D4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8F95-228E-443E-AFC3-DC7DF9AE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E573-3366-4C0F-BF7F-A17FC2B7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34B4-CA24-466C-B843-C79C5552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ABD2-2FEF-4DC2-8003-7324D4CF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36F2-753D-4FF2-9257-3442FDB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9D0-0193-4FEA-AE5F-EC4C067F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35CC-6E25-4455-AE09-B0F63FD0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96A4-B6E5-4742-A110-15158719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73C3-DCFE-475A-BC4D-F0A2C34F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E621-487F-412D-9D91-7D413021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F7E1-BF30-4764-8762-23336896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E049A-41EE-499A-BDB9-B9C6D22C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25110-058A-4ABC-B6D6-8CDD4B98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65DAD-2F9C-404D-ADD2-49519EA8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583F8-C315-4D1F-B5E3-39BD8259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6E8A0-8996-4299-B264-2C91BB3C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75F-4D02-45B7-AF86-233C6259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31AB8-46B0-4027-A042-665AD102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2E924-179A-49DD-BEF8-5C3967A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97170-37A0-46B8-8098-0F68F52A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9F840-E0B3-4C2C-9DDF-8C21C990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5C1FD-178B-4A87-A637-33C6F55D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13FE5-C1E6-4C09-A00E-601C22E8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112E1-51B5-48F3-A15F-6D56A612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A21E2-2F58-499F-9CD6-C58741EF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D1C7-01BE-4029-9196-F4559A4C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9E2D3-E343-4BD8-AADC-4FBD94E9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596-3236-41E5-B1D3-3F03A3DF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8A2E-5378-44BC-990D-6B4257A5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C06D-02BD-4181-8C17-7A230E76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76885-96AB-429F-ACBA-683D4C7A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B5F05-F3FA-4F53-9885-63D86C5E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D547-DF4F-4938-BE36-0D7A4EC7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1ADBA-4BFA-4639-81BD-2522B820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9EA78-A8F1-4DC0-89FC-2C207C8B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9F607-A09F-4426-A151-EBF974CF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0C3BB-2B28-4222-A233-DF4C45F6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98B-806A-478B-9F6A-B3663293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CEB-F133-43CB-8140-3582AC4B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13E-3DE1-4F88-A3CF-7A7707A7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C66-E8FB-4B80-A06D-5EA08E31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6AC-8BD9-4012-BE48-804D4AD9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FE79-CEA7-46C6-8BB5-B0232CF4F9B4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183B-F4A6-4F55-99CC-6FF7E9B8DCC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BD53-7272-4B32-A6AD-FEBBF27700F7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D3AB-A4F8-46CF-B93B-DA14F7EA322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6B49-6F30-42BB-8CDD-1A9AC6473B94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E0CF-C60F-4D01-8520-95205337A3E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BB64-D618-4A1D-9BEA-351C37963838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0A14-10DC-41CE-8652-710B0E57294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680" y="3900240"/>
            <a:ext cx="68580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Рисунок 4" descr="Изображение 001(1).jpg"/>
          <p:cNvPicPr/>
          <p:nvPr/>
        </p:nvPicPr>
        <p:blipFill>
          <a:blip r:embed="rId1"/>
          <a:stretch/>
        </p:blipFill>
        <p:spPr>
          <a:xfrm>
            <a:off x="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рудности, возникающие во взаимодействии врача и медицинского психолога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рачи клиницист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читают, что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Медицинские психологи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жалобы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обенности анамнеза больного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едлагаемый режим психотерапевтического или фармакологического лечения больного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1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дель позволя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низить потребность здравоохранения в специалистах психологах/психиатр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психиатрического стациона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шение вопросов дифференциальной диагностики посредством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нения качественных и количественных методов оцен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220968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деляют типы взаимодействия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динамическом (в том числе катамнестическом) экспериментальном наблюдении детей, впервые заболевших, или имеющих определенный тип  и тяжесть течения заболев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местный анализ индивидуальных сложных случаев (в виде мультидисциплинарных консилиумов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дельные типы взаимодействия, их сочетание в совместной работе над проблемой специфики проявлений психического дизонтогенеза при шизофрении в детском возраст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дачу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сихологического обследования может определя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рач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сихоло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нкретизируе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ее по основным вопросам ил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тавит собственную задачу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амках других видов деятельности (научной, коррекционной и т.п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316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мплексный тип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заимодействия специалис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патологией влечений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циклотимоподобным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соматической клин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сихиатрического стационар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Цели направления женщин к психологу 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разрешении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 предотвращени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фликтных ситуаций (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емье, на работе и т.д. 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выработке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тратегии поведения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необычной ситуац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ррекц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сихосоматических отклонени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странение страхов и фобий различного генез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ыявление причины и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оли психогенного фактора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остоянии пациентк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ациентками в ходе психологической консульт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кретизация запроса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мотивации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казать возможные «плюсы» и «минусы» работы с психолог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полнительный сбор анамнеза и диагност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рекционная рабо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хнические пробл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иденциальность информа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выки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выки в области семейной психологии и психотерапи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2361960"/>
            <a:ext cx="91440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индивидуальной клинической модели болезни пац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9:54:42Z</dcterms:modified>
  <cp:revision>31</cp:revision>
  <dc:subject/>
  <dc:title>Роль психолога при работе в различных медицинских учреждениях  (психолог и медик: точки взаимодействия)</dc:title>
</cp:coreProperties>
</file>