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5.png" ContentType="image/png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02CB-8802-468C-89D1-019277F0C75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СИХОЛОГИЧЕСКИЙ МОНИТОР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FF0F-D783-4EA2-8136-2DA26684869D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ий мониторинг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ная технология, объединяющая диагностику, консультацию, коррекцию в единую эффективную систему психологических средств, реализуемых в определенной последовательности, наполняемых строго отобранным содержанием и позволяющих гибко и действенно осуществлять психологическое сопровождение образовательного процесса, достигать желаемую ц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3921-8BCD-4719-AB29-88EFBC70421D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комплексного изучения, параллельного использования двух направлений деятельности (психолога – психодиагностическое обследование, педагога (воспитателя) – метод экспертного наблюдения) получаем два ряда данных, отражающих одни и те же явления, что значительно расширяет возможности интерпретации результа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594D-C2AE-44C7-837D-0F33C5BD5890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сихологическое сопровождение учащегося в режиме психологического мониторинга дает возможност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относительное место учащегося в классе и параллел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ранжирование учащихся (классов) по заданному параметр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ить группы учащихся с высокими и низкими показателя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ледить динамику изменений результатов от года к год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сравнение групп (классов, параллелей) по заданным параметр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ECA9-B7F5-4C52-A5CD-ED452C0B78BA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ктронная модель психологического мониторин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Дает возможность производить ввод спис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учащихся по группам и класс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Осуществляет хранение психологических характеристик учащих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Дает возможность получать подробную информацию об отдельном ученике, классе, параллели, групп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Содержит сведения об используемых в системе психологических методиках, нормах и алгоритмах расч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8E07-4FB2-4AF8-9305-C4CED606C3FC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ктронная модель психологического мониторин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Позволяет проводить тестирование в соответствии со сформированной базой психологических методик и хранение результатов психологической диагнос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Дает возможность ввода и накопления психолого-педагогических рекоменд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Позволяет получать статист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данные в виде диаграм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9bbb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f5f5f"/>
                </a:solidFill>
                <a:latin typeface="Arial"/>
              </a:rPr>
              <a:t>Позволяет формировать отчеты психолога учебного заведения о проделанной рабо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D964-0E03-49A1-A623-519E6C1B7458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ктронная модель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мониторинга</a:t>
            </a:r>
            <a:br>
              <a:rPr sz="1200"/>
            </a:b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римеры работы с программо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4157-2A90-42A1-BA48-9B4778D4FB0F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ктронная модель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мониторинга</a:t>
            </a:r>
            <a:br>
              <a:rPr sz="1200"/>
            </a:b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римеры работы с программо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6326-CD9C-4947-8FA3-87BE2A6B80F3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ктронная модель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мониторинга</a:t>
            </a:r>
            <a:br>
              <a:rPr sz="1800"/>
            </a:b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римеры работы с программо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BBB9-2AE0-4458-99B3-6C1B13CFCF3A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ктронная модель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мониторинга</a:t>
            </a:r>
            <a:br>
              <a:rPr sz="2800"/>
            </a:b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римеры работы с программо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9903-573A-431C-BF05-070783914264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57FC-5F65-406F-92D5-3225E59DAE20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мониторин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 латинского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monito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еводе означ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оминающий или предостерегающ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7CF5-47FB-4DC7-A84D-5BF3577D0BCB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ниторин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может рассматриваться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как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пособ исследования реа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спользуемый в различных наука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как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пособ обеспеч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яющего звена своевременной и качественной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формаци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 состоянии системы и происходящих в ней процес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6EC2-DFB2-4D9C-BAD6-A4A5ED45E99D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«мониторинг»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учной литературе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-ых годов XX ве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общим образом обознач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ую «деятельность по наблюдению», «систему повторных, целенаправленных наблюдений» или «методику и систему наблюдений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сех определениях ключевым словом является слово «наблюдение». Позже, в более поздний период наблюдение сменяется на «контроль с периодическим слежением» или «процесс отслеживания информации по изучаемой систем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6611-4941-4F0B-AC65-892A39AA1E1C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ниторинг – эт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уровневая, иерархическа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ганизации, сбора, хранения обработки и распространения информации об обследуемой системе или отдельных её элементах, ориентированная на информационное обеспечение управления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ая позволяет суди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 состоянии объекта мониторинга в любой момент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обеспечить прогно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го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F898-E9F6-4D29-96F0-FB5DB0BE1FB0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ий монитор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ет собой систему постоянного отслеживания посредством психологической диагностики процесса личностного развития учащегося (ребенка), создания банка психологических данных на каждого учащегося (ребенка), проектирование индивидуальной психологической и педагогической траектории учащегося (ребенк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CBCC-6D83-4857-A209-0667880A6302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ий мониторинг реализует следующие 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максимально полной психологической информации, характеризующей образовательный процесс в школ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ение этой информации в наиболее удобном виде пользователям разного уровн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ирование системы психолого-педагогических коррекционных меро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2C97-960B-47D8-8AC3-162FC7092882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и помощи психологического мониторинга отслеживаются следующие психологические критерии, показатели результативности образовательного процесса в школ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вательная сфера ребенка (восприятие, память, внимание, мышление) и динамика ее развития, сформированность учебной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тивационная сфера и динамика ее развит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онально-волевая сфера (уровень тревожности, активности) и динамика ее развития, влияние эмоционального состояния на процесс обучения, удовлетворенность различными сторонами образовательного процес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ная сфера (самооценка, потребность в достижении, уровень коммуникации, ценностные ориентации) и динамика ее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A638-0F01-49C7-8DDE-4F97F0866EEF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абота психологической службы ОУ в режиме психологического мониторинга осуществляется по следующим направлениям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ая диагностик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&gt;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ализ результат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&gt;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омендации, консультац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&gt;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коррекционные мероприят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&gt;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ая диагностик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&gt;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ализ результат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&gt;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омендации, консультац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&gt;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коррекционные мероприятия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527E-7F66-4A20-86FE-5F17127F5276}" type="slidenum">
              <a:rPr b="0" lang="uk-UA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EA84-A585-4CD6-87A9-C6722CBB9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373E-69B4-4301-9DF5-74424B0E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4B6A-CF84-4431-B009-FB2D55721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C57C-AFA4-4F8D-A0A0-805B05EF3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CF45-B22A-45E3-AFA0-D12B1BCF1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B988-7992-4C49-81B0-1C8528D0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3A78-2539-401D-B229-8E60231D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7B9F-E374-444B-A628-886DFC24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A5F9-470E-4477-A866-0A7963C1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D0BC-1C17-40F5-B48B-C6956709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1296-5855-46BB-9DA6-52F6B5DD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2F5C-537D-4F09-A4E5-11BEF3A7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DF42-1C4E-4B5F-B3EC-4077FAE5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8C8F-1486-4F8F-8C46-7BB4476B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E0F5-B6D4-4F1F-9E5B-90BE77BA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0A88-ADB3-41B1-B022-EAA6FE3D1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FB77-3932-45B0-8158-77440BD7D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D4411-6480-45EA-8EEB-2309DEF87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270FD-811B-46BD-AF2B-46A28159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520BE-83E9-46A4-9F26-FBD3F7BF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CEAC1-D40F-48E4-85AA-C4DED16A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39376-E9E0-44F5-8D95-470662DA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4F83-9B82-4E4C-9F18-03D25B55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FE438-8935-4A6B-B9AC-3C3511DA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1BA64-342B-4854-98F2-9E7E5A41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7CBA4-4BEB-46D1-9F1A-66494A15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5EEFB-B98D-4705-91DA-679A623A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04CFC-53BF-4259-840A-D670D8D2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BB2F7-0C33-46B1-AA2C-81F9C259B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5C24B-426C-4460-A11B-9922DA6CA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C797B-2CBD-4719-A092-6EE7F9ED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59AFE-E0BD-44AA-B54C-E37FAE64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966CD-8AF2-4D64-BE3B-8E3179E4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1907-984B-4411-8D15-3381A886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131FB-2051-4591-9DD7-978677C1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EAA04-DF2D-4329-A5FF-E1121B1A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FE929-65A4-448B-99CC-6069A90F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0F111-B5F0-45F0-9AB2-9A698F17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88E25-9162-47C4-AF29-CA3A0F7E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6AE39-1A17-4CCF-A80B-19668B9E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C4FEB-12D1-47CC-8373-DD9C687D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4B6C2-C07E-486D-A85E-1FFC8C0F3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994A6-D8D6-4FA3-BC81-620AFE5FE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544E-B8AC-41F2-90DF-1AD4F0BE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05F8-8FEF-4C85-87ED-EE51F134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4137-DD6E-4AEE-AFAC-F5EF4868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0FF0-9403-4B85-8A06-8F0B8F9B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7271-7D48-4299-9289-E63CFFC1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3D05-6589-4FFD-A019-1A1A1F108FAC}" type="datetime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DFCD-6708-445C-B05E-4EA28D51D72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7566-4147-498F-9187-95C542B181AE}" type="datetime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DF62-4DE5-4279-8CED-8B19750A0E28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EEEB-07A7-4DEB-B178-4D41BBA393E1}" type="datetime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028C-C9CF-41E4-9C35-82493841A8D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4D3B-259A-4D43-9969-95FDCC802695}" type="datetime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31B1-F340-4A08-9901-AFF1C1B7C11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450720" y="1255680"/>
            <a:ext cx="8577360" cy="24382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Психологический мониторинг 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– </a:t>
            </a: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это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50560" y="1196640"/>
            <a:ext cx="439236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мплексная технология, объединяющая диагностику, консультацию, коррекцию в единую эффективную систему психологических средств, реализуемых в определенной последовательности, наполняемых строго отобранным содержанием и позволяющих гибко и действенно осуществлять психологическое сопровождение образовательного процесса, достигать желаемую цель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5" name="Picture 10" descr="C:\Program Files\Common Files\Microsoft Shared\Clipart\cagcat50\BD04972_.WMF"/>
          <p:cNvPicPr/>
          <p:nvPr/>
        </p:nvPicPr>
        <p:blipFill>
          <a:blip r:embed="rId1"/>
          <a:stretch/>
        </p:blipFill>
        <p:spPr>
          <a:xfrm>
            <a:off x="5148360" y="1052640"/>
            <a:ext cx="3744720" cy="525600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067280" y="1412640"/>
            <a:ext cx="46195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результате комплексного изучения, параллельного использования двух направлений деятельности (психолога – психодиагностическое обследование, педагога (воспитателя) – метод экспертного наблюдения) получаем два ряда данных, отражающих одни и те же явления, что значительно расширяет возможности интерпретации результато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19" descr="C:\Program Files\Common Files\Microsoft Shared\Clipart\cagcat50\PE03166_.wmf"/>
          <p:cNvPicPr/>
          <p:nvPr/>
        </p:nvPicPr>
        <p:blipFill>
          <a:blip r:embed="rId1"/>
          <a:stretch/>
        </p:blipFill>
        <p:spPr>
          <a:xfrm>
            <a:off x="611280" y="2133720"/>
            <a:ext cx="3313080" cy="395928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сихологическое сопровождение учащегося в режиме психологического мониторинга дает возможность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50920" y="2133720"/>
            <a:ext cx="86421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ить относительное место учащегося в классе и параллели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вести ранжирование учащихся (классов) по заданному параметру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делить группы учащихся с высокими и низкими показателями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следить динамику изменений результатов от года к году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вести сравнение групп (классов, параллелей) по заданным параметра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Электронная модель психологического мониторинга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35244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f5f5f"/>
                </a:solidFill>
                <a:latin typeface="Arial"/>
              </a:rPr>
              <a:t>Дает возможность производить ввод списк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f5f5f"/>
                </a:solidFill>
                <a:latin typeface="Arial"/>
              </a:rPr>
              <a:t>учащихся по группам и класса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35244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f5f5f"/>
                </a:solidFill>
                <a:latin typeface="Arial"/>
              </a:rPr>
              <a:t>Осуществляет хранение психологических характеристик учащихс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35244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f5f5f"/>
                </a:solidFill>
                <a:latin typeface="Arial"/>
              </a:rPr>
              <a:t>Дает возможность получать подробную информацию об отдельном ученике, классе, параллели, групп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35244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f5f5f"/>
                </a:solidFill>
                <a:latin typeface="Arial"/>
              </a:rPr>
              <a:t>Содержит сведения об используемых в системе психологических методиках, нормах и алгоритмах расчет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35244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352440">
              <a:lnSpc>
                <a:spcPct val="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Электронная модель психологического мониторинга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785960"/>
            <a:ext cx="840096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356040">
              <a:lnSpc>
                <a:spcPct val="7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5f5f"/>
                </a:solidFill>
                <a:latin typeface="Arial"/>
              </a:rPr>
              <a:t>Позволяет проводить тестирование в соответствии со сформированной базой психологических методик и хранение результатов психологической диагностик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356040">
              <a:lnSpc>
                <a:spcPct val="7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5f5f"/>
                </a:solidFill>
                <a:latin typeface="Arial"/>
              </a:rPr>
              <a:t>Дает возможность ввода и накопления психолого-педагогических рекомендаций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356040">
              <a:lnSpc>
                <a:spcPct val="7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5f5f"/>
                </a:solidFill>
                <a:latin typeface="Arial"/>
              </a:rPr>
              <a:t>Позволяет получать статистическ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5f5f"/>
                </a:solidFill>
                <a:latin typeface="Arial"/>
              </a:rPr>
              <a:t>данные в виде диаграмм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356040">
              <a:lnSpc>
                <a:spcPct val="7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5f5f"/>
                </a:solidFill>
                <a:latin typeface="Arial"/>
              </a:rPr>
              <a:t>Позволяет формировать отчеты психолога учебного заведения о проделанной работ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356040">
              <a:lnSpc>
                <a:spcPct val="7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3560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Электронная модель 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сихологического мониторинга</a:t>
            </a:r>
            <a:br>
              <a:rPr sz="4500"/>
            </a:b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Примеры работы с программой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Электронная модель 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сихологического мониторинга</a:t>
            </a:r>
            <a:br>
              <a:rPr sz="3600"/>
            </a:b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Примеры работы с программой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Электронная модель 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сихологического мониторинга</a:t>
            </a:r>
            <a:br>
              <a:rPr sz="4900"/>
            </a:b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Примеры работы с программой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96908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Электронная модель 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психологического мониторинга</a:t>
            </a:r>
            <a:br>
              <a:rPr sz="6500"/>
            </a:b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Примеры работы с программой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3" descr=""/>
          <p:cNvPicPr/>
          <p:nvPr/>
        </p:nvPicPr>
        <p:blipFill>
          <a:blip r:embed="rId1"/>
          <a:stretch/>
        </p:blipFill>
        <p:spPr>
          <a:xfrm>
            <a:off x="457200" y="2212920"/>
            <a:ext cx="8308800" cy="192096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лово </a:t>
            </a: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«мониторинг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» 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(от латинского «</a:t>
            </a: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monitor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»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в переводе означает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напоминающий или предостерегающий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онятие «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ониторинг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может рассматриваться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и как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onstantia"/>
              </a:rPr>
              <a:t>способ исследования реальности</a:t>
            </a: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, используемый в различных науках, 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и как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onstantia"/>
              </a:rPr>
              <a:t>способ обеспечения </a:t>
            </a: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управляющего звена своевременной и качественной </a:t>
            </a:r>
            <a:r>
              <a:rPr b="0" lang="ru-RU" sz="3300" spc="-1" strike="noStrike" u="sng">
                <a:solidFill>
                  <a:srgbClr val="000000"/>
                </a:solidFill>
                <a:uFillTx/>
                <a:latin typeface="Constantia"/>
              </a:rPr>
              <a:t>информацией</a:t>
            </a:r>
            <a:r>
              <a:rPr b="0" lang="ru-RU" sz="3300" spc="-1" strike="noStrike">
                <a:solidFill>
                  <a:srgbClr val="000000"/>
                </a:solidFill>
                <a:latin typeface="Constantia"/>
              </a:rPr>
              <a:t> о состоянии системы и происходящих в ней процессах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онятие «мониторинг» </a:t>
            </a:r>
            <a:br>
              <a:rPr sz="4300"/>
            </a:br>
            <a:r>
              <a:rPr b="1" lang="ru-RU" sz="43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 научной литературе </a:t>
            </a:r>
            <a:br>
              <a:rPr sz="4300"/>
            </a:br>
            <a:r>
              <a:rPr b="1" lang="ru-RU" sz="43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80-ых годов XX века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500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общим образом обозначает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ую «деятельность по наблюдению», «систему повторных, целенаправленных наблюдений» или «методику и систему наблюдений»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сех определениях ключевым словом является слово «наблюдение». Позже, в более поздний период наблюдение сменяется на «контроль с периодическим слежением» или «процесс отслеживания информации по изучаемой системе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Мониторинг – это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уровневая, иерархическа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ганизации, сбора, хранения обработки и распространения информации об обследуемой системе или отдельных её элементах, ориентированная на информационное обеспечение управления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ая позволяет суди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 состоянии объекта мониторинга в любой момент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обеспечить прогноз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го развити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77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сихологический мониторинг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79280" y="1557360"/>
            <a:ext cx="4608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дставляет собой систему постоянного отслеживания посредством психологической диагностики процесса личностного развития учащегося (ребенка), создания банка психологических данных на каждого учащегося (ребенка), проектирование индивидуальной психологической и педагогической траектории учащегося (ребенка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10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6588000" y="4437000"/>
            <a:ext cx="2152800" cy="2216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C:\Program Files\Common Files\Microsoft Shared\Clipart\cagcat50\PE01561_.wmf"/>
          <p:cNvPicPr/>
          <p:nvPr/>
        </p:nvPicPr>
        <p:blipFill>
          <a:blip r:embed="rId2"/>
          <a:stretch/>
        </p:blipFill>
        <p:spPr>
          <a:xfrm>
            <a:off x="4788000" y="1916280"/>
            <a:ext cx="3384360" cy="23349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Психологический мониторинг реализует следующие задачи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лучение максимально полной психологической информации, характеризующей образовательный процесс в школе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едоставление этой информации в наиболее удобном виде пользователям разного уровня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структурирование системы психолого-педагогических коррекционных мероприятий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6" descr="C:\Program Files\Common Files\Microsoft Shared\Clipart\cagcat50\BD06663_.WMF"/>
          <p:cNvPicPr/>
          <p:nvPr/>
        </p:nvPicPr>
        <p:blipFill>
          <a:blip r:embed="rId1"/>
          <a:stretch/>
        </p:blipFill>
        <p:spPr>
          <a:xfrm>
            <a:off x="468360" y="1989000"/>
            <a:ext cx="3816360" cy="34164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При помощи психологического мониторинга отслеживаются следующие психологические критерии, показатели результативности образовательного процесса в школе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76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знавательная сфера ребенка (восприятие, память, внимание, мышление) и динамика ее развития, сформированность учебной деятельност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отивационная сфера и динамика ее развития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моционально-волевая сфера (уровень тревожности, активности) и динамика ее развития, влияние эмоционального состояния на процесс обучения, удовлетворенность различными сторонами образовательного процесса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личностная сфера (самооценка, потребность в достижении, уровень коммуникации, ценностные ориентации) и динамика ее развит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713800" cy="1514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Работа психологической службы ОУ в режиме психологического мониторинга осуществляется по следующим направлениям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сихологическая диагностика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&gt;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нализ результатов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&gt;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екомендации, консультация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&gt;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коррекционные мероприятия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&gt;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сихологическая диагностика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&gt;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нализ результатов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&gt;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екомендации, консультация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&gt;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коррекционные мероприятия и т.д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12" descr="C:\Program Files\Common Files\Microsoft Shared\Clipart\cagcat50\PE01194_.wmf"/>
          <p:cNvPicPr/>
          <p:nvPr/>
        </p:nvPicPr>
        <p:blipFill>
          <a:blip r:embed="rId1"/>
          <a:stretch/>
        </p:blipFill>
        <p:spPr>
          <a:xfrm>
            <a:off x="4788000" y="1989000"/>
            <a:ext cx="3887640" cy="417672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1T19:07:38Z</dcterms:created>
  <dc:creator>Admin</dc:creator>
  <dc:description/>
  <dc:language>en-US</dc:language>
  <cp:lastModifiedBy>LEGION</cp:lastModifiedBy>
  <dcterms:modified xsi:type="dcterms:W3CDTF">2014-11-12T09:35:24Z</dcterms:modified>
  <cp:revision>48</cp:revision>
  <dc:subject/>
  <dc:title>ПСИХОЛОГИЧЕСКИЙ МОНИТОРИНГ</dc:title>
</cp:coreProperties>
</file>