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0B52-8C2A-4840-94C6-047D79AC87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F756-0A23-4EF8-ADE4-4B874052D100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2C3A-5ACD-413D-8E86-9223D1C8F2C3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9EDC-657B-41D8-B3F4-1CA6686C9296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тносительное место учащегося в классе и паралле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ранжирование учащихся (классов) по заданному параметр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группы учащихся с высокими и низкими показател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дить динамику изменений результатов от года к го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сравнение групп (классов, параллелей) по заданным парамет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A1B0-7734-4698-A9B3-0BCF66860CB7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FD88-1B0C-4613-B03E-D4DFBA1A0DBC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9C20-7499-4E16-8F3E-78A713852A91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37DD-411A-4CC6-8B18-597C21B516F9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6451-F5C6-4FED-B03F-2895B0C232D8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B66E-1B14-45A8-AB4F-B981B385B752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2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81B0-86F4-4E95-A4F5-D2D7CFE707FE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0DC-2E98-4DBE-A188-29AD7D1CF99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латинског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onito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еводе 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щий или предостерегаю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DB0D-120B-44C5-91B1-C181B5E30323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ет рассматривать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исследования реа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уемый в различных нау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обеспеч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ющего звена своевременной и качествен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 состоянии системы и происходящих в ней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E3DB-5646-4A5A-AE43-83677B6BEB69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8881-17AB-4605-A627-235EF4C56EF5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–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A8B5-E1E9-4164-A73C-D9A472CF216B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3992-61A2-4FF8-9795-3761FC6AAD9E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этой информации в наиболее удобном виде пользователям раз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системы психолого-педагогических коррекцион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F605-9E6E-423A-9E5A-7C1B5F204B60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онная сфера и динамика ее разви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69A8-C5ED-4340-9B1A-8754A05CCDA2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A402-EAC1-4D14-8388-5E7995246F44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E9E-6CD5-4A59-A5A9-DD349DB0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CCA-65C6-4926-91E9-37DAE0A5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93E-7466-4E93-8195-D0F06331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E15-C7E7-414F-974E-AD966AF6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0676-3858-4BAF-9BE6-6D1973A8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1E7C-A1EA-4627-AB25-C921D36F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2951-C921-4BF4-94B9-86FB72F2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4093-6455-4C83-8C45-21C73E55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6ACC-EC4A-49B4-B2AB-3A5A29AA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594C-6798-4C2B-8645-73B70CD6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A6B8-1478-40EE-9093-F445A0A6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25D7-642F-4802-9AFB-9AA04286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7E4D-1A3E-46DD-A7EA-FC30D38A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FA34-301E-432A-BF34-5A610740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92AC-3341-4A5F-90D2-344EC226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073F-EC7A-481A-A332-28E7AAC3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4384-9A00-4156-B8E1-5FD75F51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AF1DF-B10C-4161-AD5E-8AE3BE69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75E90-FE05-40A3-91B0-1815536F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8069-B56A-45CF-A67A-B83F3F6F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2F65-D3E1-4D27-81D3-3A336A10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0254-4F14-4439-ACCA-A53F452F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6FA-AE52-4EC4-A9A1-8D8B12F1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43376-EADA-428D-AA24-32059E1A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5E645-BE67-4062-AD0A-A6A0947A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A144E-3EBE-4F3D-A203-46064210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D819-37BF-49C7-9F63-ABFCC15F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5634-CE8F-4829-A01B-5075B7C1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91D66-5B2E-4E20-946A-D65DB8BF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7A24-1555-4001-9580-54E43EC7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9FB10-9E02-4379-887E-D727430C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D5B3-9CE0-4B3B-B03F-3F329C05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88CC-DA7F-4DF1-ABA1-3988EC6C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AFB-F0C5-4685-8EC5-C971F76A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E9FDE-AE6D-4443-A5C6-158D9322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4CD1A-D91B-4910-BE8E-530CE692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C061C-6E2E-44C8-BEDD-D6F5E8EA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7A27C-9FDD-44BA-9B1C-724BA605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4ABA-D08D-4136-8F72-F9D9FFC9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97EE0-8E73-4075-AF04-5D48F242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3AE44-CF1C-44C5-888A-9B559D36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691D-485F-43CF-AEC1-07C87D25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AD6F3-0D28-4696-B6DB-0DE671D5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BD3-A6F5-4FBA-A499-B151C026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FA5-F0E9-40DF-8CBC-C564AC86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8C7-0AE8-4BBC-9306-BE1A857F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D4C-91D1-415F-BC94-88C2AB5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D4B-8899-441A-9626-13BAD2AC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6105-AA35-4E45-A2D6-84C3CB194334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4CD6-9599-4F00-8103-C6CC7C7ED3F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520D-75F8-4639-998F-96A20E775D36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8305-0E39-4CDE-B6A3-BCE715C6FC5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9733-0820-4692-841C-016105244B62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F08E-3BF4-40F1-8AFF-7C6B90F3B69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9D96-0D4C-424D-B012-89395AEFD991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8FB3-66C4-4420-BD76-72C5BD39241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1255680"/>
            <a:ext cx="8577360" cy="2438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–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о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1196640"/>
            <a:ext cx="4392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10" descr="C:\Program Files\Common Files\Microsoft Shared\Clipart\cagcat50\BD04972_.WMF"/>
          <p:cNvPicPr/>
          <p:nvPr/>
        </p:nvPicPr>
        <p:blipFill>
          <a:blip r:embed="rId1"/>
          <a:stretch/>
        </p:blipFill>
        <p:spPr>
          <a:xfrm>
            <a:off x="5148360" y="1052640"/>
            <a:ext cx="3744720" cy="5256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067280" y="1412640"/>
            <a:ext cx="4619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19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611280" y="2133720"/>
            <a:ext cx="3313080" cy="395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относительное место учащегося в классе и параллел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ранжирование учащихся (классов) по заданному параметр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делить группы учащихся с высокими и низкими показателям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ледить динамику изменений результатов от года к год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сравнение групп (классов, параллелей) по заданным параметр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785960"/>
            <a:ext cx="84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36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9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96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6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8308800" cy="19209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лово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«мониторинг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от латинского «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monitor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 переводе означает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оминающий или предостерегающий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нятие «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ожет рассматриватьс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исследования реальности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, используемый в различных науках,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обеспечения 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управляющего звена своевременной и качественной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ей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о состоянии системы и происходящих в ней процессах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 – это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сихологический мониторин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557360"/>
            <a:ext cx="4608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10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6588000" y="4437000"/>
            <a:ext cx="2152800" cy="2216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Program Files\Common Files\Microsoft Shared\Clipart\cagcat50\PE01561_.wmf"/>
          <p:cNvPicPr/>
          <p:nvPr/>
        </p:nvPicPr>
        <p:blipFill>
          <a:blip r:embed="rId2"/>
          <a:stretch/>
        </p:blipFill>
        <p:spPr>
          <a:xfrm>
            <a:off x="4788000" y="1916280"/>
            <a:ext cx="3384360" cy="23349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оставление этой информации в наиболее удобном виде пользователям разного уров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руктурирование системы психолого-педагогических коррекционных мероприят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468360" y="1989000"/>
            <a:ext cx="3816360" cy="34164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тивационная сфера и динамика ее развития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2" descr="C:\Program Files\Common Files\Microsoft Shared\Clipart\cagcat50\PE01194_.wmf"/>
          <p:cNvPicPr/>
          <p:nvPr/>
        </p:nvPicPr>
        <p:blipFill>
          <a:blip r:embed="rId1"/>
          <a:stretch/>
        </p:blipFill>
        <p:spPr>
          <a:xfrm>
            <a:off x="4788000" y="1989000"/>
            <a:ext cx="3887640" cy="41767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9:07:38Z</dcterms:created>
  <dc:creator>Admin</dc:creator>
  <dc:description/>
  <dc:language>en-US</dc:language>
  <cp:lastModifiedBy>LEGION</cp:lastModifiedBy>
  <dcterms:modified xsi:type="dcterms:W3CDTF">2014-11-12T09:35:24Z</dcterms:modified>
  <cp:revision>48</cp:revision>
  <dc:subject/>
  <dc:title>ПСИХОЛОГИЧЕСКИЙ МОНИТОРИНГ</dc:title>
</cp:coreProperties>
</file>