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7167-C4AC-466C-AF6D-6302A8A152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77933c"/>
                </a:solidFill>
                <a:latin typeface="Calibri"/>
              </a:rPr>
              <a:t>НОУ ВПО «Российский Новый Университет» (РосНОУ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СИХОЛОГИЧЕСКОЕ консульт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И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75F1-0672-4BEF-8F5B-0DE27F59D583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В настоящее время особую важность приобретает подготовка высококвалифицированных кадров психологов-консультантов для таких областей и сфер как образование, здравоохранение, социальная защита, спорт и  т.п., а также для решения широкого класса задач в системах управления, государственной службы и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Для подготовки таких кадров разработана программа профессиональной переподготовки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 Слушатели, прошедшие подготовку по данной программе, получают знания о психологических основах личности, навыки и умения по психодиагностике, консультированию, психокорр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На данной программе обучающиеся знакомятся с различными направлениями в консультативной и психокоррекционной работе, овладеют методами и методиками психологического консультирования, проектирования приемов психологического воздействия и помощи личности, способствующих личностному росту, а также компенсации и коррекции отклонений в развити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BC3D-2AF2-427B-97F8-8E687F94E296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Цель программы 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 - подготовка высококвалифицированных психологов-практиков, сочетающих достаточно высокий уровень с умениями анализировать и решать на практике широкий круг проблем: личных, межличностных, семейных, сексуальных, детских, родительских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По окончании обучения 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по программе профессиональной переподготовки слушатели должны </a:t>
            </a:r>
            <a:r>
              <a:rPr b="0" i="1" lang="ru-RU" sz="2400" spc="-1" strike="noStrike">
                <a:solidFill>
                  <a:srgbClr val="77933c"/>
                </a:solidFill>
                <a:latin typeface="Calibri"/>
              </a:rPr>
              <a:t>уметь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диагностировать, применять имеющиеся методы исследования лич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оказывать психологическую помощь лицам, испытывающим трудности личностного выбора, в ситуациях потери и горя, острой и хронической тревоги, стресса, при сниженной самооценке, неуверенности в себе, в ситуациях трудного выбора и многих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8DF2-9E47-478A-9096-4BB3D7C507D7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рограмма разработана для профессиональной переподготовки кадров, желающих получить навыки и умения в области психологического консультирования. Слушатели, проходящие обучение по данной программе, должны иметь высшее профессиональное обра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Изучение дисциплин проводится </a:t>
            </a:r>
            <a:r>
              <a:rPr b="0" i="1" lang="ru-RU" sz="1200" spc="-1" strike="noStrike">
                <a:solidFill>
                  <a:srgbClr val="77933c"/>
                </a:solidFill>
                <a:latin typeface="Calibri"/>
              </a:rPr>
              <a:t>без отрыва 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слушателей от работы (в группе выходного дня) и предполагает проведение лекционных, семинарских и тренинговых занятий для изучения теоретических и практических основ психологического консульт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о завершении обучения слушатели защищают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ыпускную  аттестационную работу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8A22-4C39-4DFE-98CC-26DD97792EF0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лушателям, освоившим программу дополнительного профессионального образования и успешно прошедшим государственную итоговую аттестацию, </a:t>
            </a:r>
            <a:r>
              <a:rPr b="1" i="1" lang="ru-RU" sz="1400" spc="-1" strike="noStrike">
                <a:solidFill>
                  <a:srgbClr val="77933c"/>
                </a:solidFill>
                <a:latin typeface="Calibri"/>
              </a:rPr>
              <a:t>присваивается право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(соответствие квалификации) на ведение профессиональной деятельности в сфере психологического консультирования и психокорр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29C8-4BF7-401A-BC33-74154BC11BC2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7933c"/>
                </a:solidFill>
                <a:latin typeface="Calibri"/>
              </a:rPr>
              <a:t>   </a:t>
            </a:r>
            <a:r>
              <a:rPr b="1" lang="ru-RU" sz="1100" spc="-1" strike="noStrike">
                <a:solidFill>
                  <a:srgbClr val="77933c"/>
                </a:solidFill>
                <a:latin typeface="Calibri"/>
              </a:rPr>
              <a:t>РАЗДЕЛЫ ПРОГРАММЫ ПРОФЕССИОНАЛЬНОЙ ПЕРЕПОДГОТОВКИ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бщ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оциальн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озрастная психология и психология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ы клинической психологии и психосо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Дифференциальная 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критических си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Гендерн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ы психо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ческий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ведение в практическую психолог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Индивидуальн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Группов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емейн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ные направления в психоконсультировании и в психокорр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15E5-23AB-41D0-A3E7-15677FDF2423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F45-DEC4-46DF-A05F-66366AE9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71F6-57BC-4181-A073-D5B92265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DFFB3-A067-4305-A6B3-C272D19E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3080B3-FB00-4317-BA0C-5084208D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D7CA5-57D2-4A58-8558-ED054816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1EDB4-7C9C-4BAC-B8C0-A65B56E5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63069-974D-4C2E-BB6C-56F6C7B4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0FE3AE-895D-4B5B-8DB7-2BFDFA13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CB19E5-907C-4F6E-B97A-35620FA5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6891D7-16F2-4CAA-9E12-4B83D670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964A5-834C-4437-9A57-933594B8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D8D257-37A4-4160-8FF8-E630AB55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868-2915-4DC6-866D-368C10F9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CF5013-50E8-49FE-8A0B-E82BC106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0D42C0-2778-49B3-9F90-7A19D902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9C00BB-781E-456D-8419-CF887DC8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CDC24-6D56-40A8-9C44-7769B100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4E7430-F4A1-430A-A49C-961161A8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7B879A-7D0A-41D9-9954-53909FB3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E1FEA8-B77D-497E-8B7E-19DC9A9F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FED12-B631-4493-8F87-68FFE28A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83265B-E6AE-42FF-9192-D5952FF2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45F3C-DC57-4856-9D44-955C3152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1B1-8D37-403A-A271-E0A83701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99A3F9-8DBC-474E-813B-992A0B71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2C423-7F4A-460A-99F3-84D53C18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B88A8-B82C-4C0F-AC72-6557CBEF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1014F-EC10-4210-B287-3DB256EA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73F78-50DE-4C35-91C2-48A8BD74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E286C-358E-42AE-AC5F-91559355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99C44-3DAF-4CD9-B3D3-FEB0DDF2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25BF9-ED7D-49F7-9426-F1CC7EF4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16FAE-E545-4AC0-8EC2-CE6EECA9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9DB8E-D3D1-4C1F-8F9F-3E233F90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0ED4-E349-4E31-94D2-83227B7F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B6D91-D613-4582-8029-23CF1DAF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F4566-F768-45EA-A48A-E3EFD944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71B95-331D-47B5-ACA5-107C1F4F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109603-0B92-4C43-842C-8BD8BFB7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779253-58FF-4526-9435-9B5838E4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C619D3-8F44-4472-ADE0-B26AC423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563EC-5B40-4FE7-8F0C-897CF9AE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D681C0-AE94-417D-B23D-5C095578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EAA74B-066F-439E-859F-9EBBB040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DF65B-3258-454F-ABB6-740A879E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875F-B3BB-4BB3-BAAB-3C3C67C2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CF1BD-0829-46BC-BD4B-9AB61E5E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A1B5F-B7D3-45BF-B512-9488F7C3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1E35E-74B4-47A9-BEAF-BACF01EC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CCBBD9-8307-4A29-B0E7-9477C229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856D85-F4A5-4AF9-84F3-624ACA38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A6BD-1E2C-418B-81BA-7A8AB86B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4833-E1C9-47B5-8E8A-B48D5D5D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FD0A-9C01-4633-A3DA-50992BB7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7C3E-0A7A-41E6-A3BD-D329F849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F9FC-32B2-4E80-9C99-52FDE987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77DD-7F80-43B3-A9BF-119945C4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462E-AE02-4835-9B0D-3FA867F1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571D-4D70-46A1-B90D-5C4D98B3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45EF-425E-4A0D-900D-EF3FA059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2A67-1B48-4154-906C-9EE332F8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8875-4219-4111-B82C-CC0E3074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3D57C-F778-477D-99FA-DEAED6D8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2A2E1-7720-4B0E-8F4C-A558D607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2D3A-9FA7-477E-B066-D0796727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55FE5-88A5-472B-B7D9-665905E1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F5D39-3F6E-4D98-9D55-5009279A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726-1BCF-4342-82E2-78DA5A68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E9975-CA3E-47A0-AA57-614BDB35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3D96E-9A6E-4BF2-AD41-9E196E94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51A73-3927-493C-8A44-1EAE6A97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7D241-21A9-409A-BC67-8B1714F2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72DA0-4A56-44EE-AF07-5B132420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78C10-1397-41D0-BD21-9365B371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C5A17-F2AD-4D7F-B22D-86D1C33A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A0F4D-7910-45BE-B60D-273E4FED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56BBE-B2D9-478A-8CF9-9010F867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F7342-A0B1-41D5-B0D2-4C208BD0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8C8-DB67-41C7-B4E6-1CF4AA51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7F8C0-C111-4CFC-BD32-89ADFAC1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FFB91-AF6C-4D6B-A566-30799EBA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D5AD9-1FC5-4B06-B75B-D9389082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735E8-D2BA-40E7-A156-DBEE3C9F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0BF3C-E737-4C5F-8008-50EFE97D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E79B9-A9E4-4687-BC67-9E0ADC32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1D6BD-8C20-41BC-8955-97108D97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CE839-EA52-4273-9E87-3630C3B3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84C5C-7E04-48F9-BC0B-7CBEC804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54014-58E5-4E4A-93D4-669B803A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104-C2DA-4EF7-B37E-86E2B784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3DD8E-8F43-4FA0-8471-21A46C7A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DF51D-EC95-4E79-A31F-0A9D04DF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A81B0-46AE-4CC8-A3A2-991A400F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41B07-B7BA-4796-AF6E-CEA14A1E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F616A-D4C9-4494-BD75-A53AD7CD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0BB44-11B4-4832-B035-AD2847DD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03A07-2B5C-46F1-A8CE-FF0A03E5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42258-97DD-49EC-8050-F930E584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D84A4-D72F-4813-ACB5-6B47A923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A8971-5885-486C-9284-6E34FAE5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42A8-1580-49EA-AEA3-7E6FD440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81E34-58CB-499D-95B0-27AE4DBE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DB6E8-7D69-442A-98C7-0F543C5C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AF931-3FCD-47FC-A112-0F3BE9CA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7F705-C05B-477B-83D1-2A3F4A37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CA2A5-68FD-4F3A-8021-F19917C7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C2C7B-1433-41FF-BD1A-305063A0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3CABD-25F1-40AF-909F-67CEE22B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A2E8D-2EB5-4CA8-A89D-25930748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06C91-0CA8-4351-BD27-8EB0911D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3FA4D-7389-419F-8CED-93E18B14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9A55-3907-4934-B30E-139915B9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C864A-4010-4C6F-B15F-87CEB85D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3A43A-EF90-4A6E-B1B3-25758BFA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0E359-0980-45D8-8906-E07A7F16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EB119-163E-46C9-AF4F-B9200BD0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73100-85EA-4EF0-8046-30ADDCF2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61ADD-232A-46C5-AA1A-0D7CC681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3B434-EFEF-4014-B6B0-D8926376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F05C8-CCD2-44EA-AC3C-F7B16EC2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698D2-CC0B-47EB-80B5-FBB573B1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FB2BC-583F-41BC-9734-F4F3C0AD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CB9-A279-4788-8486-B88C3A04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961EA-1C83-4623-8522-DFAEB533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0BB08-367B-4012-802F-70A5882C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E0F6C-1337-4D59-813A-40FAD4F9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A60A7-A9CC-49EC-BD21-048E863C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50BBA-9BBE-4480-92D6-22228140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8AE42-8BAD-41E1-A128-31F3371A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F2DC6-D3F8-43D8-9ECF-400C29B1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38C63-5C03-4555-8FFC-E9DB49D7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EE67E-4047-4AF4-AC26-A7581F0C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373B9-957F-40C0-A832-FBBDF2C0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3A4-4559-4481-889B-46E3C151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7884B-C281-4BBD-BA19-018CE4FF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D5E8F-37A2-4D7F-85B1-3AAE2B39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82E3A-0162-4DF5-A505-FBF47C81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F2EC2-D2CE-43BC-BF22-F26E40DA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8745A-EF59-49F6-982D-DDAEDEBD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19A01-8741-449B-A05B-E65DD1B4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1B84F-18CE-462E-B77A-1D8E2DC8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9A6D7-1D08-4C2F-9042-3AF511D9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126F6C-0939-4930-A11A-5FBC0AE9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EB4A9A-FE00-4CDE-89BC-B1A4D58F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998E-FDB8-486D-B48A-0B086AAA999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8AE0-70F4-4E9F-B5B3-F0799B1BB7F2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24AD-BD50-453C-99EA-F506D0C7BD47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6761-4B87-48AF-B5F1-7EA2D29B944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D3F2-BB96-455A-A7F3-021D9A4B5B5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5C04-AD50-4E5A-8BBE-B95DF7C5B161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0DC5-1FDE-46A3-8CE7-1C91FD4AC240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00B2-4C89-467B-A68B-363E5F4202A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85EC-020E-42F4-BCEE-93D49EFA71D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5B97-8177-4647-B393-3AFA447D916B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59A6-F89E-42B6-B1BC-AE8E923DF67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08E7-B5E0-44B4-8128-DE132DBE1BBB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DCCC-8A33-49C7-AA36-91B5276FE65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7BDB-710B-427E-9FB5-BCBCFA0F3BF2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BC06-6623-4DF9-A484-95C417173B4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476E-BA94-4755-A599-3F04A3C3BC60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2410-F8D3-4E1C-9EAA-E02EA780243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C899-0102-4AA1-8589-C96E9F05E2FD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2E2C-1C22-47FC-A775-FD7986DD166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EEE4-B435-494B-B980-39D1B2F005C8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AB48-E617-42DD-B97B-74523A0D162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6D18-52E4-4022-A804-282C4AF21E5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8B5D-83BD-4CF1-90D3-F393F1920B60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B41B-D1F1-462C-A56D-9FB36CC9879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7416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425d"/>
                </a:solidFill>
                <a:latin typeface="Georgia"/>
              </a:rPr>
              <a:t>ПСИХОЛОГИЧЕСКОЕ КОНСУЛЬТИРОВАН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Georgia"/>
              </a:rPr>
              <a:t>И</a:t>
            </a:r>
            <a:r>
              <a:rPr b="1" lang="ru-RU" sz="3200" spc="-1" strike="noStrike">
                <a:solidFill>
                  <a:srgbClr val="14425d"/>
                </a:solidFill>
                <a:latin typeface="Georgia"/>
              </a:rPr>
              <a:t> ПСИХОКОРРЕК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31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НОУ ВПО «Российский Новый Университет» (РосНОУ)</a:t>
            </a:r>
            <a:endParaRPr b="0" lang="en-US" sz="1400" spc="-1" strike="noStrike">
              <a:solidFill>
                <a:srgbClr val="164c6c"/>
              </a:solidFill>
              <a:latin typeface="Georgia"/>
            </a:endParaRPr>
          </a:p>
        </p:txBody>
      </p:sp>
      <p:pic>
        <p:nvPicPr>
          <p:cNvPr id="615" name="Рисунок 3" descr="Bezymyannyjj.jpg"/>
          <p:cNvPicPr/>
          <p:nvPr/>
        </p:nvPicPr>
        <p:blipFill>
          <a:blip r:embed="rId1"/>
          <a:stretch/>
        </p:blipFill>
        <p:spPr>
          <a:xfrm>
            <a:off x="324000" y="622440"/>
            <a:ext cx="2809800" cy="172404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4" descr="Soy-Yer-Dough-Image-Blog123.jpg"/>
          <p:cNvPicPr/>
          <p:nvPr/>
        </p:nvPicPr>
        <p:blipFill>
          <a:blip r:embed="rId2"/>
          <a:stretch/>
        </p:blipFill>
        <p:spPr>
          <a:xfrm>
            <a:off x="5797440" y="622440"/>
            <a:ext cx="2876760" cy="1724040"/>
          </a:xfrm>
          <a:prstGeom prst="rect">
            <a:avLst/>
          </a:prstGeom>
          <a:ln w="0">
            <a:noFill/>
          </a:ln>
        </p:spPr>
      </p:pic>
      <p:sp>
        <p:nvSpPr>
          <p:cNvPr id="617" name="Місце для нижнього колонтитула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178920" y="1484280"/>
            <a:ext cx="86266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В настоящее время особую важность приобретает подготовка высококвалифицированных кадров психологов-консультантов для таких областей и сфер как образование, здравоохранение, социальная защита, спорт и  т.п., а также для решения широкого класса задач в системах управления, государственной службы и социальной защиты населе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Для подготовки таких кадров разработана программа профессиональной переподготовки </a:t>
            </a:r>
            <a:r>
              <a:rPr b="1" lang="ru-RU" sz="18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 Слушатели, прошедшие подготовку по данной программе, получают знания о психологических основах личности, навыки и умения по психодиагностике, консультированию, психокоррекци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На данной программе обучающиеся знакомятся с различными направлениями в консультативной и психокоррекционной работе, овладеют методами и методиками психологического консультирования, проектирования приемов психологического воздействия и помощи личности, способствующих личностному росту, а также компенсации и коррекции отклонений в развитии личност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347640" y="1527120"/>
            <a:ext cx="5457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4425d"/>
                </a:solidFill>
                <a:latin typeface="Georgia"/>
              </a:rPr>
              <a:t>Цель программы 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 - подготовка высококвалифицированных психологов-практиков, сочетающих достаточно высокий уровень с умениями анализировать и решать на практике широкий круг проблем: личных, межличностных, семейных, сексуальных, детских, родительских и др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4425d"/>
                </a:solidFill>
                <a:latin typeface="Georgia"/>
              </a:rPr>
              <a:t>По окончании обучения 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по программе профессиональной переподготовки слушатели должны </a:t>
            </a:r>
            <a:r>
              <a:rPr b="0" i="1" lang="ru-RU" sz="1700" spc="-1" strike="noStrike">
                <a:solidFill>
                  <a:srgbClr val="14425d"/>
                </a:solidFill>
                <a:latin typeface="Georgia"/>
              </a:rPr>
              <a:t>уметь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диагностировать, применять имеющиеся методы исследования личности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оказывать психологическую помощь лицам, испытывающим трудности личностного выбора, в ситуациях потери и горя, острой и хронической тревоги, стресса, при сниженной самооценке, неуверенности в себе, в ситуациях трудного выбора и многих других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Рисунок 4" descr="x_da403202.jpg"/>
          <p:cNvPicPr/>
          <p:nvPr/>
        </p:nvPicPr>
        <p:blipFill>
          <a:blip r:embed="rId1"/>
          <a:stretch/>
        </p:blipFill>
        <p:spPr>
          <a:xfrm>
            <a:off x="249120" y="1487520"/>
            <a:ext cx="3170520" cy="2876400"/>
          </a:xfrm>
          <a:prstGeom prst="rect">
            <a:avLst/>
          </a:prstGeom>
          <a:ln w="0">
            <a:noFill/>
          </a:ln>
        </p:spPr>
      </p:pic>
      <p:sp>
        <p:nvSpPr>
          <p:cNvPr id="62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250560" y="1483920"/>
            <a:ext cx="554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Программа разработана для профессиональной переподготовки кадров, желающих получить навыки и умения в области психологического консультирования. Слушатели, проходящие обучение по данной программе, должны иметь высшее профессиональное образовани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Изучение дисциплин проводится </a:t>
            </a:r>
            <a:r>
              <a:rPr b="0" i="1" lang="ru-RU" sz="1800" spc="-1" strike="noStrike">
                <a:solidFill>
                  <a:srgbClr val="14425d"/>
                </a:solidFill>
                <a:latin typeface="Georgia"/>
              </a:rPr>
              <a:t>без отрыва 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слушателей от работы (в группе выходного дня) и предполагает проведение лекционных, семинарских и тренинговых занятий для изучения теоретических и практических основ психологического консультирова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По завершении обучения слушатели защищают </a:t>
            </a:r>
            <a:r>
              <a:rPr b="1" lang="ru-RU" sz="1800" spc="-1" strike="noStrike">
                <a:solidFill>
                  <a:srgbClr val="14425d"/>
                </a:solidFill>
                <a:latin typeface="Georgia"/>
              </a:rPr>
              <a:t>выпускную  аттестационную работу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Рисунок 3" descr="img1.png"/>
          <p:cNvPicPr/>
          <p:nvPr/>
        </p:nvPicPr>
        <p:blipFill>
          <a:blip r:embed="rId1"/>
          <a:stretch/>
        </p:blipFill>
        <p:spPr>
          <a:xfrm>
            <a:off x="5940360" y="1484280"/>
            <a:ext cx="2905200" cy="240984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4" descr="img3.png"/>
          <p:cNvPicPr/>
          <p:nvPr/>
        </p:nvPicPr>
        <p:blipFill>
          <a:blip r:embed="rId2"/>
          <a:stretch/>
        </p:blipFill>
        <p:spPr>
          <a:xfrm>
            <a:off x="5940360" y="3933720"/>
            <a:ext cx="2933640" cy="2409840"/>
          </a:xfrm>
          <a:prstGeom prst="rect">
            <a:avLst/>
          </a:prstGeom>
          <a:ln w="0">
            <a:noFill/>
          </a:ln>
        </p:spPr>
      </p:pic>
      <p:sp>
        <p:nvSpPr>
          <p:cNvPr id="62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250920" y="1412640"/>
            <a:ext cx="85550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Слушателям, освоившим программу дополнительного профессионального образования и успешно прошедшим государственную итоговую аттестацию, </a:t>
            </a:r>
            <a:r>
              <a:rPr b="1" i="1" lang="ru-RU" sz="1800" spc="-1" strike="noStrike">
                <a:solidFill>
                  <a:srgbClr val="14425d"/>
                </a:solidFill>
                <a:latin typeface="Georgia"/>
              </a:rPr>
              <a:t>присваивается право </a:t>
            </a: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(соответствие квалификации) на ведение профессиональной деятельности в сфере психологического консультирования и психокоррекц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Рисунок 3" descr="Diplom_PP_1.jpg"/>
          <p:cNvPicPr/>
          <p:nvPr/>
        </p:nvPicPr>
        <p:blipFill>
          <a:blip r:embed="rId1"/>
          <a:stretch/>
        </p:blipFill>
        <p:spPr>
          <a:xfrm>
            <a:off x="2255760" y="2700360"/>
            <a:ext cx="6291360" cy="3621240"/>
          </a:xfrm>
          <a:prstGeom prst="rect">
            <a:avLst/>
          </a:prstGeom>
          <a:ln w="0">
            <a:noFill/>
          </a:ln>
        </p:spPr>
      </p:pic>
      <p:sp>
        <p:nvSpPr>
          <p:cNvPr id="6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Рисунок 4" descr="artterapy5.jpg"/>
          <p:cNvPicPr/>
          <p:nvPr/>
        </p:nvPicPr>
        <p:blipFill>
          <a:blip r:embed="rId1"/>
          <a:stretch/>
        </p:blipFill>
        <p:spPr>
          <a:xfrm>
            <a:off x="4286160" y="2133720"/>
            <a:ext cx="4608720" cy="3743280"/>
          </a:xfrm>
          <a:prstGeom prst="rect">
            <a:avLst/>
          </a:prstGeom>
          <a:ln w="0">
            <a:noFill/>
          </a:ln>
        </p:spPr>
      </p:pic>
      <p:pic>
        <p:nvPicPr>
          <p:cNvPr id="631" name="Рисунок 6" descr="sayfa-zzsfva1hmi6ulvmyx65i3dqagn4zcc5m6iu5zgdxzmazqv875q.jpg"/>
          <p:cNvPicPr/>
          <p:nvPr/>
        </p:nvPicPr>
        <p:blipFill>
          <a:blip r:embed="rId2"/>
          <a:stretch/>
        </p:blipFill>
        <p:spPr>
          <a:xfrm>
            <a:off x="176040" y="189000"/>
            <a:ext cx="3316320" cy="1079280"/>
          </a:xfrm>
          <a:prstGeom prst="rect">
            <a:avLst/>
          </a:prstGeom>
          <a:ln w="0">
            <a:noFill/>
          </a:ln>
        </p:spPr>
      </p:pic>
      <p:pic>
        <p:nvPicPr>
          <p:cNvPr id="632" name="Рисунок 8" descr="k6024759.jpg"/>
          <p:cNvPicPr/>
          <p:nvPr/>
        </p:nvPicPr>
        <p:blipFill>
          <a:blip r:embed="rId3"/>
          <a:stretch/>
        </p:blipFill>
        <p:spPr>
          <a:xfrm>
            <a:off x="5651640" y="189000"/>
            <a:ext cx="3316320" cy="107928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250560" y="1413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   </a:t>
            </a: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РАЗДЕЛЫ ПРОГРАММЫ ПРОФЕССИОНАЛЬНОЙ ПЕРЕПОДГОТОВКИ </a:t>
            </a: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бщ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Социальн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личност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Возрастная психология и психология развит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ы клинической психологии и психосоматик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Дифференциальная 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критических ситуаций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здоровь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Гендерн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ы психодиагностик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ческий практикум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Введение в практическую психологию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Индивидуальн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Группов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Семейн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ные направления в психоконсультировании и в психокоррекци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1:33:33Z</dcterms:created>
  <dc:creator>ni-jakovleva</dc:creator>
  <dc:description/>
  <dc:language>en-US</dc:language>
  <cp:lastModifiedBy>LEGION</cp:lastModifiedBy>
  <dcterms:modified xsi:type="dcterms:W3CDTF">2014-11-12T09:35:57Z</dcterms:modified>
  <cp:revision>29</cp:revision>
  <dc:subject/>
  <dc:title>НОУ ВПО «Российский Новый Университет» (РосНОУ)</dc:title>
</cp:coreProperties>
</file>