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E798-366A-46AB-89B6-FB31715599E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7933c"/>
                </a:solidFill>
                <a:latin typeface="Calibri"/>
              </a:rPr>
              <a:t>НОУ ВПО «Российский Новый Университет» (РосНОУ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СИХОЛОГИЧЕСКОЕ консульт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258-D36B-493C-A523-180DB43D8D8C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08EC-E675-465B-9D00-2B4E5B756584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Цель программы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По окончании обучения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по программе профессиональной переподготовки слушатели должны </a:t>
            </a:r>
            <a:r>
              <a:rPr b="0" i="1" lang="ru-RU" sz="2400" spc="-1" strike="noStrike">
                <a:solidFill>
                  <a:srgbClr val="77933c"/>
                </a:solidFill>
                <a:latin typeface="Calibri"/>
              </a:rPr>
              <a:t>уметь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диагностировать, применять имеющиеся методы исследования ли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106F-5954-425F-AECE-1720F54351C7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Изучение дисциплин проводится </a:t>
            </a:r>
            <a:r>
              <a:rPr b="0" i="1" lang="ru-RU" sz="1200" spc="-1" strike="noStrike">
                <a:solidFill>
                  <a:srgbClr val="77933c"/>
                </a:solidFill>
                <a:latin typeface="Calibri"/>
              </a:rPr>
              <a:t>без отрыва 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о завершении обучения слушатели защищают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ыпускную  аттестационную работу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E418-6393-429F-9A83-0F1D1C207199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400" spc="-1" strike="noStrike">
                <a:solidFill>
                  <a:srgbClr val="77933c"/>
                </a:solidFill>
                <a:latin typeface="Calibri"/>
              </a:rPr>
              <a:t>присваивается право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5AA3-FB5B-4276-AADC-2217458CABBD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РАЗДЕЛЫ ПРОГРАММЫ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бщ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оциаль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озрастная психология и психологи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клинической психологии и психосо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Дифференциальная 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критически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ендер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психо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чески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ведение в практическую психолог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Индивидуаль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руппов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емей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ные направления в психоконсультировании и в психо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6915-0AAD-4613-BE2A-FA0521B2662B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AE0-6DC6-4B1C-BD08-61DB1BF6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F0F-8974-4A1F-BABD-00790700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00B56-B8E2-4EA5-BCF8-2BBD0694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3F83B-9A6C-4539-863A-E7693D2F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CBACE-5312-4081-B110-C3A33E88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1D2AA-D594-4540-828E-7D2C1781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4777C-AF26-4D4B-ADCF-5BC594E5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A3A3E-E119-42A3-B3CD-97DE382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8A610-CE0E-4303-8667-43503825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7933D-61A4-4210-9319-27B37484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B11E2-6041-4746-B693-6EA506B2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52512-EC0A-4F55-9E30-CD9329BF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3F7-6A56-4F02-8606-2EACD17A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B015B-F920-4153-9E18-2AE880D2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D603F-7936-4C51-9266-D63600B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3C3BA-B0B9-4EC7-A6EE-E6A53BD2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05A90-A19E-4B44-ACE0-BC29B26B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62017-B7A1-41C4-A370-0BDCF651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575AC-42D6-4587-861C-E141DFBE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689E1-1959-4EBE-A3D7-131722A9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7BA9C5-AB58-4F4D-84D3-EADF31DD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6F7CD-5B5C-4A66-9B23-0E1EEBD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62818-03D6-4867-BA3A-B2A87B72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CAE-195C-42B4-B91D-735817FC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EEA09-F4B2-4CBF-A834-AD4829B1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4E7F3-D3D9-426D-8761-4C243252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3EB0F-2D59-494B-901D-0FDB741F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9253D-1F97-4B4E-AE88-7C3EC76C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8CEDD-25D9-4AC1-8F7C-E7B44B08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CBF43-9A67-4520-9121-3D1A6DF9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5AAE2-C2BB-443F-B3BD-68F5BDBA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DD24D-9961-4C4C-8B4A-187BF082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34EDA-1361-44F6-B141-E8E21511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15E89-BB2F-4F7A-BFD2-9B77EE53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EB26-FA74-4810-9EDB-1E7128A5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DD934-4090-45FF-913F-FFE43E84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E1E0E-7F9C-4D69-A296-6ECD97DA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F2EB-ED35-4043-A7C5-87180A2D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24600-8968-40E4-B1AD-90DF2115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5BC5D-8820-450E-AFAA-A3C0729C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818AC-1456-470A-AF7B-8B1C615B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AAE69-B539-4D9F-B160-7F230D38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801B2-D9FF-4EDB-8336-37DE8527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5AA5A-57A0-4D52-87DC-C80573BB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C6D9F-6C63-46CB-8BB1-E4E05BA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94F6-B723-4E14-9B0A-F102FE84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C927D-46BC-483B-BBAB-CFCA9360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1954B-AC21-4A41-ABAA-55352325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EF3F2-361D-466A-B073-6146F652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A1B28-0DFF-4D83-AFFA-8420DC7B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F5246-95CD-427B-A4FE-743A11E1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A017-4830-40F3-8CD2-376F8AEA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487D-0858-43C4-A2DD-6357B067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5AC5-A925-4E2A-B387-4101A49A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955E-A029-4AC1-8724-52309A9B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150-07E5-468B-BC98-40371562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9F0-D838-4112-A174-9195144D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F5B5-944B-4F89-B5A1-AB06082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CA8C-4B3F-4E14-9BFB-EC4A690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A60A-F98F-4784-B6C3-F62F9A97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B2FC-4361-4663-8E00-E0C620E0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9CC6-BE9B-4A2B-B5D5-E286E119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CF31-1899-44A6-8D72-005B131F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F815-FDED-4CF1-9FCB-56CC95DD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9F0F-C09B-45B2-9D30-08AD9B50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E7CC-DC35-4F05-9BEB-35065984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F025-5B05-425A-B8ED-B7A57F6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60A-1031-4994-B6B1-91E16F6F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ED79-6033-47B8-B563-16CDD16A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DEF7-3690-449F-85F1-FF5738DF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2F39-7FD5-40AA-A018-19591EB9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9EB68-F092-416F-B780-54FCF8BB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575A-5C10-42CE-B60A-E13F6081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B5B5-B548-4F72-B71D-F73500B8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82B92-A9FD-4826-91DD-0624B9B8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D89AC-3696-4B4E-A9B1-32F2E195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F18C-4C67-46C3-A547-32F67F95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59011-BD7F-4160-8C6C-2D0F58C2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F3C-960B-456B-BFA7-47C33C8E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1B8E-5F28-4907-9AE8-31B6CE56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B22E2-39B5-43E5-B4E0-8ABF792D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95B22-A248-4540-8F8C-C92D77F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16BF-22F9-4D3A-AF22-8497E52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E670-54EA-4B87-B4D3-71070AE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E9F14-1BCC-4586-9334-1BB14131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53DE-3CB5-47BD-BDF2-05732F9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BBC6-D7BA-44A1-90E3-0434B650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96377-7D39-4311-AAB9-E258BEB5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A72E-3CCC-40F7-84DC-BF61339E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F0B-6BE9-4C70-9C1A-FFF6120F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45823-2F37-4CB8-95BA-F35C3A05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E1541-5B3E-4800-96C8-C0F4C8DC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D1B04-0302-4CCE-AC44-18B33AD3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C12A-F12C-4976-BE0A-6F1AEFA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AB155-33F8-4F89-B9C6-B2F04ADC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B3F86-A746-4998-A00F-BDFFACBC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F112-5C04-487A-BD5D-1BB0C7D9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02146-7812-458E-8061-680F3A4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8ADF3-E516-49B9-9C87-DF3F731E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6A939-5E8B-4066-99CA-3BEEBB78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D8F-BC30-4DA8-A69C-5320D049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6A51-162E-4549-8729-506BF5EF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21B6D-2E28-4B24-BEA2-B786F8AB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3D866-1662-45C8-83EF-29C990B2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26ABE-9AE3-4538-A813-91242181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E60B-F276-4A0D-AF6C-15A85E25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BD356-D71F-4FA7-9672-1C9893B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B6F68-972F-421E-8359-8B9B1212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EBCA4-CA22-4C52-8AED-81E71B08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DC17C-A904-4E61-A306-5E1B0AC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ADEAC-6128-46C0-A1C5-31C4D7A0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FCB-C7A7-408C-87DD-3C6E79C2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EB212-6413-4DAD-8A2F-5B5B0FED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B3F80-8EFF-413B-9A07-52E79C1C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8E3F8-2A6C-44E9-B1E8-786E594C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7184B-85E4-4A46-BA98-8F38DBE4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AB5A6-1AF3-4BE4-9BA6-06E6BFE2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7C22A-2105-4EED-83D6-A0321386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46189-546D-4855-BF8B-4ACDC066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0B76-C3C4-47A0-ADCA-7525A7A8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CAD13-C33B-4460-BD75-AC90C673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D4FD7-9C8B-4EC0-B8F7-FC88373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68C-F104-4580-96E1-614C3B2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0F7F1-E49F-4709-849C-48CC1D66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C619B-312A-4B99-98B1-6D857488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EC2D4-C55C-4F0F-B220-D8018174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CA722-71FF-4B3F-853B-21DA01F5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C0014-DB7D-4808-923A-48405722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A46A1-D5FA-469C-8F75-3E8E5F67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07E03-F1B8-413B-8EDB-86B34CE3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E9FC7-EB61-40A9-BFFB-2BF8799D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A1032-60BA-42A2-9EA5-FFACFC26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FDF8B-9BB4-46EE-B85F-CCCCEC94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40B-979F-40CC-B75D-A4EE1BE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40697-25B6-4C5B-A51B-5084454F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6F440-B24D-4647-BE1F-2D0AA0E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01D9F-2BE8-48D1-97F1-7979D53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66C7F-95B3-45DC-956D-03C71EF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7FBD8-107F-4972-BDFC-7924AC4E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5F63A-6952-43EF-AC87-3CB30DDC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C591F-8E4C-4FD7-800D-E3E490AE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40EC5-7B94-4CC2-BF9B-4A709D38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42B61-3CD5-4F26-96D4-44273B6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36D2A-9F60-4E32-90A1-DBAFC794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F554-5E9D-4236-A858-9B05DC01719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C0AF-1A05-4CAB-879A-D6E45BF307F3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BA84-3140-41E5-B1CD-9E32F783105F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35E4-4F91-4604-88B5-6483F2B1469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4A70-D62C-470E-B5A1-7D2E7ED3C22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A20B-BB60-422B-997B-ABEB33F85692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F130-E5EA-40D4-AE65-317F3262911D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6B49-6968-42D4-9A88-F9A5DE9B708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65BA-C3B1-41BC-A47E-D356824C930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D24F-B9A2-4171-AEC7-99C83F1BD652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C5FA-82B9-4180-B88E-1EA2B0C3558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1F8-DCE2-4736-AC4F-3BF81B01B625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6181-D9A7-486E-B328-74BBD317FC1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A2DE-DCD7-4B05-BD29-391C8113CC5F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EFE5-8F62-409E-9588-BF9182BC7F1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4E70-73B3-40F7-BDF8-014A29C43D21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F518-EB52-4090-9131-F406FE6A672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9B46-56A7-4C74-8613-F0AC307C6FD4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008A-1552-45D7-A881-4D60AB850A1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8799-F634-45B3-BA20-BD59662B2956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72FC-B7E1-44B6-A72F-5FD68724ED9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7DDE-129A-40B8-AA40-C0BDA6C84EF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2D3C-D9FB-415B-BCCF-CD97A691A672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E86C-8411-4701-B0E2-BF305FC57A3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ПСИХОЛОГИЧЕСКОЕ КОНСУЛЬТИР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Georgia"/>
              </a:rPr>
              <a:t>И</a:t>
            </a: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 ПСИХОКОРРЕК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НОУ ВПО «Российский Новый Университет» (РосНОУ)</a:t>
            </a:r>
            <a:endParaRPr b="0" lang="en-US" sz="14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15" name="Рисунок 3" descr="Bezymyannyjj.jpg"/>
          <p:cNvPicPr/>
          <p:nvPr/>
        </p:nvPicPr>
        <p:blipFill>
          <a:blip r:embed="rId1"/>
          <a:stretch/>
        </p:blipFill>
        <p:spPr>
          <a:xfrm>
            <a:off x="324000" y="622440"/>
            <a:ext cx="2809800" cy="17240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4" descr="Soy-Yer-Dough-Image-Blog123.jpg"/>
          <p:cNvPicPr/>
          <p:nvPr/>
        </p:nvPicPr>
        <p:blipFill>
          <a:blip r:embed="rId2"/>
          <a:stretch/>
        </p:blipFill>
        <p:spPr>
          <a:xfrm>
            <a:off x="5797440" y="622440"/>
            <a:ext cx="2876760" cy="172404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78920" y="1484280"/>
            <a:ext cx="8626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347640" y="1527120"/>
            <a:ext cx="5457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Цель программы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По окончании обучения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по программе профессиональной переподготовки слушатели должны </a:t>
            </a:r>
            <a:r>
              <a:rPr b="0" i="1" lang="ru-RU" sz="1700" spc="-1" strike="noStrike">
                <a:solidFill>
                  <a:srgbClr val="14425d"/>
                </a:solidFill>
                <a:latin typeface="Georgia"/>
              </a:rPr>
              <a:t>уметь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диагностировать, применять имеющиеся методы исследования личност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4" descr="x_da403202.jpg"/>
          <p:cNvPicPr/>
          <p:nvPr/>
        </p:nvPicPr>
        <p:blipFill>
          <a:blip r:embed="rId1"/>
          <a:stretch/>
        </p:blipFill>
        <p:spPr>
          <a:xfrm>
            <a:off x="249120" y="1487520"/>
            <a:ext cx="3170520" cy="2876400"/>
          </a:xfrm>
          <a:prstGeom prst="rect">
            <a:avLst/>
          </a:prstGeom>
          <a:ln w="0">
            <a:noFill/>
          </a:ln>
        </p:spPr>
      </p:pic>
      <p:sp>
        <p:nvSpPr>
          <p:cNvPr id="6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0560" y="1483920"/>
            <a:ext cx="55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Изучение дисциплин проводится </a:t>
            </a:r>
            <a:r>
              <a:rPr b="0" i="1" lang="ru-RU" sz="1800" spc="-1" strike="noStrike">
                <a:solidFill>
                  <a:srgbClr val="14425d"/>
                </a:solidFill>
                <a:latin typeface="Georgia"/>
              </a:rPr>
              <a:t>без отрыва 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о завершении обучения слушатели защищают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выпускную  аттестационную работу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Рисунок 3" descr="img1.png"/>
          <p:cNvPicPr/>
          <p:nvPr/>
        </p:nvPicPr>
        <p:blipFill>
          <a:blip r:embed="rId1"/>
          <a:stretch/>
        </p:blipFill>
        <p:spPr>
          <a:xfrm>
            <a:off x="5940360" y="1484280"/>
            <a:ext cx="2905200" cy="24098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4" descr="img3.png"/>
          <p:cNvPicPr/>
          <p:nvPr/>
        </p:nvPicPr>
        <p:blipFill>
          <a:blip r:embed="rId2"/>
          <a:stretch/>
        </p:blipFill>
        <p:spPr>
          <a:xfrm>
            <a:off x="5940360" y="3933720"/>
            <a:ext cx="2933640" cy="240984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250920" y="1412640"/>
            <a:ext cx="8555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800" spc="-1" strike="noStrike">
                <a:solidFill>
                  <a:srgbClr val="14425d"/>
                </a:solidFill>
                <a:latin typeface="Georgia"/>
              </a:rPr>
              <a:t>присваивается право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Diplom_PP_1.jpg"/>
          <p:cNvPicPr/>
          <p:nvPr/>
        </p:nvPicPr>
        <p:blipFill>
          <a:blip r:embed="rId1"/>
          <a:stretch/>
        </p:blipFill>
        <p:spPr>
          <a:xfrm>
            <a:off x="2255760" y="2700360"/>
            <a:ext cx="6291360" cy="362124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4" descr="artterapy5.jpg"/>
          <p:cNvPicPr/>
          <p:nvPr/>
        </p:nvPicPr>
        <p:blipFill>
          <a:blip r:embed="rId1"/>
          <a:stretch/>
        </p:blipFill>
        <p:spPr>
          <a:xfrm>
            <a:off x="4286160" y="2133720"/>
            <a:ext cx="4608720" cy="37432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6" descr="sayfa-zzsfva1hmi6ulvmyx65i3dqagn4zcc5m6iu5zgdxzmazqv875q.jpg"/>
          <p:cNvPicPr/>
          <p:nvPr/>
        </p:nvPicPr>
        <p:blipFill>
          <a:blip r:embed="rId2"/>
          <a:stretch/>
        </p:blipFill>
        <p:spPr>
          <a:xfrm>
            <a:off x="176040" y="189000"/>
            <a:ext cx="3316320" cy="1079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8" descr="k6024759.jpg"/>
          <p:cNvPicPr/>
          <p:nvPr/>
        </p:nvPicPr>
        <p:blipFill>
          <a:blip r:embed="rId3"/>
          <a:stretch/>
        </p:blipFill>
        <p:spPr>
          <a:xfrm>
            <a:off x="5651640" y="189000"/>
            <a:ext cx="331632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25056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   </a:t>
            </a: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РАЗДЕЛЫ ПРОГРАММЫ ПРОФЕССИОНАЛЬНОЙ ПЕРЕПОДГОТОВКИ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бщ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оциаль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личност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озрастная психология и психология развит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клинической психологии и психосома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Дифференциальная 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критических ситу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здоровь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ендер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психодиагнос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ческий практику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ведение в практическую психолог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Индивидуаль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руппов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емей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ные направления в психоконсультировании и в психокорре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3:33Z</dcterms:created>
  <dc:creator>ni-jakovleva</dc:creator>
  <dc:description/>
  <dc:language>en-US</dc:language>
  <cp:lastModifiedBy>LEGION</cp:lastModifiedBy>
  <dcterms:modified xsi:type="dcterms:W3CDTF">2014-11-12T09:35:57Z</dcterms:modified>
  <cp:revision>29</cp:revision>
  <dc:subject/>
  <dc:title>НОУ ВПО «Российский Новый Университет» (РосНОУ)</dc:title>
</cp:coreProperties>
</file>