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9A8D-309A-4293-8B38-44BD9F692F0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77933c"/>
                </a:solidFill>
                <a:latin typeface="Calibri"/>
              </a:rPr>
              <a:t>НОУ ВПО «Российский Новый Университет» (РосНОУ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СИХОЛОГИЧЕСКОЕ консульт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7933c"/>
                </a:solidFill>
                <a:latin typeface="Calibri"/>
              </a:rPr>
              <a:t>И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D890-FF35-4BEE-8789-25EF44E8B795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В настоящее время особую важность приобретает подготовка высококвалифицированных кадров психологов-консультантов для таких областей и сфер как образование, здравоохранение, социальная защита, спорт и  т.п., а также для решения широкого класса задач в системах управления, государственной службы и социальной защиты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Для подготовки таких кадров разработана программа профессиональной переподготовки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 Слушатели, прошедшие подготовку по данной программе, получают знания о психологических основах личности, навыки и умения по психодиагностике, консультированию, психокорр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На данной программе обучающиеся знакомятся с различными направлениями в консультативной и психокоррекционной работе, овладеют методами и методиками психологического консультирования, проектирования приемов психологического воздействия и помощи личности, способствующих личностному росту, а также компенсации и коррекции отклонений в развити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4707-7452-44B8-8001-ADD5CF6796A1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Цель программы 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 - подготовка высококвалифицированных психологов-практиков, сочетающих достаточно высокий уровень с умениями анализировать и решать на практике широкий круг проблем: личных, межличностных, семейных, сексуальных, детских, родительских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Calibri"/>
              </a:rPr>
              <a:t>По окончании обучения 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по программе профессиональной переподготовки слушатели должны </a:t>
            </a:r>
            <a:r>
              <a:rPr b="0" i="1" lang="ru-RU" sz="2400" spc="-1" strike="noStrike">
                <a:solidFill>
                  <a:srgbClr val="77933c"/>
                </a:solidFill>
                <a:latin typeface="Calibri"/>
              </a:rPr>
              <a:t>уметь</a:t>
            </a: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диагностировать, применять имеющиеся методы исследования лич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933c"/>
                </a:solidFill>
                <a:latin typeface="Calibri"/>
              </a:rPr>
              <a:t>оказывать психологическую помощь лицам, испытывающим трудности личностного выбора, в ситуациях потери и горя, острой и хронической тревоги, стресса, при сниженной самооценке, неуверенности в себе, в ситуациях трудного выбора и многих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B30B-1888-4864-AB83-10A106AEDF28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рограмма разработана для профессиональной переподготовки кадров, желающих получить навыки и умения в области психологического консультирования. Слушатели, проходящие обучение по данной программе, должны иметь высшее профессиональное обра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Изучение дисциплин проводится </a:t>
            </a:r>
            <a:r>
              <a:rPr b="0" i="1" lang="ru-RU" sz="1200" spc="-1" strike="noStrike">
                <a:solidFill>
                  <a:srgbClr val="77933c"/>
                </a:solidFill>
                <a:latin typeface="Calibri"/>
              </a:rPr>
              <a:t>без отрыва 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слушателей от работы (в группе выходного дня) и предполагает проведение лекционных, семинарских и тренинговых занятий для изучения теоретических и практических основ психологического консульт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По завершении обучения слушатели защищают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ыпускную  аттестационную работу</a:t>
            </a: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1054-88CB-4684-BF8F-EE701ACE7F41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лушателям, освоившим программу дополнительного профессионального образования и успешно прошедшим государственную итоговую аттестацию, </a:t>
            </a:r>
            <a:r>
              <a:rPr b="1" i="1" lang="ru-RU" sz="1400" spc="-1" strike="noStrike">
                <a:solidFill>
                  <a:srgbClr val="77933c"/>
                </a:solidFill>
                <a:latin typeface="Calibri"/>
              </a:rPr>
              <a:t>присваивается право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(соответствие квалификации) на ведение профессиональной деятельности в сфере психологического консультирования и психокорре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04AA-4DB6-4CFB-9ED9-F959FDCB865C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7933c"/>
                </a:solidFill>
                <a:latin typeface="Calibri"/>
              </a:rPr>
              <a:t>   </a:t>
            </a:r>
            <a:r>
              <a:rPr b="1" lang="ru-RU" sz="1100" spc="-1" strike="noStrike">
                <a:solidFill>
                  <a:srgbClr val="77933c"/>
                </a:solidFill>
                <a:latin typeface="Calibri"/>
              </a:rPr>
              <a:t>РАЗДЕЛЫ ПРОГРАММЫ ПРОФЕССИОНАЛЬНОЙ ПЕРЕПОДГОТОВКИ </a:t>
            </a: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«ПСИХОЛОГИЧЕСКОЕ КОНСУЛЬТИРОВАНИЕ И ПСИХОКОРРЕК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бщ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оциальн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озрастная психология и психология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ы клинической психологии и психосо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Дифференциальная 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критических ситу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я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Гендерная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ы психодиагно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Психологический практ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Введение в практическую психолог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Индивидуальн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Группов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Семейное психоконсультирование и психокорр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7933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933c"/>
                </a:solidFill>
                <a:latin typeface="Calibri"/>
              </a:rPr>
              <a:t>Основные направления в психоконсультировании и в психокорр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B1CA-5B12-4717-BC53-03237BA77447}" type="slidenum">
              <a:rPr b="0" lang="uk-UA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401-C5F7-474B-BD60-392F532E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8322-2CC6-46E9-8238-A1A39144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17BF4-7E05-41B0-8B64-93E5AF37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575D6-AA4A-480C-B8D9-4F5D5373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6C58E7-7C9C-448D-BBC3-B9FA55EE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96C94-67B9-407A-A0E2-F31046C1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9A4B2A-F16E-466C-BA4E-43634170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6B76C3-4792-4148-A384-E25C1823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AB0F03-4A5D-4AD3-AA08-4CEF6285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8E5D1B-4BAB-4B2B-B1AE-BC4BFEB4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130566-B0F9-42F6-89AF-E4DC0ADF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846F27-A234-4EBA-884E-71D7CE2B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999-80DE-422D-8788-42A36566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637DC4-FC47-4A7E-B30B-4ED9BAB5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94A894-88FF-4D3F-AEFC-AE974CA6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C1BEC8-CB29-4FF3-9FC6-D6C75B1F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2CB7FD-C2B7-4345-B28D-ED6E6198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D9C5F5-3252-4065-B7D9-98361AA3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35896-F72A-410F-8004-8A0465ED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A9C621-6A6D-46FD-975B-3113829D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39AD47-E5F5-46E4-9894-4FA217D7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6CB3B-FB10-4738-A270-859872CB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44C543-CAFB-47ED-B176-076D653C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91C7-82CC-4A15-A959-23DD13DE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22DC78-487C-4C24-8808-5A5F9143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17255-BCAB-4A24-97A8-509DF090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2425A-4146-4231-84CC-A2BBE5E8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766B7-F585-4B66-80CF-E3696FA0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F91CA-3EEC-446B-A072-6A7E894E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6D1D1-DD20-4EAC-B343-7A20F32F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D1A1F-F4B3-478D-A2E2-9965D063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0A0B1-B39C-4E27-857E-9DBD0076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55F8A-2B47-447A-9749-6D1E055E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9223D-F75A-40E8-A303-3B4D3FCC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3F78-AC25-4F6E-B307-86CC1BE0F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74829-C453-4FEE-BB5E-8FC8F6AE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CDFC5-2654-4A80-A701-4B0CD1AF5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881F5-0A63-4EFD-8537-D414B875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C8EEA9-F853-40B0-97DA-21FD9988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8787D-DC09-4FA2-9B83-31142FE4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39211D-1220-4376-AFEC-7489E018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E0F31A-1437-418A-BB5B-2C98775C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FE975C-CC19-47DE-B7E3-D4386455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A6A035-621B-46B3-8DD6-2C66FF0E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D9CA91-D029-48FE-9C0C-13BADED4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044B-A198-4620-BF9D-9B948B0B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3AE2B-B224-46DF-867F-4389957B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39268E-4FA9-4EE7-A921-7079CC6D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A3947-904E-497D-8BDA-925E7998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89D65F-3344-4139-9C88-EEDD4357E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B8C06-9452-45A7-9593-36DECFFA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D243-B082-47E9-B007-A529B3E4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270A-39E6-45A3-9763-93577BC2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0354-3DB1-4BE7-969A-E83CA74F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8B98-8524-4E9B-A9E3-AD4F86B9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4F56-9620-4FCB-892C-39B32419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076-5D7D-4E11-8196-4BD45D0A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4EB5-AC75-494E-AD54-9864F27C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8841-F6E4-4138-AA00-788A359A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7434-78FC-4DB8-BE06-9DF8001A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3468-013F-47F1-A1FB-FA2E18CC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7B14-BBBA-4C07-AAC2-D8374C73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CD864-5FEB-4CD5-83F5-B62C56C7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38901-BF33-4A39-A2A8-493A51C7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2F5F6-B235-42A9-8639-1772D8F28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69FF7-4C3E-4EC2-893B-7DC325D1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FD915-8A56-4808-B451-A3C0D1BA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3CF5-36BB-44CA-B446-766170BF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B1773-509A-4C4D-8EB5-A24F5471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CD976-F71C-442B-B373-FBFD654D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55501-3CDC-478C-9C7F-FD9C7C4A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ABCB0-2178-43AA-BE69-6E47D0F3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EE87D-CAAC-4024-89F7-E6D593F2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72E09-B83C-446A-A29C-99EEBBDF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39D00-84AF-4B1E-87C4-56B10291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6C3B1-13FD-4298-8BDA-1AD15E987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80399-9824-43A1-84D1-868B025B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456AA-F517-4B79-92D7-367D3A43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D31C-C403-45B3-BD7F-231BA3B1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AC389-AFFE-46A1-8689-224B232D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F3CBC-0BF6-4743-84E7-CF162D99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D5035-5ED3-4367-B86B-5BFFDA0E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78138-AFDF-4C08-A6AC-B256DB16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3AD28-9BBC-46B6-9856-7FAAC162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7F647-CBE4-411F-B7EB-4492BED8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B7DD4-36FB-40B6-8309-29D03F5A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593A4-303D-4474-8E1A-DE5CC2FB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3746A-EE74-40D5-9DBA-076AD4DB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397B9-8182-4A03-BE9F-B2DB75E1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B87-EF35-4333-B1C6-C631EBBE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E31B5-967B-46F6-8772-6569F602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C327E-608A-4475-8509-5EB64EF1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03933-7C37-4339-BA99-46D4EAEA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D63F1-EAA7-49F9-BD00-36323BAA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50FBE-C37A-45FF-8F8A-6E7B0636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CD537-A366-4725-8479-39AE56F8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10EED-BE0A-4991-AF8D-4F3943BD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B7728-BE97-469F-951D-A03A3450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224CE-6234-41CD-94A4-9D83C5D8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A8440-2C88-42E8-B8F7-515FDC94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A61-C7EA-4218-AD4F-D5F774CF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864B2-E573-4CA8-B7DB-CB090E01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D405A-B89A-40DF-9CC7-C89DA38D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3A8C2-B71C-4548-97AA-B2D03AF0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E631A-2320-4ADE-B2E8-CACAAAC1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E4438-7184-45A8-918D-6217CA51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003B8-6FE4-44E7-B5E3-E2A86CF5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7103F-98BB-4BF1-8430-CA677723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70C8D-1C2D-41A1-AE0C-50BA16B2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73FEC-00CB-4761-8DE8-705204AD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C0EA2-6B46-43AD-8B67-90BD8542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C5C-A91E-4496-80F7-A9FE6743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1CFAA-4F94-482D-80A3-BDF54ED9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0CB8E-180B-44F4-AB4F-D13AA07C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689FB-0DA8-43DD-A31F-37E85CDF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D62D1-C444-4158-A803-0FED2E4F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C1D7F-8AFC-43C5-993E-A318B70E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D9602-D0C3-4914-8940-28CFB794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A0D62-1D4B-4565-ACDE-CFE1DF96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150E4-680F-479B-BD27-8D9494E6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5199E-5E7C-4270-8F06-DACA0089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8A554-AE08-43EA-85C6-75F14F17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EF3A-2705-4054-AFD6-97939054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54B34-7825-4279-88EB-0870E690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0EDAA-3399-4CDD-9760-6EA4CCFD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11175-B546-4E95-A875-7EAB6895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C6F3D-6107-4582-893F-70A0309E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BE9D2-2A56-45C4-8FE0-277E2C7D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D7C3A-46A8-4DD3-8C34-E652624E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EBF8E-34B6-4C8A-AAE7-A6DC17D0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E130B-6D66-4F3B-9F61-463489BF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919D5-1119-4562-8D1B-6BA4E653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CDBAE-17A6-4D96-A2D8-E966DFE2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DC5E-8DFE-40FC-891A-6B7814A8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5A244-5E1B-491E-BD57-8DD9B9B0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3CF8A-BA18-4227-88DA-91E82E33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2FD1D-2922-4737-A2FC-9C1314F9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1CCA5-FDCE-4891-88D4-75A5214C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0DB50-6A30-4CC6-AFFF-ED451DC9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4D603-9BAC-40EA-AE75-1428E506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9762F-002B-4F07-9002-2A8CA6E2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A7AEA-1231-4263-9D75-331566D5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FF3F20-BA8E-4C01-9559-9A3DCFA5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0F54BF-C080-45BE-985B-C798A683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3B79-918A-4D97-8391-932AA752A5B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03D4-4315-4C2C-ACBA-E5861F2CE8C6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0FEE-050E-4580-9E66-882616698C9E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0E7F-DD8F-4BB3-BC66-3C503F9A0FE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87B5-60A4-4AE1-96BC-89B5AD1F0DF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AC17-192E-4D05-A5DC-89CFEA040E54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D3D4-78A0-494D-8DA8-672E1A305701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FA4A-1232-447D-8610-FA4A077619B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5EC5-4E8A-4298-A860-695EE2E9C09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66E4-E5D2-4B6E-B986-858444C4FF14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3A76-546C-4D09-A942-FD2F4119BAF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54C5-2DFD-4F7F-9A7B-47260537E088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AC0F-F722-466E-9E90-3E4C90DBFFE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7576-A989-4283-B24E-62F4EC8E6C56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40FA-17DA-4393-A307-8E467A2B279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50C1-B21F-41F9-BD38-AC3F9659C1B5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2049-3DFA-4BCA-B4CB-26F5E6A66A9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9ABB-865F-4537-AAD8-4DCEDF62BA98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4C92-D28A-41D6-8166-E500BE98558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425C-0CA2-4DB8-8C68-0FA58153E077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FCE5-6540-4F51-A3FD-EC1197E9A2B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523F-2366-4012-924E-150AF472F15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164c6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164c6c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164c6c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1b587c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64c6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AB0D-73E4-4839-AACC-DDB0C1BCF1CB}" type="slidenum">
              <a:rPr b="0" lang="ru-RU" sz="1600" spc="-1" strike="noStrike">
                <a:solidFill>
                  <a:srgbClr val="164c6c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D19F-4AC5-48AA-996D-E92ABF3AAF2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403280" y="3428640"/>
            <a:ext cx="7416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4425d"/>
                </a:solidFill>
                <a:latin typeface="Georgia"/>
              </a:rPr>
              <a:t>ПСИХОЛОГИЧЕСКОЕ КОНСУЛЬТИРОВАНИЕ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425d"/>
                </a:solidFill>
                <a:latin typeface="Georgia"/>
              </a:rPr>
              <a:t>И</a:t>
            </a:r>
            <a:r>
              <a:rPr b="1" lang="ru-RU" sz="3200" spc="-1" strike="noStrike">
                <a:solidFill>
                  <a:srgbClr val="14425d"/>
                </a:solidFill>
                <a:latin typeface="Georgia"/>
              </a:rPr>
              <a:t> ПСИХОКОРРЕКЦИЯ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31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НОУ ВПО «Российский Новый Университет» (РосНОУ)</a:t>
            </a:r>
            <a:endParaRPr b="0" lang="en-US" sz="1400" spc="-1" strike="noStrike">
              <a:solidFill>
                <a:srgbClr val="164c6c"/>
              </a:solidFill>
              <a:latin typeface="Georgia"/>
            </a:endParaRPr>
          </a:p>
        </p:txBody>
      </p:sp>
      <p:pic>
        <p:nvPicPr>
          <p:cNvPr id="615" name="Рисунок 3" descr="Bezymyannyjj.jpg"/>
          <p:cNvPicPr/>
          <p:nvPr/>
        </p:nvPicPr>
        <p:blipFill>
          <a:blip r:embed="rId1"/>
          <a:stretch/>
        </p:blipFill>
        <p:spPr>
          <a:xfrm>
            <a:off x="324000" y="622440"/>
            <a:ext cx="2809800" cy="172404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4" descr="Soy-Yer-Dough-Image-Blog123.jpg"/>
          <p:cNvPicPr/>
          <p:nvPr/>
        </p:nvPicPr>
        <p:blipFill>
          <a:blip r:embed="rId2"/>
          <a:stretch/>
        </p:blipFill>
        <p:spPr>
          <a:xfrm>
            <a:off x="5797440" y="622440"/>
            <a:ext cx="2876760" cy="1724040"/>
          </a:xfrm>
          <a:prstGeom prst="rect">
            <a:avLst/>
          </a:prstGeom>
          <a:ln w="0">
            <a:noFill/>
          </a:ln>
        </p:spPr>
      </p:pic>
      <p:sp>
        <p:nvSpPr>
          <p:cNvPr id="617" name="Місце для нижнього колонтитула 6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178920" y="1484280"/>
            <a:ext cx="86266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В настоящее время особую важность приобретает подготовка высококвалифицированных кадров психологов-консультантов для таких областей и сфер как образование, здравоохранение, социальная защита, спорт и  т.п., а также для решения широкого класса задач в системах управления, государственной службы и социальной защиты населе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Для подготовки таких кадров разработана программа профессиональной переподготовки </a:t>
            </a:r>
            <a:r>
              <a:rPr b="1" lang="ru-RU" sz="18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 Слушатели, прошедшие подготовку по данной программе, получают знания о психологических основах личности, навыки и умения по психодиагностике, консультированию, психокоррекци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На данной программе обучающиеся знакомятся с различными направлениями в консультативной и психокоррекционной работе, овладеют методами и методиками психологического консультирования, проектирования приемов психологического воздействия и помощи личности, способствующих личностному росту, а также компенсации и коррекции отклонений в развитии личност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347640" y="1527120"/>
            <a:ext cx="54579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4425d"/>
                </a:solidFill>
                <a:latin typeface="Georgia"/>
              </a:rPr>
              <a:t>Цель программы 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 - подготовка высококвалифицированных психологов-практиков, сочетающих достаточно высокий уровень с умениями анализировать и решать на практике широкий круг проблем: личных, межличностных, семейных, сексуальных, детских, родительских и др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14425d"/>
                </a:solidFill>
                <a:latin typeface="Georgia"/>
              </a:rPr>
              <a:t>По окончании обучения 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по программе профессиональной переподготовки слушатели должны </a:t>
            </a:r>
            <a:r>
              <a:rPr b="0" i="1" lang="ru-RU" sz="1700" spc="-1" strike="noStrike">
                <a:solidFill>
                  <a:srgbClr val="14425d"/>
                </a:solidFill>
                <a:latin typeface="Georgia"/>
              </a:rPr>
              <a:t>уметь</a:t>
            </a: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диагностировать, применять имеющиеся методы исследования личности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 algn="just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4425d"/>
                </a:solidFill>
                <a:latin typeface="Georgia"/>
              </a:rPr>
              <a:t>оказывать психологическую помощь лицам, испытывающим трудности личностного выбора, в ситуациях потери и горя, острой и хронической тревоги, стресса, при сниженной самооценке, неуверенности в себе, в ситуациях трудного выбора и многих других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90000"/>
              </a:lnSpc>
              <a:spcBef>
                <a:spcPts val="42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1" name="Рисунок 4" descr="x_da403202.jpg"/>
          <p:cNvPicPr/>
          <p:nvPr/>
        </p:nvPicPr>
        <p:blipFill>
          <a:blip r:embed="rId1"/>
          <a:stretch/>
        </p:blipFill>
        <p:spPr>
          <a:xfrm>
            <a:off x="249120" y="1487520"/>
            <a:ext cx="3170520" cy="2876400"/>
          </a:xfrm>
          <a:prstGeom prst="rect">
            <a:avLst/>
          </a:prstGeom>
          <a:ln w="0">
            <a:noFill/>
          </a:ln>
        </p:spPr>
      </p:pic>
      <p:sp>
        <p:nvSpPr>
          <p:cNvPr id="62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250560" y="1483920"/>
            <a:ext cx="554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Программа разработана для профессиональной переподготовки кадров, желающих получить навыки и умения в области психологического консультирования. Слушатели, проходящие обучение по данной программе, должны иметь высшее профессиональное образовани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Изучение дисциплин проводится </a:t>
            </a:r>
            <a:r>
              <a:rPr b="0" i="1" lang="ru-RU" sz="1800" spc="-1" strike="noStrike">
                <a:solidFill>
                  <a:srgbClr val="14425d"/>
                </a:solidFill>
                <a:latin typeface="Georgia"/>
              </a:rPr>
              <a:t>без отрыва 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слушателей от работы (в группе выходного дня) и предполагает проведение лекционных, семинарских и тренинговых занятий для изучения теоретических и практических основ психологического консультирова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 algn="just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По завершении обучения слушатели защищают </a:t>
            </a:r>
            <a:r>
              <a:rPr b="1" lang="ru-RU" sz="1800" spc="-1" strike="noStrike">
                <a:solidFill>
                  <a:srgbClr val="14425d"/>
                </a:solidFill>
                <a:latin typeface="Georgia"/>
              </a:rPr>
              <a:t>выпускную  аттестационную работу</a:t>
            </a:r>
            <a:r>
              <a:rPr b="0" lang="ru-RU" sz="1800" spc="-1" strike="noStrike">
                <a:solidFill>
                  <a:srgbClr val="14425d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51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Рисунок 3" descr="img1.png"/>
          <p:cNvPicPr/>
          <p:nvPr/>
        </p:nvPicPr>
        <p:blipFill>
          <a:blip r:embed="rId1"/>
          <a:stretch/>
        </p:blipFill>
        <p:spPr>
          <a:xfrm>
            <a:off x="5940360" y="1484280"/>
            <a:ext cx="2905200" cy="240984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4" descr="img3.png"/>
          <p:cNvPicPr/>
          <p:nvPr/>
        </p:nvPicPr>
        <p:blipFill>
          <a:blip r:embed="rId2"/>
          <a:stretch/>
        </p:blipFill>
        <p:spPr>
          <a:xfrm>
            <a:off x="5940360" y="3933720"/>
            <a:ext cx="2933640" cy="2409840"/>
          </a:xfrm>
          <a:prstGeom prst="rect">
            <a:avLst/>
          </a:prstGeom>
          <a:ln w="0">
            <a:noFill/>
          </a:ln>
        </p:spPr>
      </p:pic>
      <p:sp>
        <p:nvSpPr>
          <p:cNvPr id="62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250920" y="1412640"/>
            <a:ext cx="85550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00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Слушателям, освоившим программу дополнительного профессионального образования и успешно прошедшим государственную итоговую аттестацию, </a:t>
            </a:r>
            <a:r>
              <a:rPr b="1" i="1" lang="ru-RU" sz="1800" spc="-1" strike="noStrike">
                <a:solidFill>
                  <a:srgbClr val="14425d"/>
                </a:solidFill>
                <a:latin typeface="Georgia"/>
              </a:rPr>
              <a:t>присваивается право </a:t>
            </a: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(соответствие квалификации) на ведение профессиональной деятельности в сфере психологического консультирования и психокоррекц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Рисунок 3" descr="Diplom_PP_1.jpg"/>
          <p:cNvPicPr/>
          <p:nvPr/>
        </p:nvPicPr>
        <p:blipFill>
          <a:blip r:embed="rId1"/>
          <a:stretch/>
        </p:blipFill>
        <p:spPr>
          <a:xfrm>
            <a:off x="2255760" y="2700360"/>
            <a:ext cx="6291360" cy="3621240"/>
          </a:xfrm>
          <a:prstGeom prst="rect">
            <a:avLst/>
          </a:prstGeom>
          <a:ln w="0">
            <a:noFill/>
          </a:ln>
        </p:spPr>
      </p:pic>
      <p:sp>
        <p:nvSpPr>
          <p:cNvPr id="6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Рисунок 4" descr="artterapy5.jpg"/>
          <p:cNvPicPr/>
          <p:nvPr/>
        </p:nvPicPr>
        <p:blipFill>
          <a:blip r:embed="rId1"/>
          <a:stretch/>
        </p:blipFill>
        <p:spPr>
          <a:xfrm>
            <a:off x="4286160" y="2133720"/>
            <a:ext cx="4608720" cy="3743280"/>
          </a:xfrm>
          <a:prstGeom prst="rect">
            <a:avLst/>
          </a:prstGeom>
          <a:ln w="0">
            <a:noFill/>
          </a:ln>
        </p:spPr>
      </p:pic>
      <p:pic>
        <p:nvPicPr>
          <p:cNvPr id="631" name="Рисунок 6" descr="sayfa-zzsfva1hmi6ulvmyx65i3dqagn4zcc5m6iu5zgdxzmazqv875q.jpg"/>
          <p:cNvPicPr/>
          <p:nvPr/>
        </p:nvPicPr>
        <p:blipFill>
          <a:blip r:embed="rId2"/>
          <a:stretch/>
        </p:blipFill>
        <p:spPr>
          <a:xfrm>
            <a:off x="176040" y="189000"/>
            <a:ext cx="3316320" cy="1079280"/>
          </a:xfrm>
          <a:prstGeom prst="rect">
            <a:avLst/>
          </a:prstGeom>
          <a:ln w="0">
            <a:noFill/>
          </a:ln>
        </p:spPr>
      </p:pic>
      <p:pic>
        <p:nvPicPr>
          <p:cNvPr id="632" name="Рисунок 8" descr="k6024759.jpg"/>
          <p:cNvPicPr/>
          <p:nvPr/>
        </p:nvPicPr>
        <p:blipFill>
          <a:blip r:embed="rId3"/>
          <a:stretch/>
        </p:blipFill>
        <p:spPr>
          <a:xfrm>
            <a:off x="5651640" y="189000"/>
            <a:ext cx="3316320" cy="107928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250560" y="1413000"/>
            <a:ext cx="8569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   </a:t>
            </a:r>
            <a:r>
              <a:rPr b="1" lang="ru-RU" sz="1400" spc="-1" strike="noStrike">
                <a:solidFill>
                  <a:srgbClr val="14425d"/>
                </a:solidFill>
                <a:latin typeface="Georgia"/>
              </a:rPr>
              <a:t>РАЗДЕЛЫ ПРОГРАММЫ ПРОФЕССИОНАЛЬНОЙ ПЕРЕПОДГОТОВКИ </a:t>
            </a:r>
            <a:r>
              <a:rPr b="1" lang="ru-RU" sz="1600" spc="-1" strike="noStrike">
                <a:solidFill>
                  <a:srgbClr val="14425d"/>
                </a:solidFill>
                <a:latin typeface="Georgia"/>
              </a:rPr>
              <a:t>«ПСИХОЛОГИЧЕСКОЕ КОНСУЛЬТИРОВАНИЕ И ПСИХОКОРРЕКЦИЯ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бщ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Социальн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личност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Возрастная психология и психология развит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ы клинической психологии и психосоматик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Дифференциальная 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критических ситуаций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я здоровь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Гендерная психолог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ы психодиагностик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Психологический практикум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Введение в практическую психологию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Индивидуальн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Группов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Семейное психоконсультирование и психокоррекция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74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4425d"/>
                </a:solidFill>
                <a:latin typeface="Georgia"/>
              </a:rPr>
              <a:t>Основные направления в психоконсультировании и в психокоррекции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1:33:33Z</dcterms:created>
  <dc:creator>ni-jakovleva</dc:creator>
  <dc:description/>
  <dc:language>en-US</dc:language>
  <cp:lastModifiedBy>LEGION</cp:lastModifiedBy>
  <dcterms:modified xsi:type="dcterms:W3CDTF">2014-11-12T09:35:57Z</dcterms:modified>
  <cp:revision>29</cp:revision>
  <dc:subject/>
  <dc:title>НОУ ВПО «Российский Новый Университет» (РосНОУ)</dc:title>
</cp:coreProperties>
</file>