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FB0E9-56A6-4757-A24D-42D28D2D55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98CE1-915A-41F7-9B54-770730157A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Психологическое сопровождение в условиях дополнительного образования (отчет об инновационной  деятельности МОУ ДОД ДДиЮ «Факел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D0F64-1369-479D-AE9C-686622BCB4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Verdana"/>
              </a:rPr>
              <a:t>Направления деятельности и формы психологического сопровож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 объектом психологическ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провождения в учреждении дополнительн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ния является микрогруппа (7-12 человек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правило участники одного объединения. Форм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ческого сопровождения реализуютс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местно с педагогами (кураторами, классны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водителями, педагогами дополнительн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ния),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которые одновременно  являются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ициаторами  запроса на психологические услуг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 помощниками в реализации данных услуг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F79DF-3F82-44B9-BAE8-E6B40B5C94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Система психологического сопровождения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C4D0C-C3EC-4E88-BC27-45CF15FABD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Сопровождение творческих объединений  ДД и Ю «Факел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ECA36-2304-468D-9E6F-33C9509F4F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Пример психологического сопровождения ребёнка в рамках сопровождения творческого объеди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оман, дошкольни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 диагностической карте отмечаются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обенности поведения: обидчив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эмоциональная неустойчивость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гативизм (делает все наоборот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оворит слова «не хочу» или «н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буду»), а также  нерешительность 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еакцию новизны, иногда ситуаци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стного опроса, избегание умствен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силий и непонимание слож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струк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1FD2F-62C4-48E0-88FB-26A4804F2F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Пример психологического сопровождения ребёнка в рамках сопровождения творческого объеди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B2056-B36D-4F11-8B79-AFB841DD27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Пример психологического сопровождения ребёнка в рамках сопровождения творческого объеди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83C4F-1659-4C77-B014-28C6FBDC94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Сопровождение детей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«группы рис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 ДДиЮ «Факел» в 2006-2007 учебном году бы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реализованы следующие виды деятельности с детьми «групп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риска»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информирование и консультирование по социальным и психологическим вопросам. Всего проведено: 213 консультаций 104 подростков и 98 родителей детей «группы риска», а также проведена индивидуальная работа с 18 педагогами О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оциальный патронаж детей и подростков. На социальном –патронаже в 2006-2007 состояли 17 детей и подростков «группы риска»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оциально-педагогическое диагностирование на предмет выявления девиаций, определения степени поведенческих отклонений, уточнение социально –психологических характеристик проведено с 465 детьми и подростк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краткосрочные и долгосрочные программы, направленные на профилактику девиантного пове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7FCBB-7011-40F1-A4FD-672C329E31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Сопровождение детей 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«группы риск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пециалисты ДДиЮ «Факел» принимают участ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 организации и проведении социально-педагогических консилиумов (советы по профилактике в ОУ, еженедельные заседания КДН). Всего специалисты посетили 12 Советов по профилактике на базе ОУ, 2 социально- педагогических консилиума, более 54 заседаний КДН и ЗП Кировского и Советского район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рупповые и индивидуальные формы работы с детьми реализуются как на базе Центра «Альтернатива» при ДД и Ю «Факел», так и на базе ОУ и учреждений социальной защиты (детские дома, реабилитационные центры, специализированные учреждения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C2CA0-37ED-404B-850F-55B756B75A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Сопровождение   сопровождающ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взаимодействия специалистов, а также создание и поддерживание в коллективе сопровождающих атмосферу всеобщей заинтересованности в результатах труда; взаимопонимания и взаимного уважения к профессиональным  и личностным качествам колле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учение специалистов в новой логике взаимодействия; в методологии комплексности и мультидисциплинарности в решении проблем ребенка и его семь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AD7CE-6C0C-4B99-8FF6-9FCAB674F4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Психологическое сопровождение процесса повышения профессиональной компетентности педагог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4BBB0-0B11-483E-9C54-DA171D22EE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Verdana"/>
              </a:rPr>
              <a:t>Цель психологического сопрово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новной целью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сихологическ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провождения в ДД и Ю «Факел» являетс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ческая помощь процесс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изации личности, обеспечивающ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рмонизацию отношений ребенка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ства, развитие творческого потенциал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дагогического и детского коллектив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реждения, выявление перспектив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я вариативного образ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C3439-FABD-48C7-BA32-F75C12EA2A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Сопровождение сопровождающих: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взаимодействие с психологами, педагог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645E2-F2E2-4540-83D6-A5E0F0D2B9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Формы взаимодействия с образовательными учрежден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оставление услуг ДД и Ю «Факел» в виде списка предлагаемых мероприятий (образовательные программы, лектории и тренинги для всех целевых групп, консультирование, проведение массовых акци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анирование мероприятий с образовательными учреждениями  в течение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уществление психологического сопровождения (реализация программ, ведение консультаций, социальное проектирование, психодиагностик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ценка результатов и подведение итогов в течение года и  корректировка взаимодей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FEB8C-2031-46C0-BEF7-6954FE4E3A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Verdana"/>
              </a:rPr>
              <a:t>Психологическое сопровождение проект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дельным направление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ческого сопровожд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ляется взаимодействие с участника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ектов, реализуемых ДДиЮ «Факел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ек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кола социального успеха «Переменк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ефон доверия «Берег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ти – дет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E76DE-ADC6-476F-B7DA-F20DB58144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ED3C2-1A92-42B8-ACFE-05BB0C911B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Verdana"/>
              </a:rPr>
              <a:t>Психологическое сопровождение ШСУ «Переменка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варительные данные показали, что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52%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школьников вначале работы  имели </a:t>
            </a: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повышенный уровень тревожности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сле работы с ними в школе социального успеха «Переменка», при использовании интерактивных, безоценочных методик  - видна положительная динам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6D98A-5F22-415C-A394-A78F80BF48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Общий уровень тревож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31E61-CC0B-4A73-A25B-08B5CA5638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Механизмы психологического сопровож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. Психодиагности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иагностика психологических особенностей детей в коллективах ДД и Ю «Факел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зучение психологического потенциала педагогов ДД и Ю «Факел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зучение психологического потенциала родителей детей, посещающих коллективы учреж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B5F78-97C8-4EBF-BFC1-A5F974C5CE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Механизмы психологического сопровож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. Коррекция, психологическое воздействие на развитие индивидуальных особенностей ребёнка через осуществление программ профилактики и психокоррек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E2962-F695-4E58-8E26-20E0FA29F4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Механизмы психологического сопровож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3. Консультирование. Индивидуальные консультации детей и подростков, их родителей, а также педагогов дополнительного образования по проблемам возрастных и индивидуальных особенностей в развитии ребен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C3B78-B4FB-4122-9BF7-9B667F5738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Verdana"/>
              </a:rPr>
              <a:t>Механизмы психологического сопровож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Просвеще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знакомление учащихся по проблемам общения, развития личности, полового воспит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ирование педагогов по вопросам возрастной психологии, проблемам межличностного общения, развития творческих способностей дет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о-просветительская работа с родител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05B9C-7D1B-427B-99AB-49987E99AC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Механизмы психологического сопрово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Профессиональное взаимодейств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системы запросов на профессиональную деятельность психолога (ее отделение от педагогических, административных и иных обязанностей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единение теоретических основ развития личности с содержанием и организационно-методическими компонентами деятельности субъектов взаимодейств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совместной деятельности субъектов взаимодействия с функциональным распределением прав, обязанностей, формированием системы связ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7BC38-3E53-4453-BABA-AEFE7B23C6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Принципы психологического сопровожд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(Казакова Е. И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уманизм;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риентация на максимальные возможности личности;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оответствие характера обучения сензитивным периодам жизни ребен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рганизация личностно-ориентированного образ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забота о социальном самочувствии ребен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оциально–психологическое сопровождение личности и ее самоопределение;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остоянный деловой контакт с «большой» наукой и специалистами родственных направлений работы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94866-9B1F-4255-B37C-63967A5397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Организация психологического сопровож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Знакомство. Установление доверительный отношений. Наблюдение. Бесед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Уточнение первичного запроса со стороны участников психологического сопровождения (педагоги, дети, родители). Проверка запроса на обоснованность. Работа с «автором» за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лановая психодиагностика по согласованию с родител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сиходиагностика по запросу роди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рупповая и индивидуальная коррекционно - развивающая работа с ребенк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сихологическая консультация всех участников сопровож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Информационно – просветительское  направление. Родительские собрания. Методические рекомендации. Детско-родительские  групп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DD66-AEAD-47FD-B698-28DA87BAF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E82F-9B91-4753-A762-A2C12E675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186C-E5E9-4825-9CF7-911AD0D96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7B97-9CCD-4B0B-ACFB-4A2DD2EC1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8D002-1CBA-413A-92D1-C87BC1525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92F9E-5DE4-4B99-B2D8-F406C9FAF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841C0-4DDC-4A87-ACBE-F385B6EE1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07EDA-0838-45CD-B622-70CE0AA5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4DF87-041A-4DA3-9DCE-0377A7DDE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64E99-F626-487A-8F60-60B1DCB4D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4B27F-BCF7-4E39-82D7-D9D2E3BD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0E73-A4B0-4A15-83E4-9644C83AE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C76A7-2BBE-4D7C-B429-387FE615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FA54F-92D4-44B4-A2E5-26E2B27F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21234-237F-4C07-BBF5-AEDDD2348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CE174-175F-4279-BBB1-8E61CCE26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6C6E1-66E4-43A9-94C8-EC2D90482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575A-A07E-4065-8DE6-6EF9C0ECB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5AB8-60E0-4B2E-BFA9-B6C8D720D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D995-6626-4B2A-AB82-C95277326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33EB-2811-473C-AB34-A01D4DCD9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2319-85A2-422F-8A22-0ABB3D68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DBE6-6D57-497D-8A7E-AA076098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9C7A-3F18-4C80-AFE1-E339F027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F54CC-4C69-41F4-957F-11A59246774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9B556-37D9-4089-B208-026D96D3BC03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3320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Психологическое сопровождение в условиях дополнительного образования (отчет об инновационной  деятельности МОУ ДОД ДДиЮ «Факел»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3348000" y="907920"/>
            <a:ext cx="2664000" cy="149724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Направления деятельности и формы психологического сопровождения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сновным объектом психологического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провождения в учреждении дополнительного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разования является микрогруппа (7-12 человек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к правило участники одного объединения. Формы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сихологического сопровождения реализуются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вместно с педагогами (кураторами, классным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уководителями, педагогами дополнительного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разования),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которые одновременно  являются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инициаторами  запроса на психологические услуг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и помощниками в реализации данных услуг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Система психологического сопровождения процесс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0" y="2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662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0" name="Diagram 6"/>
          <p:cNvGrpSpPr/>
          <p:nvPr/>
        </p:nvGrpSpPr>
        <p:grpSpPr>
          <a:xfrm>
            <a:off x="2480760" y="1309320"/>
            <a:ext cx="4688640" cy="5211720"/>
            <a:chOff x="2480760" y="1309320"/>
            <a:chExt cx="4688640" cy="5211720"/>
          </a:xfrm>
        </p:grpSpPr>
        <p:sp>
          <p:nvSpPr>
            <p:cNvPr id="141" name="_s1028"/>
            <p:cNvSpPr/>
            <p:nvPr/>
          </p:nvSpPr>
          <p:spPr>
            <a:xfrm flipH="1" flipV="1">
              <a:off x="3696840" y="3263760"/>
              <a:ext cx="564480" cy="325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_s1029"/>
            <p:cNvSpPr/>
            <p:nvPr/>
          </p:nvSpPr>
          <p:spPr>
            <a:xfrm>
              <a:off x="2480760" y="2286720"/>
              <a:ext cx="1302840" cy="1302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1c1c1c"/>
                  </a:solidFill>
                  <a:latin typeface="Arial"/>
                  <a:ea typeface="Times New Roman"/>
                </a:rPr>
                <a:t>Сопровождение детей «группы риска»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" name="_s1030"/>
            <p:cNvSpPr/>
            <p:nvPr/>
          </p:nvSpPr>
          <p:spPr>
            <a:xfrm flipH="1">
              <a:off x="3696840" y="4240800"/>
              <a:ext cx="564480" cy="3258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" name="_s1031"/>
            <p:cNvSpPr/>
            <p:nvPr/>
          </p:nvSpPr>
          <p:spPr>
            <a:xfrm>
              <a:off x="2481480" y="4241520"/>
              <a:ext cx="1302840" cy="1302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1c1c1c"/>
                  </a:solidFill>
                  <a:latin typeface="Arial"/>
                  <a:ea typeface="Times New Roman"/>
                </a:rPr>
                <a:t>Сопровождение общеобразовательных учреждений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" name="_s1032"/>
            <p:cNvSpPr/>
            <p:nvPr/>
          </p:nvSpPr>
          <p:spPr>
            <a:xfrm>
              <a:off x="4825080" y="4566600"/>
              <a:ext cx="0" cy="651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_s1033"/>
            <p:cNvSpPr/>
            <p:nvPr/>
          </p:nvSpPr>
          <p:spPr>
            <a:xfrm>
              <a:off x="4174200" y="5218200"/>
              <a:ext cx="1302840" cy="1302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1c1c1c"/>
                  </a:solidFill>
                  <a:latin typeface="Arial"/>
                  <a:ea typeface="Times New Roman"/>
                </a:rPr>
                <a:t>Сопровождение процесса повышения профессиональной компетенции педагогов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_s1034"/>
            <p:cNvSpPr/>
            <p:nvPr/>
          </p:nvSpPr>
          <p:spPr>
            <a:xfrm>
              <a:off x="5389200" y="4240800"/>
              <a:ext cx="564480" cy="3258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_s1035"/>
            <p:cNvSpPr/>
            <p:nvPr/>
          </p:nvSpPr>
          <p:spPr>
            <a:xfrm>
              <a:off x="5866560" y="4240440"/>
              <a:ext cx="1302840" cy="1302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1c1c1c"/>
                  </a:solidFill>
                  <a:latin typeface="Arial"/>
                  <a:ea typeface="Times New Roman"/>
                </a:rPr>
                <a:t>Сопровождение проектов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_s1036"/>
            <p:cNvSpPr/>
            <p:nvPr/>
          </p:nvSpPr>
          <p:spPr>
            <a:xfrm flipV="1">
              <a:off x="5389200" y="3263760"/>
              <a:ext cx="564480" cy="3258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" name="_s1037"/>
            <p:cNvSpPr/>
            <p:nvPr/>
          </p:nvSpPr>
          <p:spPr>
            <a:xfrm>
              <a:off x="5866200" y="2286000"/>
              <a:ext cx="1302840" cy="1302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1c1c1c"/>
                  </a:solidFill>
                  <a:latin typeface="Arial"/>
                  <a:ea typeface="Times New Roman"/>
                </a:rPr>
                <a:t>Сопровождение творческих объединений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" name="_s1038"/>
            <p:cNvSpPr/>
            <p:nvPr/>
          </p:nvSpPr>
          <p:spPr>
            <a:xfrm flipV="1">
              <a:off x="4825080" y="2612160"/>
              <a:ext cx="0" cy="651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" name="_s1039"/>
            <p:cNvSpPr/>
            <p:nvPr/>
          </p:nvSpPr>
          <p:spPr>
            <a:xfrm>
              <a:off x="4173840" y="1309320"/>
              <a:ext cx="1302840" cy="1302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c1c1c"/>
                  </a:solidFill>
                  <a:latin typeface="Arial"/>
                  <a:ea typeface="Times New Roman"/>
                </a:rPr>
                <a:t>Сопровождение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c1c1c"/>
                  </a:solidFill>
                  <a:latin typeface="Arial"/>
                  <a:ea typeface="Times New Roman"/>
                </a:rPr>
                <a:t>сопровождающих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" name="_s1040"/>
            <p:cNvSpPr/>
            <p:nvPr/>
          </p:nvSpPr>
          <p:spPr>
            <a:xfrm>
              <a:off x="4173840" y="3264120"/>
              <a:ext cx="1302840" cy="13028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Психологическое сопровождение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" name="Rectangle 21"/>
          <p:cNvSpPr/>
          <p:nvPr/>
        </p:nvSpPr>
        <p:spPr>
          <a:xfrm>
            <a:off x="0" y="662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Сопровождение творческих объединений  ДД и Ю «Факел»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900000" y="2060640"/>
          <a:ext cx="7772400" cy="4294080"/>
        </p:xfrm>
        <a:graphic>
          <a:graphicData uri="http://schemas.openxmlformats.org/drawingml/2006/table">
            <a:tbl>
              <a:tblPr/>
              <a:tblGrid>
                <a:gridCol w="379440"/>
                <a:gridCol w="2919600"/>
                <a:gridCol w="4473360"/>
              </a:tblGrid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коллекти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 сопровож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атральная студия «Изюм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нинги, консультации родителей, семейные консультации, празд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 развивающего обу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людения, консультации, диагностика, составление карт наблю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удия «Фитодизайн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стика, тренинги, родительское собр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ы «Аэробик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нинги, консульт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 изучения английского язы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нин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стика, тренинги, составление карт наблю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 группы хореограф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нинги, диагностика, беседы с родителями по заявленным темам, показательные выступ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тбо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нин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ерам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с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Пример психологического сопровождения ребёнка в рамках сопровождения творческого объединения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16000" y="1989000"/>
            <a:ext cx="882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оман, дошкольник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диагностической карте отмечаются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обенности поведения: обидчивость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эмоциональная неустойчивость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гативизм (делает все наоборот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оворит слова «не хочу» или «н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уду»), а также  нерешительность н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акцию новизны, иногда ситуацию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тного опроса, избегание умственных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илий и непонимание сложных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струкци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Пример психологического сопровождения ребёнка в рамках сопровождения творческого объединения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611280" y="1844640"/>
            <a:ext cx="7580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ы по методике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«Лесенка» В.Г. Щу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ель: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ыявление представлений ребенка об отношениях к нему других людей, выявление его             самооценки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755640" y="3213000"/>
          <a:ext cx="6773760" cy="2567160"/>
        </p:xfrm>
        <a:graphic>
          <a:graphicData uri="http://schemas.openxmlformats.org/drawingml/2006/table">
            <a:tbl>
              <a:tblPr/>
              <a:tblGrid>
                <a:gridCol w="1428840"/>
                <a:gridCol w="1541520"/>
                <a:gridCol w="728640"/>
                <a:gridCol w="826920"/>
                <a:gridCol w="1079640"/>
                <a:gridCol w="1168200"/>
              </a:tblGrid>
              <a:tr h="82260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 ребе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ственная оце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 со стороны семь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 со стороны сверст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 со стороны воспитате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rowSpan="6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ма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доров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ны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ивы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бр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койны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Text Box 275"/>
          <p:cNvSpPr/>
          <p:nvPr/>
        </p:nvSpPr>
        <p:spPr>
          <a:xfrm>
            <a:off x="755640" y="5950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Text Box 276"/>
          <p:cNvSpPr/>
          <p:nvPr/>
        </p:nvSpPr>
        <p:spPr>
          <a:xfrm>
            <a:off x="755640" y="5950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277"/>
          <p:cNvSpPr/>
          <p:nvPr/>
        </p:nvSpPr>
        <p:spPr>
          <a:xfrm>
            <a:off x="978120" y="5877000"/>
            <a:ext cx="677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ывод: личная самооценка адекватна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спытывает  незащищенность со стороны родителе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Пример психологического сопровождения ребёнка в рамках сопровождения творческого объединения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535320" y="1989000"/>
            <a:ext cx="728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анные по методике «ЦТО»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ветовой тест отношен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Цель: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иагностика эмоциональных отношен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50920" y="2781360"/>
          <a:ext cx="7200720" cy="1873080"/>
        </p:xfrm>
        <a:graphic>
          <a:graphicData uri="http://schemas.openxmlformats.org/drawingml/2006/table">
            <a:tbl>
              <a:tblPr/>
              <a:tblGrid>
                <a:gridCol w="1501560"/>
                <a:gridCol w="1341720"/>
                <a:gridCol w="1600200"/>
                <a:gridCol w="1417320"/>
                <a:gridCol w="1339920"/>
              </a:tblGrid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 ребе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ное прин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ное прин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ное не прин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принимаем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м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ители и часть сверс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 раннего разви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Text Box 69"/>
          <p:cNvSpPr/>
          <p:nvPr/>
        </p:nvSpPr>
        <p:spPr>
          <a:xfrm>
            <a:off x="179280" y="4869000"/>
            <a:ext cx="81378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анные могут меняться в зависимости от эмоционального состояния ребенка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екомендации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. Необходимо понять и выслушать ребенк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2. В момент проблемного поведения переключит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нимание на другое заняти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Сопровождение детей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«группы риска»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79280" y="2017440"/>
            <a:ext cx="896472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 ДДиЮ «Факел» в 2006-2007 учебном году был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реализованы следующие виды деятельности с детьми «группы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риска»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нформирование и консультирование по социальным и психологическим вопросам. Всего проведено: 213 консультаций 104 подростков и 98 родителей детей «группы риска», а также проведена индивидуальная работа с 18 педагогами ОУ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циальный патронаж детей и подростков. На социальном –патронаже в 2006-2007 состояли 17 детей и подростков «группы риска»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циально-педагогическое диагностирование на предмет выявления девиаций, определения степени поведенческих отклонений, уточнение социально –психологических характеристик проведено с 465 детьми и подростками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раткосрочные и долгосрочные программы, направленные на профилактику девиантного поведени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4264200" y="1916280"/>
            <a:ext cx="3547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Сопровождение детей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«группы риска»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пециалисты ДДиЮ «Факел» принимают участие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 организации и проведении социально-педагогических консилиумов (советы по профилактике в ОУ, еженедельные заседания КДН). Всего специалисты посетили 12 Советов по профилактике на базе ОУ, 2 социально- педагогических консилиума, более 54 заседаний КДН и ЗП Кировского и Советского район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Групповые и индивидуальные формы работы с детьми реализуются как на базе Центра «Альтернатива» при ДД и Ю «Факел», так и на базе ОУ и учреждений социальной защиты (детские дома, реабилитационные центры, специализированные учреждения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Сопровождение   сопровождающих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рганизация взаимодействия специалистов, а также создание и поддерживание в коллективе сопровождающих атмосферу всеобщей заинтересованности в результатах труда; взаимопонимания и взаимного уважения к профессиональным  и личностным качествам коллег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учение специалистов в новой логике взаимодействия; в методологии комплексности и мультидисциплинарности в решении проблем ребенка и его семь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Психологическое сопровождение процесса повышения профессиональной компетентности педагога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468360" y="2017800"/>
          <a:ext cx="8486640" cy="5486400"/>
        </p:xfrm>
        <a:graphic>
          <a:graphicData uri="http://schemas.openxmlformats.org/drawingml/2006/table">
            <a:tbl>
              <a:tblPr/>
              <a:tblGrid>
                <a:gridCol w="585720"/>
                <a:gridCol w="3219480"/>
                <a:gridCol w="2193840"/>
                <a:gridCol w="1609920"/>
                <a:gridCol w="87768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аз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Ц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Целевая груп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Кол-во уч-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етодическое объединение психологов и педагогов «Психофизиологические особенности детей дошкольного и школьного возраст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Формирование знаний об особенностях детей и подрост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пециалисты ДД и Ю «Факел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етодическое объединение социальных педагогов «Формы эффективного слушания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Формирование навыков эффективного слуш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оц. педагоги ОУ и ДД и Ю «Факел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етодическое объединение «Конфликты в педагогической среде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Информирование о способах выхода из конфликтных ситуаций в системе «Педагог - ребенок», «Педагог - педагог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едагоги школы № 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Verdana"/>
              </a:rPr>
              <a:t>Цель психологического сопровождени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Основной целью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психологического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провождения в ДД и Ю «Факел» являетс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сихологическая помощь процессу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циализации личности, обеспечивающа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армонизацию отношений ребенка и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щества, развитие творческого потенциал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дагогического и детского коллективов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чреждения, выявление перспективы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вития вариативного образова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2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Сопровождение сопровождающих: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взаимодействие с психологами, педагогами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324000" y="1413000"/>
          <a:ext cx="8559720" cy="5456160"/>
        </p:xfrm>
        <a:graphic>
          <a:graphicData uri="http://schemas.openxmlformats.org/drawingml/2006/table">
            <a:tbl>
              <a:tblPr/>
              <a:tblGrid>
                <a:gridCol w="590400"/>
                <a:gridCol w="3246480"/>
                <a:gridCol w="2214360"/>
                <a:gridCol w="1624320"/>
                <a:gridCol w="884160"/>
              </a:tblGrid>
              <a:tr h="51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евая груп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уч-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инар «Формирование толерантных отношений среди подростков через развитие навыков эффективного общени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социальных компетенци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и О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инар «Модели изменения поведения в деятельности по профилактике ПАВ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личностных компетенци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ы, работающие в данном направлен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8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инар «Профилактика девиантного поведения и методы работы с девиантными подростками (на основе опыта работы учреждения)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7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ктико-ориентированный семинар-тренинг «Роль психолога в профилактической деятельности ОУ» (см.приложен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своей роли в профилактической деятельности ОУ каждым участником семинара-тренин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и О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инар «Формы и методы профилактической работы» (см.приложен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ышение профессиональной компетентн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ы О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Формы взаимодействия с образовательными учреждениями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901440" indent="-4852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едоставление услуг ДД и Ю «Факел» в виде списка предлагаемых мероприятий (образовательные программы, лектории и тренинги для всех целевых групп, консультирование, проведение массовых акций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1440" indent="-4852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ланирование мероприятий с образовательными учреждениями  в течение год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1440" indent="-4852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существление психологического сопровождения (реализация программ, ведение консультаций, социальное проектирование, психодиагностика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1440" indent="-4852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ценка результатов и подведение итогов в течение года и  корректировка взаимодейств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Психологическое сопровождение проектов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дельным направлением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сихологического сопровождени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является взаимодействие с участниками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оектов, реализуемых ДДиЮ «Факел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оекты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Школа социального успеха «Переменка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елефон доверия «Берег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ети – детям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Picture 4" descr="Square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-252360" y="0"/>
            <a:ext cx="9753480" cy="731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9" name="Object 5"/>
          <p:cNvGraphicFramePr/>
          <p:nvPr/>
        </p:nvGraphicFramePr>
        <p:xfrm>
          <a:off x="250920" y="404640"/>
          <a:ext cx="8893080" cy="158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0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404640"/>
                    <a:ext cx="889308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WordArt 6"/>
          <p:cNvSpPr txBox="1"/>
          <p:nvPr/>
        </p:nvSpPr>
        <p:spPr>
          <a:xfrm>
            <a:off x="2843280" y="476280"/>
            <a:ext cx="6224400" cy="936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333399"/>
                </a:solidFill>
                <a:latin typeface="Courier New"/>
              </a:rPr>
              <a:t>Социальные проекты</a:t>
            </a:r>
            <a:endParaRPr b="1" lang="en-US" sz="2000" spc="1" strike="noStrike">
              <a:ln w="0">
                <a:noFill/>
              </a:ln>
              <a:solidFill>
                <a:srgbClr val="333399"/>
              </a:solidFill>
              <a:latin typeface="Courier New"/>
              <a:ea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333399"/>
                </a:solidFill>
                <a:latin typeface="Courier New"/>
              </a:rPr>
              <a:t>как форма интеграции детей</a:t>
            </a:r>
            <a:endParaRPr b="1" lang="en-US" sz="2000" spc="1" strike="noStrike">
              <a:ln w="0">
                <a:noFill/>
              </a:ln>
              <a:solidFill>
                <a:srgbClr val="333399"/>
              </a:solidFill>
              <a:latin typeface="Courier New"/>
              <a:ea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2000" spc="1" strike="noStrike">
                <a:ln w="0">
                  <a:noFill/>
                </a:ln>
                <a:solidFill>
                  <a:srgbClr val="333399"/>
                </a:solidFill>
                <a:latin typeface="Courier New"/>
              </a:rPr>
              <a:t>в образовательную среду</a:t>
            </a:r>
            <a:endParaRPr b="1" lang="en-US" sz="2000" spc="1" strike="noStrike">
              <a:ln w="0">
                <a:noFill/>
              </a:ln>
              <a:solidFill>
                <a:srgbClr val="333399"/>
              </a:solidFill>
              <a:latin typeface="Courier New"/>
              <a:ea typeface="Courier New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971640" y="2421000"/>
            <a:ext cx="770400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468360" y="3141720"/>
            <a:ext cx="86756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250920" y="5013360"/>
            <a:ext cx="38894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детское объедине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младшего школьног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озраст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        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7-10 лет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5" name="Object 10"/>
          <p:cNvGraphicFramePr/>
          <p:nvPr/>
        </p:nvGraphicFramePr>
        <p:xfrm>
          <a:off x="3924360" y="2654280"/>
          <a:ext cx="4761000" cy="4203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6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24360" y="2654280"/>
                    <a:ext cx="4761000" cy="42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Rectangle 11"/>
          <p:cNvSpPr/>
          <p:nvPr/>
        </p:nvSpPr>
        <p:spPr>
          <a:xfrm>
            <a:off x="324000" y="1916280"/>
            <a:ext cx="8424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Monotype Corsiva"/>
              </a:rPr>
              <a:t>Школа социального успеха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Monotype Corsiva"/>
              </a:rPr>
              <a:t>«Переменка»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Автор–составитель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координатор проект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кирневская Елена Николаевн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,-71,-2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28,0,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,-71,-2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28,0,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,-71,-2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28,0,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,-71,-2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28,0,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,-71,-2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28,0,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Психологическое сопровождение ШСУ «Переменка»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дварительные данные показали, что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52%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школьников вначале работы  имели </a:t>
            </a: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повышенный уровень тревожности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После работы с ними в школе социального успеха «Переменка», при использовании интерактивных, безоценочных методик  - видна положительная динамик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Общий уровень тревожности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13" name="Object 4"/>
          <p:cNvGraphicFramePr/>
          <p:nvPr/>
        </p:nvGraphicFramePr>
        <p:xfrm>
          <a:off x="611280" y="2060640"/>
          <a:ext cx="8053200" cy="451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060640"/>
                    <a:ext cx="8053200" cy="45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Механизмы психологического сопровождения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. Психодиагностика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иагностика психологических особенностей детей в коллективах ДД и Ю «Факел»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учение психологического потенциала педагогов ДД и Ю «Факел»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учение психологического потенциала родителей детей, посещающих коллективы учрежде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Механизмы психологического сопровождени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. Коррекция, психологическое воздействие на развитие индивидуальных особенностей ребёнка через осуществление программ профилактики и психокоррекци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Механизмы психологического сопровождени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3. Консультирование. Индивидуальные консультации детей и подростков, их родителей, а также педагогов дополнительного образования по проблемам возрастных и индивидуальных особенностей в развитии ребенк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Механизмы психологического сопровождени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4. Просвещение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знакомление учащихся по проблемам общения, развития личности, полового воспитания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нформирование педагогов по вопросам возрастной психологии, проблемам межличностного общения, развития творческих способностей дете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нформационно-просветительская работа с родителя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Механизмы психологического сопровождени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5. Профессиональное взаимодействи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рганизация системы запросов на профессиональную деятельность психолога (ее отделение от педагогических, административных и иных обязанностей)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единение теоретических основ развития личности с содержанием и организационно-методическими компонентами деятельности субъектов взаимодейств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рганизация совместной деятельности субъектов взаимодействия с функциональным распределением прав, обязанностей, формированием системы связей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Принципы психологического сопровождения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(Казакова Е. И.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гуманизм;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риентация на максимальные возможности личности;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ответствие характера обучения сензитивным периодам жизни ребенка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рганизация личностно-ориентированного образования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забота о социальном самочувствии ребенка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циально–психологическое сопровождение личности и ее самоопределение;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стоянный деловой контакт с «большой» наукой и специалистами родственных направлений работы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Организация психологического сопровождения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Знакомство. Установление доверительный отношений. Наблюдение. Беседа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точнение первичного запроса со стороны участников психологического сопровождения (педагоги, дети, родители). Проверка запроса на обоснованность. Работа с «автором» запрос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лановая психодиагностика по согласованию с родителям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сиходиагностика по запросу родителе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Групповая и индивидуальная коррекционно - развивающая работа с ребенко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сихологическая консультация всех участников сопровождени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нформационно – просветительское  направление. Родительские собрания. Методические рекомендации. Детско-родительские  группы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8T04:30:54Z</dcterms:created>
  <dc:creator>user</dc:creator>
  <dc:description/>
  <dc:language>en-US</dc:language>
  <cp:lastModifiedBy>LEGION</cp:lastModifiedBy>
  <dcterms:modified xsi:type="dcterms:W3CDTF">2014-11-12T09:43:13Z</dcterms:modified>
  <cp:revision>14</cp:revision>
  <dc:subject/>
  <dc:title>Слайд 1</dc:title>
</cp:coreProperties>
</file>