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4DB9-147B-4EAD-B712-769EFDC339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E1F1-9469-4D9F-B22A-FA8AE2D261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сихологическое сопровождение в условиях дополнительного образования (отчет об инновационной  деятельности МОУ ДОД ДДиЮ «Факел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088D-1480-43EC-B703-D18B8B3ADF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правления деятельности и формы психологического сопр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объектом психологиче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я в учреждении дополните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я является микрогруппа (7-12 человек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 участники одного объединения. Фо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го сопровождения реализу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педагогами (кураторами, класс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ями, педагогами дополните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я)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торые одновременно  являютс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орами  запроса на психологические услу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помощниками в реализации данных услу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F064-E59B-483F-BEF2-5EBCD5C5AF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истема психологического сопровождения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174E-7965-4796-B0C3-FFEB98B396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опровождение творческих объединений  ДД и Ю «Факел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3108-47C1-4C3F-9697-4DB0E38B33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ман, дошкольн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диагностической карте отмечаютс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и поведения: обидчив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эмоциональная неустойчивость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гативизм (делает все наоборо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ворит слова «не хочу» или «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уду»), а также  нерешительность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акцию новизны, иногда ситуа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тного опроса, избегание умств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илий и непонимание слож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ру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2393-07D3-4394-8401-0094E1CBF5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B5FA-8E03-440F-BBEA-60EFE8375F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41CE-F90D-4B49-BD58-06C2FAC772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ДДиЮ «Факел» в 2006-2007 учебном году 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ализованы следующие виды деятельности с детьми «групп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иска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ормирование и консультирование по социальным и психологическим вопросам. Всего проведено: 213 консультаций 104 подростков и 98 родителей детей «группы риска», а также проведена индивидуальная работа с 18 педагогами О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ый патронаж детей и подростков. На социальном –патронаже в 2006-2007 состояли 17 детей и подростков «группы риска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о-педагогическое диагностирование на предмет выявления девиаций, определения степени поведенческих отклонений, уточнение социально –психологических характеристик проведено с 465 детьми и подростк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раткосрочные и долгосрочные программы, направленные на профилактику девиантного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08C6-6056-4DF3-AE9F-FFB07EC53D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ециалисты ДДиЮ «Факел» принимают участ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организации и проведении социально-педагогических консилиумов (советы по профилактике в ОУ, еженедельные заседания КДН). Всего специалисты посетили 12 Советов по профилактике на базе ОУ, 2 социально- педагогических консилиума, более 54 заседаний КДН и ЗП Кировского и Советского рай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упповые и индивидуальные формы работы с детьми реализуются как на базе Центра «Альтернатива» при ДД и Ю «Факел», так и на базе ОУ и учреждений социальной защиты (детские дома, реабилитационные центры, специализированные учрежде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C6D3-7658-4405-8B53-AB16F52148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провождение   сопровожда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заимодействия специалистов, а также создание и поддерживание в коллективе сопровождающих атмосферу всеобщей заинтересованности в результатах труда; взаимопонимания и взаимного уважения к профессиональным  и личностным качествам колле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пециалистов в новой логике взаимодействия; в методологии комплексности и мультидисциплинарности в решении проблем ребенка и его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4981-87F3-4649-9033-84C6B66BCB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цесса повышения профессиональной компетентности педаго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16DB-13B6-4C19-83C3-CD35458F7A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Цель психологического сопров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ой цел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сихологиче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я в ДД и Ю «Факел» я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мощь процес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изации личности, обеспечивающ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монизацию отношений ребенк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а, развитие творческого потенци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ого и детского коллектив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реждения, выявление перспекти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я вариативно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55B0-7EBA-4823-874D-42159FFC24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опровождение сопровождающих: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взаимодействие с психологами, педаг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CE05-8794-4910-B6A8-9C7586A0C9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ормы взаимодействия с образовательными учрежд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услуг ДД и Ю «Факел» в виде списка предлагаемых мероприятий (образовательные программы, лектории и тренинги для всех целевых групп, консультирование, проведение массовых акц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мероприятий с образовательными учреждениями  в течение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психологического сопровождения (реализация программ, ведение консультаций, социальное проектирование, психодиагности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результатов и подведение итогов в течение года и  корректировка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A49C-78DD-47F4-B1CD-9FDDEDDE53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ек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м направл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го сопровож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заимодействие с участн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ов, реализуемых ДДиЮ «Факел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социального успеха «Перемен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фон доверия «Берег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– де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DD70-A277-45B3-A8F7-90194312FE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75D9-3B95-453D-A6E6-AC3375F518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ШСУ «Переменк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ые данные показали, что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52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школьников вначале работы  имели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овышенный уровень тревож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ле работы с ними в школе социального успеха «Переменка», при использовании интерактивных, безоценочных методик  - видна положительная динам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8BBA-B8C7-4FE3-93F0-D1840D544C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Общий уровень тревож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F88A-EFE1-4317-96EF-7A1E728444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Психодиагност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агностика психологических особенностей детей в коллективах ДД и Ю «Факел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педагогов ДД и Ю «Факел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родителей детей, посещающих коллективы учр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E59A-2D87-4C78-B8DB-32706CA691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Коррекция, психологическое воздействие на развитие индивидуальных особенностей ребёнка через осуществление программ профилактики и психокорре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3DB8-57C9-47F9-A951-ECBE54CED9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Консультирование. Индивидуальные консультации детей и подростков, их родителей, а также педагогов дополнительного образования по проблемам возрастных и индивидуальных особенностей в развитии ребе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BC71-41E3-4D74-8FAA-548A02BA32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свещ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ление учащихся по проблемам общения, развития личности, полового воспит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педагогов по вопросам возрастной психологии, проблемам межличностного общения, развития творческих способностей д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-просветительская работа с р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BCA5-72A7-4E96-9703-22AF32958E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взаимодейств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системы запросов на профессиональную деятельность психолога (ее отделение от педагогических, административных и иных обязанностей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теоретических основ развития личности с содержанием и организационно-методическими компонентами деятельности субъектов взаимодей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совместной деятельности субъектов взаимодействия с функциональным распределением прав, обязанностей, формированием системы связ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738B-F72A-41D0-A791-7EB3391693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Принципы психологического сопровож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(Казакова Е. 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уманизм;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риентация на максимальные возможности личности;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ответствие характера обучения сензитивным периодам жизни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рганизация личностно-ориентированного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бота о социальном самочувствии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о–психологическое сопровождение личности и ее самоопределение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стоянный деловой контакт с «большой» наукой и специалистами родственных направлений работы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2F6F-5042-408A-96A9-DF389EE1DA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Организация психологического сопров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накомство. Установление доверительный отношений. Наблюдение. Бесе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Уточнение первичного запроса со стороны участников психологического сопровождения (педагоги, дети, родители). Проверка запроса на обоснованность. Работа с «автором» за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лановая психодиагностика по согласованию с р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сиходиагностика по запросу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упповая и индивидуальная коррекционно - развивающая работа с ребен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сихологическая консультация всех участников сопров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ормационно – просветительское  направление. Родительские собрания. Методические рекомендации. Детско-родительские 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753-3295-497D-868D-621B98B5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800-C2F7-490E-B69E-2D30BD1C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BD8-DFB3-474F-B2A3-96E301EE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BE6-72DA-47A1-9637-B5FC33E0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7D25-EECB-414E-80BF-4B656005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2009-9370-47DF-AEF1-6201E2E4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3773-9C3C-4684-9869-8659EAD1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5D88-7443-4227-A6F4-E236DD05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72B7-4747-430B-98B7-0FD9EC90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D8DE-7F87-4A61-B169-4873DEA2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D706-8972-49F6-8501-56540803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805-C38B-4D25-A239-42CBF437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7F5A-E7E0-4D07-BB99-2C7AB840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670D-7C97-4187-90C9-4565072C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D96E-5667-4868-956E-A8156639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6352-B7B1-4E40-9E8B-CCCD2510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5671-C62D-492B-A986-18239266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B5F-CC37-4978-B6BA-6F3ED082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D311-2A51-42F4-BA11-891B9A35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D80D-4440-46D3-94F6-44BB6C5A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0E3F-580C-40D2-A686-A1F147ED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458-2B76-48D5-9F97-A9205C8F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54F8-F9B8-4D61-8F56-A7421110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BAF-3011-49C4-B5A8-C4A4513F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4AAA-2705-408C-98D0-7CCCDEDF47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B66A-F5EF-47BB-93A5-C3DE1F5EBF9D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сихологическое сопровождение в условиях дополнительного образования (отчет об инновационной  деятельности МОУ ДОД ДДиЮ «Факел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348000" y="907920"/>
            <a:ext cx="2664000" cy="14972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правления деятельности и формы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ным объектом психологическ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провождения в учреждении дополните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я является микрогруппа (7-12 человек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правило участники одного объединения. Форм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сихологического сопровождения реализуют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вместно с педагогами (кураторами, классны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уководителями, педагогами дополните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я),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которые одновременно  являют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ициаторами  запроса на психологические услуг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 помощниками в реализации данных услуг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истема психологического сопровождения процесс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662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Diagram 6"/>
          <p:cNvGrpSpPr/>
          <p:nvPr/>
        </p:nvGrpSpPr>
        <p:grpSpPr>
          <a:xfrm>
            <a:off x="2480760" y="1309320"/>
            <a:ext cx="4688640" cy="5211720"/>
            <a:chOff x="2480760" y="1309320"/>
            <a:chExt cx="4688640" cy="5211720"/>
          </a:xfrm>
        </p:grpSpPr>
        <p:sp>
          <p:nvSpPr>
            <p:cNvPr id="141" name="_s1028"/>
            <p:cNvSpPr/>
            <p:nvPr/>
          </p:nvSpPr>
          <p:spPr>
            <a:xfrm flipH="1" flipV="1">
              <a:off x="3696840" y="3263760"/>
              <a:ext cx="564480" cy="325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_s1029"/>
            <p:cNvSpPr/>
            <p:nvPr/>
          </p:nvSpPr>
          <p:spPr>
            <a:xfrm>
              <a:off x="2480760" y="2286720"/>
              <a:ext cx="1302840" cy="1302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детей «группы риска»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_s1030"/>
            <p:cNvSpPr/>
            <p:nvPr/>
          </p:nvSpPr>
          <p:spPr>
            <a:xfrm flipH="1">
              <a:off x="3696840" y="424080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_s1031"/>
            <p:cNvSpPr/>
            <p:nvPr/>
          </p:nvSpPr>
          <p:spPr>
            <a:xfrm>
              <a:off x="2481480" y="4241520"/>
              <a:ext cx="13028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общеобразовательных учреждений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_s1032"/>
            <p:cNvSpPr/>
            <p:nvPr/>
          </p:nvSpPr>
          <p:spPr>
            <a:xfrm>
              <a:off x="4825080" y="4566600"/>
              <a:ext cx="0" cy="65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_s1033"/>
            <p:cNvSpPr/>
            <p:nvPr/>
          </p:nvSpPr>
          <p:spPr>
            <a:xfrm>
              <a:off x="4174200" y="5218200"/>
              <a:ext cx="13028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процесса повышения профессиональной компетенции педагогов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_s1034"/>
            <p:cNvSpPr/>
            <p:nvPr/>
          </p:nvSpPr>
          <p:spPr>
            <a:xfrm>
              <a:off x="5389200" y="424080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_s1035"/>
            <p:cNvSpPr/>
            <p:nvPr/>
          </p:nvSpPr>
          <p:spPr>
            <a:xfrm>
              <a:off x="5866560" y="4240440"/>
              <a:ext cx="1302840" cy="1302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проектов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_s1036"/>
            <p:cNvSpPr/>
            <p:nvPr/>
          </p:nvSpPr>
          <p:spPr>
            <a:xfrm flipV="1">
              <a:off x="5389200" y="326376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_s1037"/>
            <p:cNvSpPr/>
            <p:nvPr/>
          </p:nvSpPr>
          <p:spPr>
            <a:xfrm>
              <a:off x="5866200" y="2286000"/>
              <a:ext cx="130284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творческих объединений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_s1038"/>
            <p:cNvSpPr/>
            <p:nvPr/>
          </p:nvSpPr>
          <p:spPr>
            <a:xfrm flipV="1">
              <a:off x="4825080" y="2612160"/>
              <a:ext cx="0" cy="65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_s1039"/>
            <p:cNvSpPr/>
            <p:nvPr/>
          </p:nvSpPr>
          <p:spPr>
            <a:xfrm>
              <a:off x="4173840" y="1309320"/>
              <a:ext cx="13028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ающих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4173840" y="3264120"/>
              <a:ext cx="1302840" cy="1302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Психологическое сопровождение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" name="Rectangle 21"/>
          <p:cNvSpPr/>
          <p:nvPr/>
        </p:nvSpPr>
        <p:spPr>
          <a:xfrm>
            <a:off x="0" y="662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опровождение творческих объединений  ДД и Ю «Факел»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00000" y="2060640"/>
          <a:ext cx="7772400" cy="4294080"/>
        </p:xfrm>
        <a:graphic>
          <a:graphicData uri="http://schemas.openxmlformats.org/drawingml/2006/table">
            <a:tbl>
              <a:tblPr/>
              <a:tblGrid>
                <a:gridCol w="379440"/>
                <a:gridCol w="2919600"/>
                <a:gridCol w="44733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колл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сопров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ьная студия «Изю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консультации родителей, семейные консультации, празд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развивающего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я, консультации, диагностика, составление карт наблю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ия «Фитодизайн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, тренинги, родительское собр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 «Аэроб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изучения английск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, тренинги, составление карт наблю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группы хоре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диагностика, беседы с родителями по заявленным темам, показательные вы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б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р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ман, дошкольник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диагностической карте отмечают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сти поведения: обидчивость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эмоциональная неустойчивост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гативизм (делает все наоборот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ит слова «не хочу» или «н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уду»), а также  нерешительность 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кцию новизны, иногда ситуаци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ного опроса, избегание умствен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илий и непонимание слож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кц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11280" y="1844640"/>
            <a:ext cx="758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по методике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«Лесенка» В.Г. Щу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явление представлений ребенка об отношениях к нему других людей, выявление его             самооценки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55640" y="3213000"/>
          <a:ext cx="6773760" cy="2567160"/>
        </p:xfrm>
        <a:graphic>
          <a:graphicData uri="http://schemas.openxmlformats.org/drawingml/2006/table">
            <a:tbl>
              <a:tblPr/>
              <a:tblGrid>
                <a:gridCol w="1428840"/>
                <a:gridCol w="1541520"/>
                <a:gridCol w="728640"/>
                <a:gridCol w="826920"/>
                <a:gridCol w="1079640"/>
                <a:gridCol w="1168200"/>
              </a:tblGrid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а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семь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сверс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воспит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row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в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кой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275"/>
          <p:cNvSpPr/>
          <p:nvPr/>
        </p:nvSpPr>
        <p:spPr>
          <a:xfrm>
            <a:off x="755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276"/>
          <p:cNvSpPr/>
          <p:nvPr/>
        </p:nvSpPr>
        <p:spPr>
          <a:xfrm>
            <a:off x="755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277"/>
          <p:cNvSpPr/>
          <p:nvPr/>
        </p:nvSpPr>
        <p:spPr>
          <a:xfrm>
            <a:off x="978120" y="587700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вод: личная самооценка адекватна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пытывает  незащищенность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35320" y="198900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нные по методике «ЦТО»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ветовой тест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агностика эмоциональных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50920" y="2781360"/>
          <a:ext cx="7200720" cy="1873080"/>
        </p:xfrm>
        <a:graphic>
          <a:graphicData uri="http://schemas.openxmlformats.org/drawingml/2006/table">
            <a:tbl>
              <a:tblPr/>
              <a:tblGrid>
                <a:gridCol w="1501560"/>
                <a:gridCol w="1341720"/>
                <a:gridCol w="1600200"/>
                <a:gridCol w="1417320"/>
                <a:gridCol w="133992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е н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инимаем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 и часть свер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ранне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69"/>
          <p:cNvSpPr/>
          <p:nvPr/>
        </p:nvSpPr>
        <p:spPr>
          <a:xfrm>
            <a:off x="179280" y="4869000"/>
            <a:ext cx="81378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анные могут меняться в зависимости от эмоционального состояния ребенка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коменд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 Необходимо понять и выслушать ребен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 В момент проблемного поведения переключи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имание на другое занят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2017440"/>
            <a:ext cx="8964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ДДиЮ «Факел» в 2006-2007 учебном году был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ализованы следующие виды деятельности с детьми «групп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иска»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ирование и консультирование по социальным и психологическим вопросам. Всего проведено: 213 консультаций 104 подростков и 98 родителей детей «группы риска», а также проведена индивидуальная работа с 18 педагогами ОУ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ый патронаж детей и подростков. На социальном –патронаже в 2006-2007 состояли 17 детей и подростков «группы риска»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о-педагогическое диагностирование на предмет выявления девиаций, определения степени поведенческих отклонений, уточнение социально –психологических характеристик проведено с 465 детьми и подростка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аткосрочные и долгосрочные программы, направленные на профилактику девиантного повед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264200" y="1916280"/>
            <a:ext cx="354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пециалисты ДДиЮ «Факел» принимают участи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организации и проведении социально-педагогических консилиумов (советы по профилактике в ОУ, еженедельные заседания КДН). Всего специалисты посетили 12 Советов по профилактике на базе ОУ, 2 социально- педагогических консилиума, более 54 заседаний КДН и ЗП Кировского и Советского район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упповые и индивидуальные формы работы с детьми реализуются как на базе Центра «Альтернатива» при ДД и Ю «Факел», так и на базе ОУ и учреждений социальной защиты (детские дома, реабилитационные центры, специализированные учреждения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опровождение   сопровождающи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взаимодействия специалистов, а также создание и поддерживание в коллективе сопровождающих атмосферу всеобщей заинтересованности в результатах труда; взаимопонимания и взаимного уважения к профессиональным  и личностным качествам колле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специалистов в новой логике взаимодействия; в методологии комплексности и мультидисциплинарности в решении проблем ребенка и его семь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цесса повышения профессиональной компетентности педагог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2017800"/>
          <a:ext cx="8486640" cy="5486400"/>
        </p:xfrm>
        <a:graphic>
          <a:graphicData uri="http://schemas.openxmlformats.org/drawingml/2006/table">
            <a:tbl>
              <a:tblPr/>
              <a:tblGrid>
                <a:gridCol w="585720"/>
                <a:gridCol w="3219480"/>
                <a:gridCol w="2193840"/>
                <a:gridCol w="1609920"/>
                <a:gridCol w="8776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Целев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л-во уч-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психологов и педагогов «Психофизиологические особенности детей дошкольного и школьного возрас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ирование знаний об особенностях детей и подрост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пециалисты ДД и Ю «Факе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социальных педагогов «Формы эффективного слуша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ирование навыков эффективного слуш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ц. педагоги ОУ и ДД и Ю «Факе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«Конфликты в педагогической среде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нформирование о способах выхода из конфликтных ситуаций в системе «Педагог - ребенок», «Педагог - педагог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едагоги школы №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Цель психологического сопровожд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сновной цел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сихологическог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провождения в ДД и Ю «Факел» являет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сихологическая помощь процесс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циализации личности, обеспечивающа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армонизацию отношений ребенка 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ства, развитие творческого потенциал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дагогического и детского коллективо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реждения, выявление перспектив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вития вариативного образ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Сопровождение сопровождающих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взаимодействие с психологами, педагогами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24000" y="1413000"/>
          <a:ext cx="8559720" cy="5456160"/>
        </p:xfrm>
        <a:graphic>
          <a:graphicData uri="http://schemas.openxmlformats.org/drawingml/2006/table">
            <a:tbl>
              <a:tblPr/>
              <a:tblGrid>
                <a:gridCol w="590400"/>
                <a:gridCol w="3246480"/>
                <a:gridCol w="2214360"/>
                <a:gridCol w="1624320"/>
                <a:gridCol w="88416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ая 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уч-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Формирование толерантных отношений среди подростков через развитие навыков эффективного общ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социальных компетен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Модели изменения поведения в деятельности по профилактике ПА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личностных компетен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, работающие в данном направл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Профилактика девиантного поведения и методы работы с девиантными подростками (на основе опыта работы учреждения)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о-ориентированный семинар-тренинг «Роль психолога в профилактической деятельности ОУ» (см.при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своей роли в профилактической деятельности ОУ каждым участником семинара-трен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Формы и методы профилактической работы» (см.при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профессиональной компетент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ормы взаимодействия с образовательными учреждениям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оставление услуг ДД и Ю «Факел» в виде списка предлагаемых мероприятий (образовательные программы, лектории и тренинги для всех целевых групп, консультирование, проведение массовых акци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нирование мероприятий с образовательными учреждениями  в течение г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уществление психологического сопровождения (реализация программ, ведение консультаций, социальное проектирование, психодиагностик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ка результатов и подведение итогов в течение года и  корректировка взаимодейств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екто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дельным направлени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сихологического сопровожд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ется взаимодействие с участникам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ектов, реализуемых ДДиЮ «Факел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ект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кола социального успеха «Переменка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лефон доверия «Берег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ти – детя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Square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Object 5"/>
          <p:cNvGraphicFramePr/>
          <p:nvPr/>
        </p:nvGraphicFramePr>
        <p:xfrm>
          <a:off x="250920" y="404640"/>
          <a:ext cx="889308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04640"/>
                    <a:ext cx="88930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WordArt 6"/>
          <p:cNvSpPr txBox="1"/>
          <p:nvPr/>
        </p:nvSpPr>
        <p:spPr>
          <a:xfrm>
            <a:off x="2843280" y="476280"/>
            <a:ext cx="622440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Социальные проекты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как форма интеграции детей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в образовательную среду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971640" y="2421000"/>
            <a:ext cx="7704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68360" y="3141720"/>
            <a:ext cx="8675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250920" y="5013360"/>
            <a:ext cx="3889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тское объедин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ладшего школьно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зрас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7-10 лет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5" name="Object 10"/>
          <p:cNvGraphicFramePr/>
          <p:nvPr/>
        </p:nvGraphicFramePr>
        <p:xfrm>
          <a:off x="3924360" y="2654280"/>
          <a:ext cx="4761000" cy="420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4360" y="2654280"/>
                    <a:ext cx="476100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11"/>
          <p:cNvSpPr/>
          <p:nvPr/>
        </p:nvSpPr>
        <p:spPr>
          <a:xfrm>
            <a:off x="324000" y="1916280"/>
            <a:ext cx="8424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Школа социального успех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«Переменка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втор–составитель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ординатор проек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кирневская Елена Николае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ШСУ «Переменка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варительные данные показали, чт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52%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школьников вначале работы  имели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повышенный уровень тревожности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сле работы с ними в школе социального успеха «Переменка», при использовании интерактивных, безоценочных методик  - видна положительная динами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бщий уровень тревожност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611280" y="2060640"/>
          <a:ext cx="8053200" cy="45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805320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Психодиагностик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агностика психологических особенностей детей в коллективах ДД и Ю «Факел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педагогов ДД и Ю «Факел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родителей детей, посещающих коллективы учрежд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 Коррекция, психологическое воздействие на развитие индивидуальных особенностей ребёнка через осуществление программ профилактики и психокоррек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. Консультирование. Индивидуальные консультации детей и подростков, их родителей, а также педагогов дополнительного образования по проблемам возрастных и индивидуальных особенностей в развитии ребенк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Просвещ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знакомление учащихся по проблемам общения, развития личности, полового воспит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ирование педагогов по вопросам возрастной психологии, проблемам межличностного общения, развития творческих способностей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ационно-просветительская работа с родителя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Профессиональное взаимодейств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системы запросов на профессиональную деятельность психолога (ее отделение от педагогических, административных и иных обязанностей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единение теоретических основ развития личности с содержанием и организационно-методическими компонентами деятельности субъектов взаимодей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совместной деятельности субъектов взаимодействия с функциональным распределением прав, обязанностей, формированием системы связ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инципы психологического сопровождения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(Казакова Е. И.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уманизм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иентация на максимальные возможности личности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ответствие характера обучения сензитивным периодам жизни ребен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ганизация личностно-ориентированного образова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бота о социальном самочувствии ребен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о–психологическое сопровождение личности и ее самоопределение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стоянный деловой контакт с «большой» наукой и специалистами родственных направлений работы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рганизация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накомство. Установление доверительный отношений. Наблюдение. Бесед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точнение первичного запроса со стороны участников психологического сопровождения (педагоги, дети, родители). Проверка запроса на обоснованность. Работа с «автором» запрос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лановая психодиагностика по согласованию с родителя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сиходиагностика по запросу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рупповая и индивидуальная коррекционно - развивающая работа с ребенк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сихологическая консультация всех участников сопровожд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ационно – просветительское  направление. Родительские собрания. Методические рекомендации. Детско-родительские  групп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4:30:54Z</dcterms:created>
  <dc:creator>user</dc:creator>
  <dc:description/>
  <dc:language>en-US</dc:language>
  <cp:lastModifiedBy>LEGION</cp:lastModifiedBy>
  <dcterms:modified xsi:type="dcterms:W3CDTF">2014-11-12T09:43:13Z</dcterms:modified>
  <cp:revision>14</cp:revision>
  <dc:subject/>
  <dc:title>Слайд 1</dc:title>
</cp:coreProperties>
</file>