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7465-54A9-4D97-BA43-0666C5C67F0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- профессия буду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жно знать, чтобы помочь и предупреди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. Д. Горб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8697-F942-4D72-8C57-B26456A285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9001-13DB-41DE-BECC-7058E46C5F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жности психолога, связанные с космонавт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ач-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веренный 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9388-3C85-4E16-B5D0-0E4B1A04AB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Доверенный психолог</a:t>
            </a:r>
            <a:br>
              <a:rPr sz="1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онавт всегда может поделиться с ним впечатлениями, психологическим состоя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утствует на трениров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блюдает, как ведет себя космона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34DA-7F5C-4FF2-8DAA-3A0B5D2C0D9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сколько психологическая подготовка важна для космонавтов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огромное, так как круг проблем поведения и работоспособности в сложных условиях очень ши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6C72-F35C-467B-BC34-53CEC72B64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психологи помогают космонавтам избежать стресс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ъясняют космонавтам методы психологического самоконтроля, адаптации к стрессовым ситуациям и самокоррекции своего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т использовать силу стресса себе во бла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т брать ситуацию под контроль и принимать взвешенные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FB5CD-D5D7-4990-9805-2481B96CD41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абот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 подготовки космонавтов имени Гагари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 Марс-5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 медико-биологических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83B1-F22B-44A9-8402-A579EC903E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1CB2B-C92D-406B-8438-DDEB954620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требова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я очень редкая, дефицит больш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E9F3-308B-4CD0-AD59-2086A7C8D6D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3FAA-0A54-4FA5-8F47-CD1AAFA0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B63-5651-4D6D-AD22-5380390D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8BB5-2FBA-441A-BD13-2BB2C70B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43A1-B3A3-4AA9-B6C9-C0C1ED86A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BEE3-930E-48CE-BAD9-58369F0A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465D-7993-4873-8D1C-86447B71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5E2E-B471-4AF0-843D-EC616C5E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B002-0D68-42CF-BE26-900205EF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CB52-D6C2-4563-AAB0-D1C1D842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22FF5-0779-4040-9031-BB608928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4FB0-3784-44AE-9975-2363ED68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C3A1-F1CC-4A42-B767-4576DB91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E550-B61B-4C30-A67B-07F929AD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4B73-4159-4CA9-8D54-3C71DDEB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C2A6-6584-41DC-BCA2-5D5B4620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EC3F-E89F-4AFE-882B-ED9D2F7F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B817-6C67-4072-B445-69DA9B21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F30-5A8C-45BF-A2AD-E74E223B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D39-22D4-44B7-99EA-9CEB2D7E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504-65F9-4088-8898-029F9850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DD9D-EE69-45A5-BFE2-B1D3FE74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09C-E9C9-480A-8B96-4EBB3E3E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2152-456C-4AD0-A2F4-CA2ACA28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8525-1BF6-4C6C-9D65-C69280BF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A239-3BB4-48A6-A7FD-0E5E97195FB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EC19-310C-4D13-A0B1-F749E59CC28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Психолог - профессия будущего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7760" y="40381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ажно знать, чтобы помочь и предупредит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Ф. Д. Горб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 rot="1287000">
            <a:off x="2361960" y="2819160"/>
            <a:ext cx="2952720" cy="24206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Должности психолога, связанные с космонавтам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ач-псих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веренный психоло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105520" y="3886200"/>
            <a:ext cx="2571480" cy="200664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2b2b2"/>
                </a:solidFill>
                <a:latin typeface="Arial"/>
              </a:rPr>
              <a:t>Доверенный психолог</a:t>
            </a:r>
            <a:br>
              <a:rPr sz="36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смонавт всегда может поделиться с ним впечатлениями, психологическим состояни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сутствует на тренировк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блюдает, как ведет себя космонав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рач-психолог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 психологические т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следует психическую деятельность человека в условиях подготовки и осуществления космических поле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одит медицинские обследов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Насколько психологическая подготовка важна для космонавтов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777240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ение огромное, так как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уг проблем поведения и работоспособности в сложных условиях очень широк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7039080" y="3733920"/>
            <a:ext cx="1938240" cy="289548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Как психологи помогают космонавтам избежать стресс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ъясняют космонавтам методы психологического самоконтроля, адаптации к стрессовым ситуациям и самокоррекции своего повед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т использовать силу стресса себе во бла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т брать ситуацию под контроль и принимать взвешенные реш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Где работать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тр подготовки космонавтов имени Гагари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ект Марс-50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титут медико-биологических пробле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6248520" y="4800600"/>
            <a:ext cx="2019240" cy="14716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Перспектив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1646280" cy="2057400"/>
          </a:xfrm>
          <a:prstGeom prst="rect">
            <a:avLst/>
          </a:prstGeom>
          <a:ln w="0">
            <a:noFill/>
          </a:ln>
        </p:spPr>
      </p:pic>
      <p:grpSp>
        <p:nvGrpSpPr>
          <p:cNvPr id="131" name="Group 18"/>
          <p:cNvGrpSpPr/>
          <p:nvPr/>
        </p:nvGrpSpPr>
        <p:grpSpPr>
          <a:xfrm>
            <a:off x="838080" y="2133720"/>
            <a:ext cx="7315200" cy="1676160"/>
            <a:chOff x="838080" y="2133720"/>
            <a:chExt cx="7315200" cy="1676160"/>
          </a:xfrm>
        </p:grpSpPr>
        <p:sp>
          <p:nvSpPr>
            <p:cNvPr id="132" name="Rectangle 14"/>
            <p:cNvSpPr/>
            <p:nvPr/>
          </p:nvSpPr>
          <p:spPr>
            <a:xfrm>
              <a:off x="5486400" y="2133720"/>
              <a:ext cx="2666880" cy="167616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Штатный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психолог </a:t>
              </a:r>
              <a:r>
                <a:rPr b="0" lang="ru-RU" sz="2800" spc="-1" strike="noStrike">
                  <a:solidFill>
                    <a:srgbClr val="ffffff"/>
                  </a:solidFill>
                  <a:latin typeface="Arial"/>
                </a:rPr>
                <a:t>(для экспедиций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" name="Group 15"/>
            <p:cNvGrpSpPr/>
            <p:nvPr/>
          </p:nvGrpSpPr>
          <p:grpSpPr>
            <a:xfrm>
              <a:off x="838080" y="2133720"/>
              <a:ext cx="4648320" cy="1676160"/>
              <a:chOff x="838080" y="2133720"/>
              <a:chExt cx="4648320" cy="1676160"/>
            </a:xfrm>
          </p:grpSpPr>
          <p:sp>
            <p:nvSpPr>
              <p:cNvPr id="134" name="Rectangle 16"/>
              <p:cNvSpPr/>
              <p:nvPr/>
            </p:nvSpPr>
            <p:spPr>
              <a:xfrm>
                <a:off x="838080" y="2133720"/>
                <a:ext cx="2971800" cy="1676160"/>
              </a:xfrm>
              <a:prstGeom prst="rect">
                <a:avLst/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ffffff"/>
                    </a:solidFill>
                    <a:latin typeface="Arial"/>
                  </a:rPr>
                  <a:t>Доверенный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ffffff"/>
                    </a:solidFill>
                    <a:latin typeface="Arial"/>
                  </a:rPr>
                  <a:t>психолог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AutoShape 17"/>
              <p:cNvSpPr/>
              <p:nvPr/>
            </p:nvSpPr>
            <p:spPr>
              <a:xfrm>
                <a:off x="3809880" y="2743200"/>
                <a:ext cx="1676520" cy="456840"/>
              </a:xfrm>
              <a:prstGeom prst="rightArrow">
                <a:avLst>
                  <a:gd name="adj1" fmla="val 50000"/>
                  <a:gd name="adj2" fmla="val 91745"/>
                </a:avLst>
              </a:prstGeom>
              <a:solidFill>
                <a:srgbClr val="3399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36" name="Picture 22" descr=""/>
          <p:cNvPicPr/>
          <p:nvPr/>
        </p:nvPicPr>
        <p:blipFill>
          <a:blip r:embed="rId2"/>
          <a:stretch/>
        </p:blipFill>
        <p:spPr>
          <a:xfrm>
            <a:off x="1752480" y="4419720"/>
            <a:ext cx="1517760" cy="20667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Востребованност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фессия очень редкая, дефицит больш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1681200" cy="243828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5T17:18:45Z</dcterms:created>
  <dc:creator>Администратор</dc:creator>
  <dc:description/>
  <dc:language>en-US</dc:language>
  <cp:lastModifiedBy>LEGION</cp:lastModifiedBy>
  <dcterms:modified xsi:type="dcterms:W3CDTF">2014-11-12T10:10:21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